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DEC-DDDB-4768-AE29-87A65A89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74E-F2A2-4418-8C2A-131B3B4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243-ABC2-4CDB-AF73-0099981C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F45-DA4F-4661-B5D1-1D59CE93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8A23-ED20-48FE-A87C-0E4824FE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406B-812B-4F19-8B17-B38E76D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1EA-5414-49B9-B948-72B3473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C01B-434A-4724-8156-E863646A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2F98-F993-485D-94EF-8A4B954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5861-3852-461F-A5DE-028BF00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49C-3701-4AA3-AD03-5B3FF14F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F72-E982-4EC1-8003-4FEC190D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1604-5332-46BB-882F-65099D3C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5AF9-F74C-4A01-902D-12AF30A8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863D-245A-40C0-BCFF-A057DAA2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435-2349-4A0C-8BE1-DA115D97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3F7C-C8D5-462F-9C38-A989E216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376-689C-44E2-A699-7FF158BB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791-20A8-47A4-80B5-493AC1F1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F3F-346C-4E64-9930-91F6ECFE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66E-4935-4A81-8C87-2303C20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4B4-07C0-4691-9CF0-2FBFE852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920-35F8-4040-9AD2-95C39A6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36B-9F8F-4AB1-B567-D1BE418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27E5-60B6-4D97-8DEE-C9ADC1037F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CFB7-DF05-46E1-B81C-815C7FDFDD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canismos de entendimiento intercultural: proceso necesario e inminent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Santiago, Octubre 15  de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ablo Rubio Alm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yud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: Caso chilen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sólo en ámbito redu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y indígena art. 39 literal d) y 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ervado a conflictos dentro de las com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terés por implementarla: fase de e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eritaje antropológico: Una forma privilegiada de aproximación al pluralismo juríd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Conflicto de interlegalidad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un conflicto de interlegalidad ante “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la existencia de una multiplicidad de ordenes normativos susceptibles de reivindicar la calificación de jurídicos y de aplicarse a simultáneamente al comportamiento de un individu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ahoma"/>
              </a:rPr>
              <a:t>Jacques Vanderlinden,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rs une nouvelle conception du pluralisme juridique »,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Revue de la Recherche Juridique - Droit prospectif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, XVIII, 199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Posibles conflic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indígena. (salida al sistema ordi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o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 relevante en principio no es el sujeto, sino el Derecho en que basa sus preten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de comunicabilidad </a:t>
            </a:r>
            <a:r>
              <a:rPr b="1" i="1" lang="es-CR" sz="4000" spc="-1" strike="noStrike">
                <a:solidFill>
                  <a:srgbClr val="ffffcc"/>
                </a:solidFill>
                <a:latin typeface="Tahoma"/>
              </a:rPr>
              <a:t>del 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Derecho Prop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aracterísticas del derecho indíg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sanciones autónom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la uniform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Conocido de pocos (carácter místico/religios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rincipialismo, indeterminación rela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nguaje de formu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ina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oble ciudadanía (indígena/nac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La prueba perici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la opinión emitida en un </a:t>
            </a:r>
            <a:r>
              <a:rPr b="1" i="1" lang="es-CR" sz="3200" spc="-1" strike="noStrike">
                <a:solidFill>
                  <a:srgbClr val="ffffff"/>
                </a:solidFill>
                <a:latin typeface="Tahoma"/>
              </a:rPr>
              <a:t>proces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, por una persona que posee conocimientos especiales en una ciencia o arte, acerca de una circunstancia o hecho relevante para la adecuada revisión de un asu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Un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s la disciplina que por el análisis de los discursos (orales o escritos), practicas y representaciones, estudia los procesos de juridización propios de cada sociedad y se aboca a descubrir las lógicas que los comand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rbert Rouland, Anthropologie Juridique, PUF, 19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del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mite superar el juridismo o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juridism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una especie de finalismo que es sin duda la más difundida de todas las teorías espontáneas de la practica y que consiste en hacer como si las practicas tuvieran por principio la obediencia conciente a reglas consientemente elaboradas y sancionad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aul Bordieu,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Le sens practique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,19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 los efectos nocivos del etnocentrismo (reconoce existencia de otros órdenes normativ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juridismo que amenaza al antropólogo corresponde al riesgo del etnocentrismo que pesa sobre el juris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tienne Le Roy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 jeu des lois, une anthropologie ‘dynamique’ du droit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Objetivo de la prueba pericial antropológ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Busca explicar al tribunal el significado que un determinado hecho tiene en la integralidad de un cultura que le es aje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sther Sánchez Botero, El peritaje antropológico: una forma de conocimiento 199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ntecede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ovimientos so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onocimiento de la multiculturalidad (pueblos/etnias/nacion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epción constitucional del pluralismo jurí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que enfrenta el derecho propio en su recepción 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tnocentr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tiva parcialidad del tribu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do conoc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junto normativo y cultura juríd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46483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21333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er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tropólogo Juríd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9132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676160" cy="1523880"/>
          </a:xfrm>
          <a:prstGeom prst="roundRect">
            <a:avLst>
              <a:gd name="adj" fmla="val 2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"/>
            <a:ext cx="1676520" cy="1676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7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J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" y="5715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Occid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7360" y="56386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Propio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costu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562720"/>
            <a:ext cx="1523880" cy="10666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638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Tahoma"/>
              </a:rPr>
              <a:t>Hecho con relevancia jurí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2209320" y="5714640"/>
            <a:ext cx="1295640" cy="692280"/>
          </a:xfrm>
          <a:prstGeom prst="rightArrow">
            <a:avLst>
              <a:gd name="adj1" fmla="val 50000"/>
              <a:gd name="adj2" fmla="val 467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836400">
            <a:off x="6629400" y="2590560"/>
            <a:ext cx="762120" cy="2438280"/>
          </a:xfrm>
          <a:prstGeom prst="upArrow">
            <a:avLst>
              <a:gd name="adj1" fmla="val 50000"/>
              <a:gd name="adj2" fmla="val 799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29800">
            <a:off x="2133360" y="2438280"/>
            <a:ext cx="761760" cy="2438640"/>
          </a:xfrm>
          <a:prstGeom prst="upArrow">
            <a:avLst>
              <a:gd name="adj1" fmla="val 50000"/>
              <a:gd name="adj2" fmla="val 80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762120"/>
            <a:ext cx="2438280" cy="1218960"/>
          </a:xfrm>
          <a:prstGeom prst="wedgeRectCallout">
            <a:avLst>
              <a:gd name="adj1" fmla="val -83592"/>
              <a:gd name="adj2" fmla="val 100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480"/>
            <a:ext cx="2514600" cy="1219320"/>
          </a:xfrm>
          <a:prstGeom prst="wedgeRectCallout">
            <a:avLst>
              <a:gd name="adj1" fmla="val 81060"/>
              <a:gd name="adj2" fmla="val 162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8380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conocimiento 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pertenece a una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879000">
            <a:off x="1688040" y="3572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9000">
            <a:off x="6411600" y="3648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867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8680" y="8618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Etnocentrism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Juego norma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438280"/>
            <a:ext cx="1371600" cy="757440"/>
          </a:xfrm>
          <a:custGeom>
            <a:avLst/>
            <a:gdLst>
              <a:gd name="textAreaLeft" fmla="*/ 0 w 1371600"/>
              <a:gd name="textAreaRight" fmla="*/ 1371960 w 1371600"/>
              <a:gd name="textAreaTop" fmla="*/ 189360 h 757440"/>
              <a:gd name="textAreaBottom" fmla="*/ 5680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9560" y="26668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847600">
            <a:off x="6667560" y="1866960"/>
            <a:ext cx="914400" cy="1447920"/>
          </a:xfrm>
          <a:prstGeom prst="wedgeEllipseCallout">
            <a:avLst>
              <a:gd name="adj1" fmla="val -30981"/>
              <a:gd name="adj2" fmla="val 1163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847600">
            <a:off x="1797120" y="1784160"/>
            <a:ext cx="982440" cy="1681200"/>
          </a:xfrm>
          <a:prstGeom prst="wedgeEllipseCallout">
            <a:avLst>
              <a:gd name="adj1" fmla="val -68023"/>
              <a:gd name="adj2" fmla="val -758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28600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Equidad proce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86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Conocimiento ple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81280"/>
            <a:ext cx="2361960" cy="914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Resolver libr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Ejes epistemológicos para la aproximación a los derechos indígen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Ver que no v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s sistemas autorregulados son sistemas cerrados desde el punto de vista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Conocimiento empírico y/o conocimiento en construcción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Son? o ¿Son indígenas en devenir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Relativismo y universalismo en confli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 que encaja sobrev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Salvadores mor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Pluralismo y diversidad, empresa  intelectual e impulso pol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  <a:ea typeface="宋体"/>
              </a:rPr>
              <a:t>Esther Sánchez Botero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Construcciones epistemológicas para el conocimiento de los sistemas d derecho propio y de las justicias indígenas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y desventajas del peritaje antropológ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Ventajas.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la democratización de la aplicación del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al juez un espectro mayor de posibilidades de resolución de u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Facilita el dialogo cultural/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superar el juridismo y el etnocentr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autóno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uede confundirse con la defensa de interés indíge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obligatorio (puede ser decretado de oficio o a petición de pa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egulación en Chil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o existe norma expresa, se aplican las reglas generales en materia proba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misión a la costumbre, lo hace procedente. (articulo 54, Ley 192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so civil y penal: situación actual y proy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Juana Catrilaf año 195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rimer referente en Ch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alabras cla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esinato, brujería, machi, fuerza mayor, incultura y debilidad 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sul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xculp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arido golpeador es procesado por la ronda y sancionado en pú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dimiento y sanción atentatorios a la dignidad del sujeto indígena que recurre a a la justicia ordin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itaje: explica/contextualiza los procedimientos y los declara pertinentes cultur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ultado: absolución a los rond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ondas campesinas del Per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tenía amante dentro de su comunidad, sancionado primariamente viola la resolución y reinc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iña entre la esposa y la amante, resultado de muer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¿a quien sancionar? y ¿cóm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oner fuego en dos corazones”. Caso de un guambiano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Concepciones de debido proceso.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Sentencia 189/96, 349/96 TC de Colombi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digenas sancionados conforme a procedimientos internos recurren invocando violacion al debido proceso, con el objeto de incumplir la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De exigir la vigencia de normas rigurosamente idénticas y equivalentes a las nuestras, se seguiría una completa distorsión de lo que el legislador se propuso al erigir el pluralismo jurídico como un principio básico del sistem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Facilitar las relaciones entre sujetos pertenecientes a grupos culturales distintos, poniendo de manifiesto las diversas expresiones culturales, aunque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sin asignar al sujeto facilitador una función activa en el proceso al cuál acced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¿Quiénes cumplen esta función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indígenas (urbanizado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no indígenas con manejo cultu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Característic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el manejo de la lengua pert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buen grado de relaciones intra-comunitar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Ámbito de aplicación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educativo (educación intercultura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de negociación entr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judicial/post-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 ámbito judicial/prejudicial/post-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cobrado mucha relevancia en Chile, sobretodo en material Pe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ción con la reforma al sistema Procesal Penal (acuerdos reparatorios, suspensiones condicionales del proce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operado como un remedio a la inexistencia de mecanismos plurali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uy limitado en sus posi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</a:t>
            </a:r>
            <a:br>
              <a:rPr sz="4000"/>
            </a:b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de los gita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dena por robo a reclusión noctu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Gitanos pueblo nómada, la rea es madre de niños peque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Se argumenta la variable cultural para modificar la medida de cumplimiento alternativa de la p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Se entiende que la carpa es el domicilio válido para cumplir la pena de reclusión nocturna domicili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Se entiende como un recurso profesionalizado que pretende contribuir a una mejor comunicación relación e integración entre personas o grupos presentes en un territorio y pertenecientes a una o varias culturas, mediante la acción de un tercero que colabora para que las partes en conflicto adopten una solución propuesta por ellos mismos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(Desenvolupament Comunitari y Andalucía Acoge, 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olución surgida de las partes e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ayores posibilidades de concreción del acuer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stablece las relaciones entre las partes de modo durad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comprime el sistema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s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mpos de aplicación lim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pende de la voluntad de las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mediador no es completamente neu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e trabaja desde determinados linea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ferencia05</cp:lastModifiedBy>
  <dcterms:modified xsi:type="dcterms:W3CDTF">2008-10-15T16:51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