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2C42-33E3-4923-A9F0-60016847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CC28-D8C6-4A12-912C-3FBEB260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2CF9-D9BF-4278-A07D-D1FEC004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1C24-286E-435A-B76C-B8B0E89A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B4C3-6B4C-471A-B093-4382D262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D0A9-09B2-498F-B267-A55505E2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9C48-8A4C-4CF4-8D10-06C78A90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15C5-65FC-43A9-8705-073C9123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F4FA-AE42-4D24-9AAD-67FEDA2E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16F5-3C2D-4300-B80B-29533CBF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27AC-53BE-44E8-B555-C0760730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4DF3-4357-4171-BD71-0A529A3E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646F-FB38-48CC-B445-809CA9E4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1541-AFDE-43E2-BD0D-8BFC8BF0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DC2E-EA3E-4523-A3EE-30228753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B0B1-D33F-4F80-B6A3-74FFB42F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BC13-7284-4EA9-B848-7CDF52AB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6E0A-5205-4867-8C34-AF0B86D6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0259-50BE-4353-AFF2-6199F96F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437C-AF91-43C2-9FF9-16A2845B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5E9B-2230-43F2-B079-CA36C06D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AE9D-7AF4-4BAC-A899-083F43BB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F6C06-A6D4-48F3-B9DA-B4484AFD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BC5E-AF9E-4F03-A8C5-89B8B9C8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3E14-6D93-4FAD-A279-335749FD16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30D3-8C1B-4811-8E76-061A3E2CD3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Derechos Humanos y Derecho Consuetudinario indígena</a:t>
            </a:r>
            <a:br>
              <a:rPr sz="4800"/>
            </a:br>
            <a:br>
              <a:rPr sz="4800"/>
            </a:b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03/010/08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Los DDHH como límite en el discurso indigenista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ara James Anaya los pueblos indígenas tienen la obligación de organizarse democrática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tavenhagen: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“no deberán ser considerados como derechos humanos aquellos derechos colectivos que violan o disminuyen los derechos individuales de sus miembros (…) pienso específicamente en el caso de la mutilación sexual de las niñas en algunas sociedades africanas”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engoa: “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ostumbre debe aceptarse en la medida que no vulnere los derechos elementales de las personas, la clitorictomía, por ejemplo, u otras prácticas sexuales de esa naturaleza, no pueden ser consideradas derechos culturales protegidos…”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Realidad latinoamericana y DDHH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sigualdad en las relaciones de gé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rganización no democr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eeminencia de la comunidad por sobre el individ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Fundamentos de los DDHH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rechos derivados de la dignidad inherente a la perso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cendente: La Declaración de los Derechos del Hombre y del Ciudadano, del año 1789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aturaleza Humana – iusnaturalismo racionalista: 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Natura est semper sibi consona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(Newto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5448240" y="1959120"/>
            <a:ext cx="243864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Fundamentos de los DDH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n el transcurso de mi vida he visto franceses, italianos, rusos; incluso ahora sé, gracias a Montesquieu, que uno puede ser persa; pero a un “hombre”, debo admitir que jamás he visto” (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de Maistre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Denominador común ético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trata prescindir de los derechos contenidos en las declaraciones internacion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partir de investigaciones antropológicas, sicológicas y sociológicas se podrían encontrar valores compartidos por todas las culturas del planet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Crítica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ume la diversidad cultural sólo de manera superficial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a cultura occidental sería la que evaluaría que valores son dignos de vivirse como univers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supuesto que subyace es antiguo: bajo la piel, si rascamos lo suficiente, somos todos norteamericanos” (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Žižek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5580000" y="1884240"/>
            <a:ext cx="187164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Aplicación de los DDHH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abossi: “el mundo ha cambiado, el fenómeno de los derechos humanos ha tornado anacrónico e irrelevante el fundacionalismo de los derechos humano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orty: “el mejor y probablemente el único argumento para dejar atrás el fundacionalismo es que sería más eficiente hacerl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obbio: “el problema de fondo relativo a los derechos del hombre es hoy no tanto el d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ustificarl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como el d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otegerlos”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El pueblo aymara y la gestión de agua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ltura hídrica: contexto dentro del cual las ideas (plano ideacional), las acciones manifiestas (plano organizacional) y los objetos materiales (plano material/tecnológico), pueden ser descritos en torno a una trama inteligible de significaciones, con las cuales los hombres comunican, perpetúan y desarrollan sus conocimientos y aptitudes frente al recurso hídr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iste una centralización política, lo cual genera autoridades que conducen el proceso mediante un control fuerte pero igualitario de la irrigación por parte de los usuario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Código de Aguas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scripción individual de los derechos de aprovechamiento de agu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unidades de Agua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4648320" y="234648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¿Hermenéutica pluralista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sta hermenéutica pluralista supone una mirada teleológica que apunta a la construcción e un Estado y sociedad pluralistas, con respeto e los pueblos indígenas y otros colectivos, bajo el principio de igual dignidad de los pueblos y culturas, y la equidad en la redistribución de los recursos sociales”. (YRIGOYE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Comunidad Mayagna (Sumo) Awas Tingni.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La Corte realizó una interpretación progresiva del artículo 21.1 de la CADH , ampliando el contenido tradicional del derecho de propiedad –derecho individual- hacia una concepción más afín a las instituciones indígenas, es decir, como un derecho de ejercicio colectivo y con implicaciones culturales particu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Derecho consuetudinario y DDH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Una forma de reconocimiento de los derechos étnicos y culturales es el respeto a las costumbres jurídicas indígenas por parte  de la sociedad nacional y sus aparatos legales y jurídicos. En cambio, una forma de violación de los derechos humanos indígenas es la negación, por parte del Estado y la sociedad dominante, de sus costumbres jurídicas, lo cual conduce a la denegación de algunos de los derechos individuales contenidos en los instrumentos internacionales citados” (Stavenhage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Derechos emancipatori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318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te la contradicción entre el derecho ancestral a la tierra de los pueblos originarios y el derecho a la propiedad privada de un comprador posterior, “el derecho a la tierra de los pueblos indígenas tendría preeminencia sobre otros derechos en juego, dada su vinculación con la supervivencia de su condición de pueblos”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límite de los derechos emancipatorios se encontraría en aquellas prácticas que “lesionan la médula básica del sistema de derechos humanos”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Times New Roman"/>
              </a:rPr>
              <a:t>Corte Constitucional de Colombia</a:t>
            </a:r>
            <a:br>
              <a:rPr sz="2800"/>
            </a:br>
            <a:r>
              <a:rPr b="0" lang="es-MX" sz="2800" spc="-1" strike="noStrike">
                <a:solidFill>
                  <a:srgbClr val="dfdef6"/>
                </a:solidFill>
                <a:latin typeface="Times New Roman"/>
              </a:rPr>
              <a:t>Mínimos constitucionales: Sentencia T 349.</a:t>
            </a:r>
            <a:br>
              <a:rPr sz="28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. 246: "Las autoridades de los pueblos indígenas podrán ejercer funciones jurisdiccionales dentro de su ámbito territorial, de conformidad con sus propias normas y procedimientos, siempre que no sean contrarios a la Constitución y leyes de la repúblic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 bien la Constitución se refiere de manera general a "la Constitución y la ley" como parámetros de restricción, resulta claro que no puede tratarse de todas las normas constitucionales y legales; de lo contrario, el reconocimiento a la diversidad cultural no tendría más que un significado retórico”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Corte Cosntituc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Corte Constitucional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eció que los límites de ejercicio de la jurisdicción indígena, deberían ser “lo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ínimos aceptab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por lo que sólo pueden estar referidos a lo que verdaderamente resulta intolerable por atentar contra los bienes más preciados del hombre (…) A juicio de la Sala, este núcleo de derechos intangibles incluiría solament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derecho a la vida, la prohibición de la esclavitud y la prohibición de la tortura (…)  la legalidad en el procedimiento y, en materia penal, la legalidad de los delitos y de las pen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primer lugar, el reconocimiento de que únicamente respecto de ellos puede predicarse la existencia de un verdader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enso intercultur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En segundo lugar, la verificación de que este grupo de derechos se encuentra dentr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l núcleo de derechos intangibles que reconocen todos los tratados de derechos humano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Aporía y decis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 justicia necesita de la experiencia de la aporía, en tanto experiencia de lo imposible, en tanto momento en que la decisión entre lo justo y lo injusto no está jamás asegurada por una regla; he ahí su diferencia con la justicia del derecho en tanto aplicación de nor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¿Cuál es el canon a aplicar?</a:t>
            </a: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non.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Kanon: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vara” , “caña”; norma que usamos para evalu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¿Existe un canon universal para juzgar en materia de estética o étic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66320" y="836280"/>
            <a:ext cx="75438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 verdadero es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múltiple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, y tú UNA y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UCHAS, MUCHA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; tus axiomas son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absoluto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frente a la vanidad del conocimiento, floreces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por encima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de la verdad y constituyes sollozando, la VERADERA sensación del cosmos” (Pablo de Rokha)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 rosa  es sin por qué; florece porque florece”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(Angelis Silesiu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Canon literari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42560" y="1125000"/>
            <a:ext cx="75438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uando los zulus produzcan un Tolstoi, recién entonces los leeré”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Frase Atribuida a Saul Bel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7400" y="426960"/>
            <a:ext cx="79581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Ley 19.253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t. 4 inc. 2° “se entenderá que la mitad de   los bienes pertenecen al marido y la otra mitad a la mujer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o a todas ellas por iguales, cuando fueren varia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a menos que conste que los terrenos han sido aportados por uno de los cónyug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47560" y="-17640"/>
            <a:ext cx="7956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nador Nicolás Díaz: “poligamia es un término genérico que comprende la poliandria (unión de una mujer con varios hombres), y la poliginia (unión de un varón con varias mujeres). La poliandria es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traria al Derecho Natur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pues impide la educación adecuada de los hijos desde el momento en que hace incierta la paternidad. Tanto la poliandria como la poliginia destruyen la paz y el orden de la familia y son, por lo tanto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trarias,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de este aspect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al Derecho Natur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nador Núñez: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de alguna manera, se está sesgando con una visión que más bien corresponde a la cultura judeocristiana occidental, la cual no tiene por qué aplicarse a pueblos que no la vivieron, y que, aun cuando en ellos hoy exista un proceso de interculturación profundo, todavía mantienen tradiciones que debemos ser capaces de respetar”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dfdef6"/>
                </a:solidFill>
                <a:latin typeface="Times New Roman"/>
              </a:rPr>
              <a:t>Ley 19.253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fdef6"/>
                </a:solidFill>
                <a:latin typeface="Times New Roman"/>
              </a:rPr>
              <a:t>Art. 7: “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El Estado reconoce el derecho de los indígenas a mantener y desarrollar sus propias manifestaciones culturales, </a:t>
            </a:r>
            <a:r>
              <a:rPr b="0" i="1" lang="es-ES" sz="2400" spc="-1" strike="noStrike">
                <a:solidFill>
                  <a:srgbClr val="dfdef6"/>
                </a:solidFill>
                <a:latin typeface="Times New Roman"/>
              </a:rPr>
              <a:t>en todo lo que no se oponga a la moral, a las buenas costumbres y al orden público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Art. 54</a:t>
            </a:r>
            <a:r>
              <a:rPr b="0" lang="es-ES" sz="2400" spc="-1" strike="noStrike">
                <a:solidFill>
                  <a:srgbClr val="dfdef6"/>
                </a:solidFill>
                <a:latin typeface="Arial"/>
              </a:rPr>
              <a:t>: “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La costumbre hecha valer en juicio entre indígenas pertenecientes a una misma etnia, constituirá derecho, </a:t>
            </a:r>
            <a:r>
              <a:rPr b="0" i="1" lang="es-ES" sz="2400" spc="-1" strike="noStrike">
                <a:solidFill>
                  <a:srgbClr val="dfdef6"/>
                </a:solidFill>
                <a:latin typeface="Times New Roman"/>
              </a:rPr>
              <a:t>siempre que no sea incompatible con la Constitución Política de la República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def6"/>
                </a:solidFill>
                <a:latin typeface="Times New Roman"/>
              </a:rPr>
              <a:t>CPR, Art. 19 n°6: “La libertad de conciencia, la manifestación de todas las creencias y el ejercicio libre de todos los cultos que no se opongan a la moral, a las buenas costumbres y al orden públic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Times New Roman"/>
              </a:rPr>
              <a:t>Convenio 169 de la OIT</a:t>
            </a:r>
            <a:br>
              <a:rPr sz="4400"/>
            </a:b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. 8,2: “Dichos pueblos deberán tener el derecho de conservar sus costumbres e instituciones propias,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iempre que éstas no sean incompatibles con los derechos fundamentales definidos por el sistema jurídico nacional ni con los derechos humanos internacionalmente reconocido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t. 34: “Los pueblos indígenas tienen derecho a promover, desarrollar y mantener sus estructuras institucionales y sus propias costumbres, espiritualidad, tradiciones, procedimientos, prácticas y, cuando existan, costumbres o sistemas jurídicos,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de conformidad con las normas internacionales de derechos human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0:17:39Z</dcterms:created>
  <dc:creator>Carmona</dc:creator>
  <dc:description/>
  <dc:language>en-US</dc:language>
  <cp:lastModifiedBy>Carmona</cp:lastModifiedBy>
  <dcterms:modified xsi:type="dcterms:W3CDTF">2008-10-10T14:43:49Z</dcterms:modified>
  <cp:revision>13</cp:revision>
  <dc:subject/>
  <dc:title>La diversidad cultural y las normas morales universales  </dc:title>
</cp:coreProperties>
</file>