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59EB-DA8B-4DD0-92B8-BAE402B8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99B5-E118-4DE5-B653-59E1D335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6480-8619-4FBE-84AE-14E8B504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9FA5-E074-44E5-9F48-A01692B0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3C08-CBFE-46F6-89A6-353FE6EE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9D13-58F1-47EA-ADAA-4A8403A5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D065-8FF0-497B-A510-D118B2FC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4984-672D-40C9-B991-E82C5057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D5DE-C7D2-4E2C-9434-DE4DB251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D637-BAD5-451F-BCAC-AB829305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2918-838C-43B3-9F5D-D037CEB0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DB22-DB9C-4682-AE75-E97C90E2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0FF7-437F-47BD-959F-5638361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5FAC-7EBF-471A-9C5B-1486A555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5427-FEB2-4355-B24F-3AE61E66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B2A4-4903-450F-96E2-F036154C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B03B-2077-4B16-8D82-C533D97F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1353-B515-43B8-9805-EF9A1218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D848-B236-4C4F-BBD6-7499014E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BF15-A6AC-41D1-A2C9-27CA011A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3630-8E3F-40A1-BAEE-938B9606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8CD1-3C19-42E7-8010-C3E2635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5BF4-A71C-4DF1-BC47-0D8FEE1E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E2FB-A778-4165-8229-CC6B8840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F3E-0AE5-42AC-9393-FD102C2A8A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C9F4-73AD-4B4D-8666-67934CF333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Derechos Humanos y Derecho Consuetudinario indígena</a:t>
            </a: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03/010/08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Los DDHH como límite en el discurso indigenist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ara James Anaya los pueblos indígenas tienen la obligación de organizarse democrátic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tavenhagen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“no deberán ser considerados como derechos humanos aquellos derechos colectivos que violan o disminuyen los derechos individuales de sus miembros (…) pienso específicamente en el caso de la mutilación sexual de las niñas en algunas sociedades africanas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goa: “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stumbre debe aceptarse en la medida que no vulnere los derechos elementales de las personas, la clitorictomía, por ejemplo, u otras prácticas sexuales de esa naturaleza, no pueden ser consideradas derechos culturales protegidos…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Realidad latinoamericana y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igualdad en las relaciones de gé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rganización no democr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eminencia de la comunidad por sobre el individ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Fundamentos de los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rechos derivados de la dignidad inherente a la pers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cendente: La Declaración de los Derechos del Hombre y del Ciudadano, del año 1789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 Humana – iusnaturalismo racionalista: 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Natura est semper sibi consona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(Newt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5448240" y="1959120"/>
            <a:ext cx="243864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Fundamentos de los DDH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 el transcurso de mi vida he visto franceses, italianos, rusos; incluso ahora sé, gracias a Montesquieu, que uno puede ser persa; pero a un “hombre”, debo admitir que jamás he visto”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de Maistr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Denominador común ético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trata prescindir de los derechos contenidos en las declaraciones intern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 investigaciones antropológicas, sicológicas y sociológicas se podrían encontrar valores compartidos por todas las culturas del planet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Crítica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ume la diversidad cultural sólo de manera superficia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a cultura occidental sería la que evaluaría que valores son dignos de vivirse como univers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supuesto que subyace es antiguo: bajo la piel, si rascamos lo suficiente, somos todos norteamericanos” (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Žižek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580000" y="1884240"/>
            <a:ext cx="18716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Aplicación de los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abossi: “el mundo ha cambiado, el fenómeno de los derechos humanos ha tornado anacrónico e irrelevante el fundacionalismo de los derechos humano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orty: “el mejor y probablemente el único argumento para dejar atrás el fundacionalismo es que sería más eficiente hacerl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bbio: “el problema de fondo relativo a los derechos del hombre es hoy no tanto el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ustificarl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como el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otegerlos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El pueblo aymara y la gestión de agu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ltura hídrica: contexto dentro del cual las ideas (plano ideacional), las acciones manifiestas (plano organizacional) y los objetos materiales (plano material/tecnológico), pueden ser descritos en torno a una trama inteligible de significaciones, con las cuales los hombres comunican, perpetúan y desarrollan sus conocimientos y aptitudes frente al recurso hídr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ste una centralización política, lo cual genera autoridades que conducen el proceso mediante un control fuerte pero igualitario de la irrigación por parte de los usuari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Código de Aguas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scripción individual de los derechos de aprovechamiento de agu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unidades de Agua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648320" y="234648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¿Hermenéutica pluralista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a hermenéutica pluralista supone una mirada teleológica que apunta a la construcción e un Estado y sociedad pluralistas, con respeto e los pueblos indígenas y otros colectivos, bajo el principio de igual dignidad de los pueblos y culturas, y la equidad en la redistribución de los recursos sociales”. (YRIGOYE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Comunidad Mayagna (Sumo) Awas Tingni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La Corte realizó una interpretación progresiva del artículo 21.1 de la CADH , ampliando el contenido tradicional del derecho de propiedad –derecho individual- hacia una concepción más afín a las instituciones indígenas, es decir, como un derecho de ejercicio colectivo y con implicaciones culturales partic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Derecho consuetudinario y DDH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a forma de reconocimiento de los derechos étnicos y culturales es el respeto a las costumbres jurídicas indígenas por parte  de la sociedad nacional y sus aparatos legales y jurídicos. En cambio, una forma de violación de los derechos humanos indígenas es la negación, por parte del Estado y la sociedad dominante, de sus costumbres jurídicas, lo cual conduce a la denegación de algunos de los derechos individuales contenidos en los instrumentos internacionales citados” (Stavenhag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Derechos emancipatori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31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e la contradicción entre el derecho ancestral a la tierra de los pueblos originarios y el derecho a la propiedad privada de un comprador posterior, “el derecho a la tierra de los pueblos indígenas tendría preeminencia sobre otros derechos en juego, dada su vinculación con la supervivencia de su condición de pueblos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de los derechos emancipatorios se encontraría en aquellas prácticas que “lesionan la médula básica del sistema de derechos humanos”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Times New Roman"/>
              </a:rPr>
              <a:t>Corte Constitucional de Colombia</a:t>
            </a:r>
            <a:br>
              <a:rPr sz="2800"/>
            </a:br>
            <a:r>
              <a:rPr b="0" lang="es-MX" sz="2800" spc="-1" strike="noStrike">
                <a:solidFill>
                  <a:srgbClr val="dfdef6"/>
                </a:solidFill>
                <a:latin typeface="Times New Roman"/>
              </a:rPr>
              <a:t>Mínimos constitucionales: Sentencia T 349.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. 246: "Las autoridades de los pueblos indígenas podrán ejercer funciones jurisdiccionales dentro de su ámbito territorial, de conformidad con sus propias normas y procedimientos, siempre que no sean contrarios a la Constitución y leyes de la repúblic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 bien la Constitución se refiere de manera general a "la Constitución y la ley" como parámetros de restricción, resulta claro que no puede tratarse de todas las normas constitucionales y legales; de lo contrario, el reconocimiento a la diversidad cultural no tendría más que un significado retórico”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Corte Cosntitu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Corte Constitucional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eció que los límites de ejercicio de la jurisdicción indígena, deberían ser “lo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ínimos aceptab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or lo que sólo pueden estar referidos a lo que verdaderamente resulta intolerable por atentar contra los bienes más preciados del hombre (…) A juicio de la Sala, este núcleo de derechos intangibles incluiría solament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derecho a la vida, la prohibición de la esclavitud y la prohibición de la tortura (…)  la legalidad en el procedimiento y, en materia penal, la legalidad de los delitos y de las pen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primer lugar, el reconocimiento de que únicamente respecto de ellos puede predicarse la existencia de un verdader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enso intercultu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En segundo lugar, la verificación de que este grupo de derechos se encuentra dentr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 núcleo de derechos intangibles que reconocen todos los tratados de derechos human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Aporía y dec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justicia necesita de la experiencia de la aporía, en tanto experiencia de lo imposible, en tanto momento en que la decisión entre lo justo y lo injusto no está jamás asegurada por una regla; he ahí su diferencia con la justicia del derecho en tanto aplicación de nor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¿Cuál es el canon a aplicar?</a:t>
            </a: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non.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Kanon: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vara” , “caña”; norma que usamos para evalu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¿Existe un canon universal para juzgar en materia de estética o ét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 verdadero e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múltipl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, y tú UNA y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CHAS, MUCHA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; tus axiomas son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absoluto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frente a la vanidad del conocimiento, florece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por encim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 la verdad y constituyes sollozando, la VERADERA sensación del cosmos” (Pablo de Rokha)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rosa  es sin por qué; florece porque florece”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(Angelis Silesiu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Canon literari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5438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ando los zulus produzcan un Tolstoi, recién entonces los leeré”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Frase Atribuida a Saul Bel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7400" y="426960"/>
            <a:ext cx="79581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ey 19.253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. 4 inc. 2° “se entenderá que la mitad de   los bienes pertenecen al marido y la otra mitad a la mujer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o a todas ellas por iguales, cuando fueren vari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a menos que conste que los terrenos han sido aportados por uno de los cónyug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47560" y="-17640"/>
            <a:ext cx="7956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ador Nicolás Díaz: “poligamia es un término genérico que comprende la poliandria (unión de una mujer con varios hombres), y la poliginia (unión de un varón con varias mujeres). La poliandria e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traria al Derecho Natu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ues impide la educación adecuada de los hijos desde el momento en que hace incierta la paternidad. Tanto la poliandria como la poliginia destruyen la paz y el orden de la familia y son, por lo tant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trarias,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de este aspect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al Derecho Natu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ador Núñez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de alguna manera, se está sesgando con una visión que más bien corresponde a la cultura judeocristiana occidental, la cual no tiene por qué aplicarse a pueblos que no la vivieron, y que, aun cuando en ellos hoy exista un proceso de interculturación profundo, todavía mantienen tradiciones que debemos ser capaces de respetar”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dfdef6"/>
                </a:solidFill>
                <a:latin typeface="Times New Roman"/>
              </a:rPr>
              <a:t>Ley 19.253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fdef6"/>
                </a:solidFill>
                <a:latin typeface="Times New Roman"/>
              </a:rPr>
              <a:t>Art. 7: “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El Estado reconoce el derecho de los indígenas a mantener y desarrollar sus propias manifestaciones culturales, </a:t>
            </a:r>
            <a:r>
              <a:rPr b="0" i="1" lang="es-ES" sz="2400" spc="-1" strike="noStrike">
                <a:solidFill>
                  <a:srgbClr val="dfdef6"/>
                </a:solidFill>
                <a:latin typeface="Times New Roman"/>
              </a:rPr>
              <a:t>en todo lo que no se oponga a la moral, a las buenas costumbres y al orden público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Art. 54</a:t>
            </a:r>
            <a:r>
              <a:rPr b="0" lang="es-ES" sz="2400" spc="-1" strike="noStrike">
                <a:solidFill>
                  <a:srgbClr val="dfdef6"/>
                </a:solidFill>
                <a:latin typeface="Arial"/>
              </a:rPr>
              <a:t>: “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La costumbre hecha valer en juicio entre indígenas pertenecientes a una misma etnia, constituirá derecho, </a:t>
            </a:r>
            <a:r>
              <a:rPr b="0" i="1" lang="es-ES" sz="2400" spc="-1" strike="noStrike">
                <a:solidFill>
                  <a:srgbClr val="dfdef6"/>
                </a:solidFill>
                <a:latin typeface="Times New Roman"/>
              </a:rPr>
              <a:t>siempre que no sea incompatible con la Constitución Política de la República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def6"/>
                </a:solidFill>
                <a:latin typeface="Times New Roman"/>
              </a:rPr>
              <a:t>CPR, Art. 19 n°6: “La libertad de conciencia, la manifestación de todas las creencias y el ejercicio libre de todos los cultos que no se opongan a la moral, a las buenas costumbres y al orden públic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Times New Roman"/>
              </a:rPr>
              <a:t>Convenio 169 de la OIT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. 8,2: “Dichos pueblos deberán tener el derecho de conservar sus costumbres e instituciones propias,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iempre que éstas no sean incompatibles con los derechos fundamentales definidos por el sistema jurídico nacional ni con los derechos humanos internacionalmente reconocid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t. 34: “Los pueblos indígenas tienen derecho a promover, desarrollar y mantener sus estructuras institucionales y sus propias costumbres, espiritualidad, tradiciones, procedimientos, prácticas y, cuando existan, costumbres o sistemas jurídicos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de conformidad con las normas internacionales de derechos human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17:39Z</dcterms:created>
  <dc:creator>Carmona</dc:creator>
  <dc:description/>
  <dc:language>en-US</dc:language>
  <cp:lastModifiedBy>Carmona</cp:lastModifiedBy>
  <dcterms:modified xsi:type="dcterms:W3CDTF">2008-10-10T14:43:49Z</dcterms:modified>
  <cp:revision>13</cp:revision>
  <dc:subject/>
  <dc:title>La diversidad cultural y las normas morales universales  </dc:title>
</cp:coreProperties>
</file>