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985E5A0-5417-4DC1-B3E9-F42CD3BEE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43B908D-2C3A-49A6-A09D-A34168861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493CD0D-6313-4AA6-B875-6E0345D70F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F143DEC-A002-48AC-9758-44B5C9222D9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DBFC1-54F6-40A6-B303-11A3F509C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5D20A-E651-4676-B9A4-E9C2A2D2A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F6DCB-12C6-40BC-A719-5F5C96365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1F0B1-065C-4847-9C50-9C11A4F3A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F5917-37D7-4DFF-B676-74AE7E4E3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CA440-124E-4837-BF13-960FCB976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DDE26-C589-418E-AAA0-0773D8CB3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8E760B9-90D4-434E-8A25-F8FE83401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B89C2-A218-406A-B3F7-89E893DC2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1DF5E-711D-4712-8163-73E563FC7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D0466-AE17-4CD2-917A-85989AAD4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60951-3537-4B2F-B102-D454C69DA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63A5B-01BB-4DCF-B11C-60DBDFEB5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BBCBBC8-6F2B-4CED-81F0-50FCE10F1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563C1DC-5214-46AF-9537-51965492E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A4245CF-FF17-48A9-8215-2C0C05362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59F0B63-15C6-42FB-BE21-CA5B1EA09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CD18224-BB99-47A6-9F2B-8BEE23AA68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6BAE076-8C3D-4E97-AE93-CE13853AF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399D4A6-5122-4B34-B68D-2E6EA5F0BF6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FC6F-892C-472C-98AE-7A9481C4D6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87A1-B632-4CA1-B2D1-27DA87FBB5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dfdef6"/>
                </a:solidFill>
                <a:latin typeface="Times New Roman"/>
              </a:rPr>
              <a:t>Derecho consuetudinario</a:t>
            </a:r>
            <a:br>
              <a:rPr sz="4800"/>
            </a:br>
            <a:endParaRPr b="0" lang="en-US" sz="50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lase 01/10/2008</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fdef6"/>
                </a:solidFill>
                <a:latin typeface="Times New Roman"/>
              </a:rPr>
              <a:t>Formas de estudio</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aboración de normas jurídicas consuetudinarias</a:t>
            </a:r>
            <a:r>
              <a:rPr b="0" lang="es-ES" sz="2800" spc="-1" strike="noStrike">
                <a:solidFill>
                  <a:srgbClr val="ffffff"/>
                </a:solidFill>
                <a:latin typeface="Times New Roman"/>
              </a:rPr>
              <a:t>.</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studio sistemático de casos concretos de conflictos y disputas y su resolució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t>
            </a:r>
            <a:r>
              <a:rPr b="1" lang="es-MX" sz="2400" spc="-1" strike="noStrike">
                <a:solidFill>
                  <a:srgbClr val="ffffff"/>
                </a:solidFill>
                <a:latin typeface="Times New Roman"/>
              </a:rPr>
              <a:t>Es preciso reconocer que el derecho consuetudinario surge en el momento en que las sociedades europeas establecen su dominio colonial sobre pueblos no occidentales y tratan de imponer su propio derecho a los pueblos sometidos”</a:t>
            </a:r>
            <a:r>
              <a:rPr b="1" lang="es-ES" sz="2800" spc="-1" strike="noStrike">
                <a:solidFill>
                  <a:srgbClr val="ffffff"/>
                </a:solidFill>
                <a:latin typeface="Times New Roman"/>
              </a:rPr>
              <a:t> (Stavenhage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 y DDHH</a:t>
            </a:r>
            <a:endParaRPr b="0" lang="en-US" sz="4400" spc="-1" strike="noStrike">
              <a:solidFill>
                <a:srgbClr val="dfdef6"/>
              </a:solidFill>
              <a:latin typeface="Arial"/>
            </a:endParaRPr>
          </a:p>
        </p:txBody>
      </p:sp>
      <p:sp>
        <p:nvSpPr>
          <p:cNvPr id="538" name="PlaceHolder 2"/>
          <p:cNvSpPr>
            <a:spLocks noGrp="1"/>
          </p:cNvSpPr>
          <p:nvPr>
            <p:ph/>
          </p:nvPr>
        </p:nvSpPr>
        <p:spPr>
          <a:xfrm>
            <a:off x="457200" y="1268280"/>
            <a:ext cx="8229600" cy="48657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Una forma de reconocimiento de los derechos étnicos y culturales es el respeto a las costumbres jurídicas indígenas por parte  de la sociedad nacional y sus aparatos legales y jurídicos. En cambio, una forma de violación de los derechos humanos indígenas es la negación, por parte del Estado y la sociedad dominante, de sus costumbres jurídicas, lo cual conduce a la denegación de algunos de los derechos individuales contenidos en los instrumentos internacionales citado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475920"/>
            <a:ext cx="8229600" cy="4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Ámbitos del derecho consuetudinario indígena:</a:t>
            </a:r>
            <a:endParaRPr b="0" lang="en-US" sz="4400" spc="-1" strike="noStrike">
              <a:solidFill>
                <a:srgbClr val="dfdef6"/>
              </a:solidFill>
              <a:latin typeface="Arial"/>
            </a:endParaRPr>
          </a:p>
        </p:txBody>
      </p:sp>
      <p:sp>
        <p:nvSpPr>
          <p:cNvPr id="540" name="PlaceHolder 2"/>
          <p:cNvSpPr>
            <a:spLocks noGrp="1"/>
          </p:cNvSpPr>
          <p:nvPr>
            <p:ph/>
          </p:nvPr>
        </p:nvSpPr>
        <p:spPr>
          <a:xfrm>
            <a:off x="468360" y="1631520"/>
            <a:ext cx="8229600" cy="5226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a la tierra, como propiedad colectiv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ersecución de los delitos o el derecho.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dministración de justici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42" name="PlaceHolder 2"/>
          <p:cNvSpPr>
            <a:spLocks noGrp="1"/>
          </p:cNvSpPr>
          <p:nvPr>
            <p:ph/>
          </p:nvPr>
        </p:nvSpPr>
        <p:spPr>
          <a:xfrm>
            <a:off x="457200" y="549000"/>
            <a:ext cx="8229600" cy="5584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Esther Sánchez Botero</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Justicia y pueblos indígenas de Colombia.</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Derechos propios</a:t>
            </a:r>
            <a:r>
              <a:rPr b="0" lang="es-MX" sz="2400" spc="-1" strike="noStrike">
                <a:solidFill>
                  <a:srgbClr val="ffffff"/>
                </a:solidFill>
                <a:latin typeface="Times New Roman"/>
              </a:rPr>
              <a:t>: sus características son la singularidad y jurisdiccionalidad micro-local y el reconocimiento social a pautas de comportamiento, restricciones y prohibiciones, que aparecen fundidas en instituciones, no necesariamente en correspondencia con aparatos de justicia.</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ánchez Botero, la fuente de los derechos propios o prehispánicos es la religión.</a:t>
            </a:r>
            <a:r>
              <a:rPr b="0"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s propios y religión</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 Destitución de la concepción funcionalista de control social, como expresión represiva de la infracción. </a:t>
            </a:r>
            <a:r>
              <a:rPr b="0" lang="es-MX" sz="2400" spc="-1" strike="noStrike">
                <a:solidFill>
                  <a:srgbClr val="ffffff"/>
                </a:solidFill>
                <a:latin typeface="Times New Roman"/>
              </a:rPr>
              <a:t>La prohibición en las sociedades de origen prehispánico es en términos relacionales: “No es posible encontrar un listado de personas, animales o cosas que sean prohibidos”.</a:t>
            </a:r>
            <a:endParaRPr b="0" lang="en-US" sz="24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Lo que determina a los derechos propios, no es que no estén escritos, ni que los especialistas se roten por temporadas, ni que su origen sea diferente que el del Estado, es más bien que los dispositivos de poder como “etiquetar”, “vigilar”, “medir”, “determinar”, apuntan a no ser explícitos ni obvios, ni a estar necesariamente relacionados con funcionarios especializad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6" name="PlaceHolder 2"/>
          <p:cNvSpPr>
            <a:spLocks noGrp="1"/>
          </p:cNvSpPr>
          <p:nvPr>
            <p:ph/>
          </p:nvPr>
        </p:nvSpPr>
        <p:spPr>
          <a:xfrm>
            <a:off x="457200" y="1484280"/>
            <a:ext cx="8229600" cy="4649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 La prohibición, el daño y la protección como ciframiento que asigna en términos de conducta líneas al pensamiento</a:t>
            </a:r>
            <a:r>
              <a:rPr b="0" lang="es-ES" sz="2000" spc="-1" strike="noStrike">
                <a:solidFill>
                  <a:srgbClr val="ffffff"/>
                </a:solidFill>
                <a:latin typeface="Times New Roman"/>
              </a:rPr>
              <a:t>. </a:t>
            </a:r>
            <a:r>
              <a:rPr b="0" lang="es-MX" sz="2000" spc="-1" strike="noStrike">
                <a:solidFill>
                  <a:srgbClr val="ffffff"/>
                </a:solidFill>
                <a:latin typeface="Times New Roman"/>
              </a:rPr>
              <a:t>mientras en occidente el código legal busca “regular comportamientos”, en las culturas amerindias lo que se observa es un “ciframiento que asigna líneas al pensamiento”.</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 La concepción integrada hombre-naturaleza y la eficacia de su poder.</a:t>
            </a:r>
            <a:r>
              <a:rPr b="0" lang="es-MX" sz="2400" spc="-1" strike="noStrike">
                <a:solidFill>
                  <a:srgbClr val="ffffff"/>
                </a:solidFill>
                <a:latin typeface="Times New Roman"/>
              </a:rPr>
              <a:t> En las culturas amerindias se lee la realidad  en tanto que el hombre forma un todo con la naturaleza, de tal forma que las señales o inicios de armonía y desarmonía, al no ser nada accidental, sirven como medios de control social determin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d) Religión y cuerpo humano: </a:t>
            </a:r>
            <a:r>
              <a:rPr b="0" lang="es-MX" sz="2800" spc="-1" strike="noStrike">
                <a:solidFill>
                  <a:srgbClr val="ffffff"/>
                </a:solidFill>
                <a:latin typeface="Times New Roman"/>
              </a:rPr>
              <a:t>Se refiere a que la transgresión, dentro de este sistema, produce un efecto físico, o más bien sicológico que se somatiza. “la sanción es inmanente y ligada a la transgresión (son reacciones sicosomáticas de origen simbólic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ctura del cuento de Kafka “Ante la ley” como forma de intuir el derecho como pura violencia míticamente encubiert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álisis del texto de las ideas de Benjamin en torno a la violencia como fundadora de derecho.</a:t>
            </a:r>
            <a:endParaRPr b="0" lang="en-US" sz="3200" spc="-1" strike="noStrike">
              <a:solidFill>
                <a:srgbClr val="ffffff"/>
              </a:solidFill>
              <a:latin typeface="Arial"/>
            </a:endParaRPr>
          </a:p>
          <a:p>
            <a:pPr marL="343080" indent="-343080" algn="just">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ncepto de derecho consuetudinario en Stavenhagen.</a:t>
            </a:r>
            <a:endParaRPr b="0" lang="en-US" sz="3200" spc="-1" strike="noStrike">
              <a:solidFill>
                <a:srgbClr val="ffffff"/>
              </a:solidFill>
              <a:latin typeface="Arial"/>
            </a:endParaRPr>
          </a:p>
          <a:p>
            <a:pPr marL="343080" indent="-343080" algn="just">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derecho propios”, según Esther Sánch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e la ley</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aquello que, en el discurso jurídico se convertirá en sujeto de derecho, es antes objeto de este discurso. Únicamente en virtud de ello puede transformarse después en sujeto”</a:t>
            </a:r>
            <a:r>
              <a:rPr b="0" lang="es-ES" sz="2800" spc="-1" strike="noStrike">
                <a:solidFill>
                  <a:srgbClr val="ffffff"/>
                </a:solidFill>
                <a:latin typeface="Times New Roman"/>
              </a:rPr>
              <a:t> (Jan M. Broekman).</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licar el derecho, </a:t>
            </a:r>
            <a:r>
              <a:rPr b="0" i="1" lang="es-MX" sz="2800" spc="-1" strike="noStrike">
                <a:solidFill>
                  <a:srgbClr val="ffffff"/>
                </a:solidFill>
                <a:latin typeface="Times New Roman"/>
              </a:rPr>
              <a:t>to enforce the law</a:t>
            </a:r>
            <a:r>
              <a:rPr b="0" lang="es-MX" sz="2800" spc="-1" strike="noStrike">
                <a:solidFill>
                  <a:srgbClr val="ffffff"/>
                </a:solidFill>
                <a:latin typeface="Times New Roman"/>
              </a:rPr>
              <a:t>, hace siempre referencia a la fuerza que, desde el interior, nos recuerda que el derecho es siempre una fuerza </a:t>
            </a:r>
            <a:r>
              <a:rPr b="0" i="1" lang="es-MX" sz="2800" spc="-1" strike="noStrike">
                <a:solidFill>
                  <a:srgbClr val="ffffff"/>
                </a:solidFill>
                <a:latin typeface="Times New Roman"/>
              </a:rPr>
              <a:t>autorizada</a:t>
            </a:r>
            <a:r>
              <a:rPr b="0" lang="es-MX" sz="2800" spc="-1" strike="noStrike">
                <a:solidFill>
                  <a:srgbClr val="ffffff"/>
                </a:solidFill>
                <a:latin typeface="Times New Roman"/>
              </a:rPr>
              <a:t>, una fuerza que se justifica o que está justificada al aplicarse, incluso si esta justificación puede ser juzgada desde otro lugar, como injusta.</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Violencia autorizada y no autorizada</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Walter Benjamin</a:t>
            </a:r>
            <a:r>
              <a:rPr b="0" lang="es-MX" sz="2400" spc="-1" strike="noStrike">
                <a:solidFill>
                  <a:srgbClr val="ffffff"/>
                </a:solidFill>
                <a:latin typeface="Times New Roman"/>
              </a:rPr>
              <a:t>: se puede clasificar la violencia entre aquella históricamente reconocida y la que carece de dicho reconoci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fines que carecen de reconocimiento legal-histórico pueden ser catalogados de “naturales” y los que sí lo tienen, como de “derecho”.</a:t>
            </a:r>
            <a:r>
              <a:rPr b="0" lang="es-ES" sz="2400" spc="-1" strike="noStrike">
                <a:solidFill>
                  <a:srgbClr val="ffffff"/>
                </a:solidFill>
                <a:latin typeface="Times New Roman"/>
              </a:rPr>
              <a:t> </a:t>
            </a:r>
            <a:endParaRPr b="0" lang="en-US" sz="2400" spc="-1" strike="noStrike">
              <a:solidFill>
                <a:srgbClr val="ffffff"/>
              </a:solidFill>
              <a:latin typeface="Arial"/>
            </a:endParaRPr>
          </a:p>
        </p:txBody>
      </p:sp>
      <p:sp>
        <p:nvSpPr>
          <p:cNvPr id="522"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3" name="" descr=""/>
          <p:cNvPicPr/>
          <p:nvPr/>
        </p:nvPicPr>
        <p:blipFill>
          <a:blip r:embed="rId3"/>
          <a:stretch/>
        </p:blipFill>
        <p:spPr>
          <a:xfrm>
            <a:off x="5599080" y="1844640"/>
            <a:ext cx="256068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Todo fin natural de las personas individuales colisionará necesariamente con fines de derecho, si su satisfacción requiere la utilización, en mayor o menor medida, de la violencia” (Benjamin).</a:t>
            </a:r>
            <a:r>
              <a:rPr b="0" lang="es-ES" sz="3200" spc="-1" strike="noStrike">
                <a:solidFill>
                  <a:srgbClr val="ffffff"/>
                </a:solidFill>
                <a:latin typeface="Times New Roman"/>
              </a:rPr>
              <a:t> </a:t>
            </a:r>
            <a:endParaRPr b="0" lang="en-US" sz="3200" spc="-1" strike="noStrike">
              <a:solidFill>
                <a:srgbClr val="ffffff"/>
              </a:solidFill>
              <a:latin typeface="Arial"/>
            </a:endParaRPr>
          </a:p>
          <a:p>
            <a:pPr marL="343080" indent="-343080" algn="just">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que la violencia, cuando no es aplicada por las correspondientes instancias de derecho, lo pone en peligro, no tanto por los fines que aspira alcanzar, sino por su mera existencia fuera del derecho”</a:t>
            </a:r>
            <a:r>
              <a:rPr b="0" lang="es-ES" sz="3200" spc="-1" strike="noStrike">
                <a:solidFill>
                  <a:srgbClr val="ffffff"/>
                </a:solidFill>
                <a:latin typeface="Arial"/>
              </a:rPr>
              <a:t> </a:t>
            </a:r>
            <a:r>
              <a:rPr b="0" lang="es-ES" sz="3200" spc="-1" strike="noStrike">
                <a:solidFill>
                  <a:srgbClr val="ffffff"/>
                </a:solidFill>
                <a:latin typeface="Times New Roman"/>
              </a:rPr>
              <a:t>(Benjamin).</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l orden tautológico del derecho</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derecho se establece a sí mismo decretando que </a:t>
            </a:r>
            <a:r>
              <a:rPr b="0" i="1" lang="es-MX" sz="2800" spc="-1" strike="noStrike">
                <a:solidFill>
                  <a:srgbClr val="ffffff"/>
                </a:solidFill>
                <a:latin typeface="Times New Roman"/>
              </a:rPr>
              <a:t>es</a:t>
            </a:r>
            <a:r>
              <a:rPr b="0" lang="es-MX" sz="2800" spc="-1" strike="noStrike">
                <a:solidFill>
                  <a:srgbClr val="ffffff"/>
                </a:solidFill>
                <a:latin typeface="Times New Roman"/>
              </a:rPr>
              <a:t> violento, en el sentido fuera-de-la-ley, todo aquello que éste no  recono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Violencia Fundador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De aquí que todas las situaciones revolucionarias justifican el recurso a la violencia alegando la instauración de un nuevo Estado: “Este derecho por venir legitimará retroactivamente, retrospectivamente, la violencia que puede herir el sentimiento de justicia, su futuro anterior la justifica ya” (Derr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Qué tiene de extraño las carniceras batallas y las duras consecuencias de la victoria entre pueblos en que las costumbres, la religión, el idioma, la fisonomía, el color, todo era diverso, todo repugnante y hostil? (…) No acusamos a ninguna nación, sino a la naturaleza del hombre. Los débiles invocan justicia: déseles la fuerza, y serán tan injustos como sus opresores” (</a:t>
            </a:r>
            <a:r>
              <a:rPr b="0" i="1" lang="es-ES_tradnl" sz="3200" spc="-1" strike="noStrike">
                <a:solidFill>
                  <a:srgbClr val="ffffff"/>
                </a:solidFill>
                <a:latin typeface="Times New Roman"/>
              </a:rPr>
              <a:t>Andrés Bello</a:t>
            </a:r>
            <a:r>
              <a:rPr b="0" lang="es-ES_tradnl"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0" name="" descr=""/>
          <p:cNvPicPr/>
          <p:nvPr/>
        </p:nvPicPr>
        <p:blipFill>
          <a:blip r:embed="rId1"/>
          <a:stretch/>
        </p:blipFill>
        <p:spPr>
          <a:xfrm>
            <a:off x="7164360" y="4869000"/>
            <a:ext cx="1200240" cy="128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olfo Stavenhagen (</a:t>
            </a:r>
            <a:r>
              <a:rPr b="1" i="1" lang="es-MX" sz="2800" spc="-1" strike="noStrike">
                <a:solidFill>
                  <a:srgbClr val="ffffff"/>
                </a:solidFill>
                <a:latin typeface="Times New Roman"/>
              </a:rPr>
              <a:t>Derecho Consuetudinario indígena en América Latina</a:t>
            </a:r>
            <a:r>
              <a:rPr b="1" lang="es-MX" sz="2800" spc="-1" strike="noStrike">
                <a:solidFill>
                  <a:srgbClr val="ffffff"/>
                </a:solidFill>
                <a:latin typeface="Times New Roman"/>
              </a:rPr>
              <a:t>)</a:t>
            </a:r>
            <a:r>
              <a:rPr b="0" lang="es-MX" sz="2800" spc="-1" strike="noStrike">
                <a:solidFill>
                  <a:srgbClr val="ffffff"/>
                </a:solidFill>
                <a:latin typeface="Times New Roman"/>
              </a:rPr>
              <a:t>: “Se refiere a un conjunto de normas legales de tipo tradicional, no escritas ni codificadas, distinto del derecho positivo vigente en un país determin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iferencias con el derecho positivo: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tá vinculado con el Estado.</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 autónomo de la socie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dfdef6"/>
                </a:solidFill>
                <a:latin typeface="Times New Roman"/>
              </a:rPr>
              <a:t>Lo jurídico</a:t>
            </a:r>
            <a:r>
              <a:rPr b="0" lang="es-MX" sz="4400" spc="-1" strike="noStrike">
                <a:solidFill>
                  <a:srgbClr val="dfdef6"/>
                </a:solidFill>
                <a:latin typeface="Times New Roman"/>
              </a:rPr>
              <a:t> en sociedades simples</a:t>
            </a:r>
            <a:endParaRPr b="0" lang="en-US" sz="4400" spc="-1" strike="noStrike">
              <a:solidFill>
                <a:srgbClr val="dfdef6"/>
              </a:solidFill>
              <a:latin typeface="Arial"/>
            </a:endParaRPr>
          </a:p>
        </p:txBody>
      </p:sp>
      <p:sp>
        <p:nvSpPr>
          <p:cNvPr id="534" name="PlaceHolder 2"/>
          <p:cNvSpPr>
            <a:spLocks noGrp="1"/>
          </p:cNvSpPr>
          <p:nvPr>
            <p:ph/>
          </p:nvPr>
        </p:nvSpPr>
        <p:spPr>
          <a:xfrm>
            <a:off x="457200" y="1413000"/>
            <a:ext cx="8229600" cy="472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MX" sz="2800" spc="-1" strike="noStrike">
                <a:solidFill>
                  <a:srgbClr val="ffffff"/>
                </a:solidFill>
                <a:latin typeface="Times New Roman"/>
              </a:rPr>
              <a:t>Normas generales de comportamiento públic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tenimiento de orden intern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el acceso y distribución de los recursos escas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transmisión e intercambio de bienes y servicios (herencia, trabaj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y tipificación de deli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Sanción a la conducta delictiva de los individu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ejo control y solución de conflictos y disput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de los cargos y las funciones de la autoridad públi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4:26:07Z</dcterms:created>
  <dc:creator>Carmona</dc:creator>
  <dc:description/>
  <dc:language>en-US</dc:language>
  <cp:lastModifiedBy>Carmona</cp:lastModifiedBy>
  <dcterms:modified xsi:type="dcterms:W3CDTF">2008-10-10T14:33:24Z</dcterms:modified>
  <cp:revision>5</cp:revision>
  <dc:subject/>
  <dc:title>La violencia como derecho: los conflictos de interlegalidad </dc:title>
</cp:coreProperties>
</file>