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ADD00B8B-5A86-43AE-90E8-0FA7352356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096C99C-B4BF-4A09-8D10-DC17210CDF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D60AD6CD-7EBB-4444-BB53-31783070542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0A8252C1-5A00-4D97-A766-79E04678690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D621BB-EA84-49AD-80C2-0DD642C76E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759F35-9F74-4F73-9A3A-8BFAF704DB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F08E56-3BE4-4522-8E03-56D70EDB4E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914EAF-8278-4189-8E76-1E9481AEBE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48A34E-253E-4E89-A265-754631EDFA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7A7A1C-FC76-47F5-B9D9-37F170D731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047A4-E810-4644-9A0A-5F09BCCBF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909C6275-EBC5-40A4-AF7F-B566C92171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9CD53-D754-41A7-AE1E-B34D0FA85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3F7497-2E27-4183-8D7F-259DA876A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2FCF73-2E69-49FD-A86B-52BF538A7B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0C0C79-E6C0-4A7F-8482-A2D7D40518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E68675-E88F-441E-B5DF-F6648F4C58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2AF11BAB-C78C-4D10-99AA-85F8226027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6BBA2203-2019-46D1-81DD-20446C4F5F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21B58F3-3952-401F-8CFA-4D92FECCAF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8595A99D-A581-426B-B224-D39267C6D7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A85E4ED-A599-40CA-A001-42409B4B44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6F435EC-0E8E-4415-862D-2053B230E7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DBD2399-E7AB-4AFD-B23D-F70DD5378B8F}"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EB207-54D8-49FD-9A3E-FC6722651DD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6161F-EEB2-44F3-A10B-1F2E8A641D4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dfdef6"/>
                </a:solidFill>
                <a:latin typeface="Arial"/>
              </a:rPr>
              <a:t>Antropología jurídica</a:t>
            </a:r>
            <a:endParaRPr b="0" lang="en-US" sz="54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26/09/08</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dfdef6"/>
                </a:solidFill>
                <a:latin typeface="Times New Roman"/>
              </a:rPr>
              <a:t>Antropología jurídica y medicina legal</a:t>
            </a:r>
            <a:endParaRPr b="0" lang="en-US" sz="4000" spc="-1" strike="noStrike">
              <a:solidFill>
                <a:srgbClr val="dfdef6"/>
              </a:solidFill>
              <a:latin typeface="Arial"/>
            </a:endParaRPr>
          </a:p>
        </p:txBody>
      </p:sp>
      <p:sp>
        <p:nvSpPr>
          <p:cNvPr id="53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La Antropología criminal no es más que la Antropología relativa al Derecho penal, una simple división de la Antropología jurídica. No comprende sólo la Antropología de los criminales, sino todas las nociones antropológicas, susceptibles de ilustrar, la legislación y la administración penales, así como los procesos crimina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dfdef6"/>
                </a:solidFill>
                <a:latin typeface="Times New Roman"/>
              </a:rPr>
              <a:t>Antropología y derecho en la actualidad</a:t>
            </a:r>
            <a:endParaRPr b="0" lang="en-US" sz="4000" spc="-1" strike="noStrike">
              <a:solidFill>
                <a:srgbClr val="dfdef6"/>
              </a:solidFill>
              <a:latin typeface="Arial"/>
            </a:endParaRPr>
          </a:p>
        </p:txBody>
      </p:sp>
      <p:sp>
        <p:nvSpPr>
          <p:cNvPr id="53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dfdef6"/>
                </a:solidFill>
                <a:latin typeface="Times New Roman"/>
              </a:rPr>
              <a:t>Balandier</a:t>
            </a:r>
            <a:r>
              <a:rPr b="0" lang="es-MX" sz="3200" spc="-1" strike="noStrike">
                <a:solidFill>
                  <a:srgbClr val="ffffff"/>
                </a:solidFill>
                <a:latin typeface="Times New Roman"/>
              </a:rPr>
              <a:t>: distinguir por un lado, una antropología como discurso pensado y elaborado como una reflexión occidental sobre lo de fuera, y por otro, una antropología que, al mirar hacia dentro, le da historicidad, contingencia y relatividad a los discursos y presupuestos jurídico-antropológicos de Occide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Antropología </a:t>
            </a:r>
            <a:r>
              <a:rPr b="0" i="1" lang="es-MX" sz="4400" spc="-1" strike="noStrike">
                <a:solidFill>
                  <a:srgbClr val="dfdef6"/>
                </a:solidFill>
                <a:latin typeface="Times New Roman"/>
              </a:rPr>
              <a:t>hacia afuera</a:t>
            </a:r>
            <a:endParaRPr b="0" lang="en-US" sz="4400" spc="-1" strike="noStrike">
              <a:solidFill>
                <a:srgbClr val="dfdef6"/>
              </a:solidFill>
              <a:latin typeface="Arial"/>
            </a:endParaRPr>
          </a:p>
        </p:txBody>
      </p:sp>
      <p:sp>
        <p:nvSpPr>
          <p:cNvPr id="53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t>
            </a:r>
            <a:r>
              <a:rPr b="0" lang="es-MX" sz="3200" spc="-1" strike="noStrike">
                <a:solidFill>
                  <a:srgbClr val="ffffff"/>
                </a:solidFill>
                <a:latin typeface="Times New Roman"/>
              </a:rPr>
              <a:t>Al recibir el reconocimiento del Estado, el derecho indígena pasa a ser objeto de estudio de una orientación jurídica dogmática. Y la antropología jurídica, analizando y documentando el derecho indígena, alcanza una función paralela a la de las disciplinas jurídicas convencionales” (Kuppe y Pot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Antropología </a:t>
            </a:r>
            <a:r>
              <a:rPr b="0" i="1" lang="es-MX" sz="4400" spc="-1" strike="noStrike">
                <a:solidFill>
                  <a:srgbClr val="dfdef6"/>
                </a:solidFill>
                <a:latin typeface="Times New Roman"/>
              </a:rPr>
              <a:t>hacia adentro</a:t>
            </a:r>
            <a:endParaRPr b="0" lang="en-US" sz="4400" spc="-1" strike="noStrike">
              <a:solidFill>
                <a:srgbClr val="dfdef6"/>
              </a:solidFill>
              <a:latin typeface="Arial"/>
            </a:endParaRPr>
          </a:p>
        </p:txBody>
      </p:sp>
      <p:sp>
        <p:nvSpPr>
          <p:cNvPr id="53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La etnología como ciencia nació con la experiencia del descentramiento: en el momento en que la cultura europea -y por consiguiente la historia de la metafísica y de sus conceptos- fue dislocada, expulsada de su lugar, teniendo entonces que dejar de considerarse como cultura de referencia. (Derrid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Esquema clase</a:t>
            </a:r>
            <a:endParaRPr b="0" lang="en-US" sz="4400" spc="-1" strike="noStrike">
              <a:solidFill>
                <a:srgbClr val="dfdef6"/>
              </a:solidFill>
              <a:latin typeface="Arial"/>
            </a:endParaRPr>
          </a:p>
        </p:txBody>
      </p:sp>
      <p:sp>
        <p:nvSpPr>
          <p:cNvPr id="51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Lectura dirigida del texto de Borges “El informe de Brodie”, en torno a la cuestión de la comprensión y aprehensión occidental  de otras culturas.</a:t>
            </a:r>
            <a:endParaRPr b="0" lang="en-US" sz="2800" spc="-1" strike="noStrike">
              <a:solidFill>
                <a:srgbClr val="ffffff"/>
              </a:solidFill>
              <a:latin typeface="Arial"/>
            </a:endParaRPr>
          </a:p>
          <a:p>
            <a:pPr marL="343080" indent="-343080" algn="just">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Análisis de los orígenes de la antropología jurídica, según la biografía teórica de Sir Henry Maine: la antropología jurídica como instrumento al servicio de la dominación colonial.</a:t>
            </a:r>
            <a:endParaRPr b="0" lang="en-US" sz="2800" spc="-1" strike="noStrike">
              <a:solidFill>
                <a:srgbClr val="ffffff"/>
              </a:solidFill>
              <a:latin typeface="Arial"/>
            </a:endParaRPr>
          </a:p>
          <a:p>
            <a:pPr marL="343080" indent="-343080" algn="just">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Breve referencia al concepto de antropología jurídica en el contexto criminal.</a:t>
            </a:r>
            <a:endParaRPr b="0" lang="en-US" sz="2800" spc="-1" strike="noStrike">
              <a:solidFill>
                <a:srgbClr val="ffffff"/>
              </a:solidFill>
              <a:latin typeface="Arial"/>
            </a:endParaRPr>
          </a:p>
          <a:p>
            <a:pPr marL="343080" indent="-343080" algn="just">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Nuevas formas de interpretación de la antropología jurídica: recursividad y conocimiento del otr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Antropología como ciencia</a:t>
            </a:r>
            <a:endParaRPr b="0" lang="en-US" sz="4400" spc="-1" strike="noStrike">
              <a:solidFill>
                <a:srgbClr val="dfdef6"/>
              </a:solidFill>
              <a:latin typeface="Arial"/>
            </a:endParaRPr>
          </a:p>
        </p:txBody>
      </p:sp>
      <p:sp>
        <p:nvSpPr>
          <p:cNvPr id="51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a perspectiva antropológica se estableció desde un principio en torno a la figura del “otro”: la experiencia de la alteridad cultural, la existencia de grupos humanos disímiles a aquél que actuaba como centro, constituyeron el enfoque de esta ciencia.</a:t>
            </a:r>
            <a:endParaRPr b="0" lang="en-US" sz="3200" spc="-1" strike="noStrike">
              <a:solidFill>
                <a:srgbClr val="ffffff"/>
              </a:solidFill>
              <a:latin typeface="Arial"/>
            </a:endParaRPr>
          </a:p>
          <a:p>
            <a:pPr marL="343080" indent="-343080" algn="just">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n un principio se enfocó como una rama de los estudios jurídicos.</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dfdef6"/>
                </a:solidFill>
                <a:latin typeface="Times New Roman"/>
              </a:rPr>
              <a:t>Sir Henry S. Maine y el evolucionismo legal</a:t>
            </a:r>
            <a:endParaRPr b="0" lang="en-US" sz="4000" spc="-1" strike="noStrike">
              <a:solidFill>
                <a:srgbClr val="dfdef6"/>
              </a:solidFill>
              <a:latin typeface="Arial"/>
            </a:endParaRPr>
          </a:p>
        </p:txBody>
      </p:sp>
      <p:sp>
        <p:nvSpPr>
          <p:cNvPr id="52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Representante de </a:t>
            </a:r>
            <a:r>
              <a:rPr b="0" lang="es-ES_tradnl" sz="2800" spc="-1" strike="noStrike">
                <a:solidFill>
                  <a:srgbClr val="ffffff"/>
                </a:solidFill>
                <a:latin typeface="Times New Roman"/>
              </a:rPr>
              <a:t>“escuela histórica” </a:t>
            </a:r>
            <a:r>
              <a:rPr b="0" lang="es-ES" sz="2800" spc="-1" strike="noStrike">
                <a:solidFill>
                  <a:srgbClr val="ffffff"/>
                </a:solidFill>
                <a:latin typeface="Times New Roman"/>
              </a:rPr>
              <a:t>de Friedrich Karl von Savigny: el derecho no era una creación intencional del soberano, sino una noción que había evolucionado desde el espíritu común de un pueblo (</a:t>
            </a:r>
            <a:r>
              <a:rPr b="0" i="1" lang="es-ES" sz="2800" spc="-1" strike="noStrike">
                <a:solidFill>
                  <a:srgbClr val="ffffff"/>
                </a:solidFill>
                <a:latin typeface="Times New Roman"/>
              </a:rPr>
              <a:t>volkgeist</a:t>
            </a:r>
            <a:r>
              <a:rPr b="0" lang="es-ES" sz="2800" spc="-1" strike="noStrike">
                <a:solidFill>
                  <a:srgbClr val="ffffff"/>
                </a:solidFill>
                <a:latin typeface="Times New Roman"/>
              </a:rPr>
              <a:t>).</a:t>
            </a:r>
            <a:r>
              <a:rPr b="0" lang="es-ES" sz="2800" spc="-1" strike="noStrike">
                <a:solidFill>
                  <a:srgbClr val="ffffff"/>
                </a:solidFill>
                <a:latin typeface="Arial"/>
              </a:rPr>
              <a:t> </a:t>
            </a:r>
            <a:endParaRPr b="0" lang="en-US" sz="2800" spc="-1" strike="noStrike">
              <a:solidFill>
                <a:srgbClr val="ffffff"/>
              </a:solidFill>
              <a:latin typeface="Arial"/>
            </a:endParaRPr>
          </a:p>
          <a:p>
            <a:pPr marL="343080" indent="-343080" algn="just">
              <a:lnSpc>
                <a:spcPct val="10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Maine, a</a:t>
            </a:r>
            <a:r>
              <a:rPr b="0" lang="es-ES" sz="2800" spc="-1" strike="noStrike">
                <a:solidFill>
                  <a:srgbClr val="ffffff"/>
                </a:solidFill>
                <a:latin typeface="Times New Roman"/>
              </a:rPr>
              <a:t> diferencia, por ejemplo, de su contemporáneo John Austin, buscó las bases para una nueva “ciencia” del derecho, no en un análisis conceptual, racional y sistemático, sino en una “ciencia históric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Ancient Law</a:t>
            </a:r>
            <a:endParaRPr b="0" lang="en-US" sz="4400" spc="-1" strike="noStrike">
              <a:solidFill>
                <a:srgbClr val="dfdef6"/>
              </a:solidFill>
              <a:latin typeface="Arial"/>
            </a:endParaRPr>
          </a:p>
        </p:txBody>
      </p:sp>
      <p:sp>
        <p:nvSpPr>
          <p:cNvPr id="52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Publicado quince meses después que el Origin of the species de Darwin , su objeto principal era, en palabras del propio Maine, “indicar algunas ideas primitivas del género humano, tales como las refleja el antiguo derecho, y mostrar la relación que las une con el pensamiento modern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Evolución social</a:t>
            </a:r>
            <a:endParaRPr b="0" lang="en-US" sz="4400" spc="-1" strike="noStrike">
              <a:solidFill>
                <a:srgbClr val="dfdef6"/>
              </a:solidFill>
              <a:latin typeface="Arial"/>
            </a:endParaRPr>
          </a:p>
        </p:txBody>
      </p:sp>
      <p:sp>
        <p:nvSpPr>
          <p:cNvPr id="52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Las sociedades evolucionaban de manera lineal, aunque no de forma inexorable, pues en la marcha del progreso algunas sociedades se estancarían, dando origen a una división entre sociedades estacionarias y progresiva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l movimiento de las sociedades progresivas ha sido uniforme en un sentido: el de la disolución gradual de la dependencia de la familia, reemplazada poco a poco por obligaciones individuales. El individuo se ha ido constantemente sustituyendo a la familia como la unidad social del derecho civil (…) podemos decir que el movimiento de las sociedades progresivas hasta el presente ha consistido en pasar </a:t>
            </a:r>
            <a:r>
              <a:rPr b="0" i="1" lang="es-ES" sz="2400" spc="-1" strike="noStrike">
                <a:solidFill>
                  <a:srgbClr val="ffffff"/>
                </a:solidFill>
                <a:latin typeface="Times New Roman"/>
              </a:rPr>
              <a:t>del estado al contra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Dominación colonial</a:t>
            </a:r>
            <a:endParaRPr b="0" lang="en-US" sz="4400" spc="-1" strike="noStrike">
              <a:solidFill>
                <a:srgbClr val="dfdef6"/>
              </a:solidFill>
              <a:latin typeface="Arial"/>
            </a:endParaRPr>
          </a:p>
        </p:txBody>
      </p:sp>
      <p:sp>
        <p:nvSpPr>
          <p:cNvPr id="52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Cualquiera que sea la naturaleza o valor de aquel conjunto de influencias que llamamos Progreso, nada puede ser más cierto que, cuando una sociedad es tocada por ella, se expande como un contagio (…) Y es esta idea de progreso la que nosotros los ingleses le estamos comunicando a India. No la hemos creado (…) pero la hemos recibido; y, de la misma forma, la traspasamos. No hay razón para que, si se le da el tiempo suficiente, desarrolle en India efectos tan maravillosos como en cualquier otra sociedad del mund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Evolución unilineal</a:t>
            </a:r>
            <a:endParaRPr b="0" lang="en-US" sz="4400" spc="-1" strike="noStrike">
              <a:solidFill>
                <a:srgbClr val="dfdef6"/>
              </a:solidFill>
              <a:latin typeface="Arial"/>
            </a:endParaRPr>
          </a:p>
        </p:txBody>
      </p:sp>
      <p:sp>
        <p:nvSpPr>
          <p:cNvPr id="5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 pesar de que Maine expresamente contradice las ideas de Austin y Bentham, a su juicio, éstas –y las instituciones jurídicas inglesas en ellas fundadas- representarían la culminación del progreso del derecho: sus componentes “concuerdan exactamente con los hechos cuando se trata de una jurisprudencia llegada á la madurez”, y cuanto más nos adentramos en la historia primitiva del pensamiento, más lejos nos vemos de esta concepción del derecho</a:t>
            </a:r>
            <a:r>
              <a:rPr b="0" lang="es-ES" sz="2800" spc="-1" strike="noStrike">
                <a:solidFill>
                  <a:srgbClr val="ffffff"/>
                </a:solidFill>
                <a:latin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Antropología jurídica y progreso</a:t>
            </a:r>
            <a:endParaRPr b="0" lang="en-US" sz="4400" spc="-1" strike="noStrike">
              <a:solidFill>
                <a:srgbClr val="dfdef6"/>
              </a:solidFill>
              <a:latin typeface="Arial"/>
            </a:endParaRPr>
          </a:p>
        </p:txBody>
      </p:sp>
      <p:sp>
        <p:nvSpPr>
          <p:cNvPr id="53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L. H. Morgan refiriéndose acerca del “período de infancia de la existencia del hombre”:</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a:t>
            </a:r>
            <a:r>
              <a:rPr b="0" lang="es-MX" sz="2800" spc="-1" strike="noStrike">
                <a:solidFill>
                  <a:srgbClr val="ffffff"/>
                </a:solidFill>
                <a:latin typeface="Times New Roman"/>
              </a:rPr>
              <a:t>En una condición tan absolutamente primigenia, el hombre aparece, no sólo como un niño en la escala de la humanidad, sino también poseedor de un cerebro en el que ni un solo destello o concepto traducido por estas instituciones, invenciones y descubrimientos ha penetrado; en una palabra, se halla al pie de la escala, pero potencialmente, es todo lo que ha llegado a ser despué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6T15:39:01Z</dcterms:created>
  <dc:creator>Carmona</dc:creator>
  <dc:description/>
  <dc:language>en-US</dc:language>
  <cp:lastModifiedBy>Carmona</cp:lastModifiedBy>
  <dcterms:modified xsi:type="dcterms:W3CDTF">2008-10-10T14:25:09Z</dcterms:modified>
  <cp:revision>3</cp:revision>
  <dc:subject/>
  <dc:title>Slide 1</dc:title>
</cp:coreProperties>
</file>