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C797-E3B9-4CAB-B664-03BFC6DA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8F59-895D-4BFE-9608-A2874D3C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634-5121-4AE7-AEBD-FDE9FBD8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EEE3-CA0D-4EA7-B43E-271011F8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4A50-BFDA-401A-A801-399B8C40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7B86-784E-4F0E-AB37-AD218209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4332-9EC3-4640-994D-807E604D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3341-71F9-4E3E-9F25-18DE4216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E1B7-7578-49E5-938B-AD2B2AD4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B3B1-739B-486E-9330-E0BB9767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3DCF-CAF0-454A-9543-9B757E99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E56-6DE2-4EAD-BA4C-B2DB8FAC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C641-D461-458F-A872-35ED6020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4425-C267-4B82-983F-6C8ABF0E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3042-77A3-4211-8867-6DDD2060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5F8F-2151-4733-BEEA-C24C045E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67F6-63E4-47EB-973B-2D3DD66F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7A8-0ED5-4CFE-8B6B-C0327BEF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F15B-ADFC-41B7-9296-7EBF1ACD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FD57-4E9A-4102-AF18-9AC3665E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2517-6A2E-4F38-A96C-C3BF0C9D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2DAD-656E-4CE0-99BC-9E0C05BD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F624-B9CD-44DE-9222-0AE113F2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DF73-6FC8-48E2-A657-3C8D7390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303E-713B-4240-B6BD-8A8E79201D1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F319-CEED-4441-BD66-328B6FFFE35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INTRODUCCIÓN AL DERECHO II</a:t>
            </a:r>
            <a:br>
              <a:rPr sz="3200"/>
            </a:b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_____________________________________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Prof. Miguel González Le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Universidad de Chile - Facultad de Derec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Segundo Semestre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r y argumentar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Acepción restringida de razon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=  discurr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Acepción amplia de razon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=  argumen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Argument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municar o aducir raz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Acción de razonar (discurri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fecto de razonar (dar razone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378936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Clasificación o tipos de razonamiento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 teóric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Razonamiento demostr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Ámbito 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 práctic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Razonamiento justific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Ámbito de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r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xplicar o declarar el sentido o significado de alg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Acción de interpre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Resultado de la actividad interpret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 del derech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xplicar o declarar el sentido de la realidad juríd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 de normas jurídica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stitución, leyes, tratados internacionales, decreto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rmas consuetudinarias, sentencias judiciale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ctos jurídico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i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 de otros estándares jurídico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incipios y val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Clasificación o tipos de interpret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Sentido amplísim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Sentido ampl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) Sentido estric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.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1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Interpretación teó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.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) Interpretación oper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RAZON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Razonamiento práctico             Razonamiento teór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azonamiento jurídico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Argumentación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azonamiento juríd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(Jueces, Legisladores)                                     (Jurist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terpretación jurídica                  Interpretación juríd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(operativa)                                              (teóri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___________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Razonamiento &gt; Razonamiento jco. = Argumentación jca. &gt; Interpretación jc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123640" y="1989000"/>
            <a:ext cx="2303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27640" y="1989000"/>
            <a:ext cx="2232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2852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32720" y="2852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422100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22100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407664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Distintas sedes en las que tiene lugar el razonamiento jurídico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1. Judica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2. Legisl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3. Juris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4. Abog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5. Otros operadores juríd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 judi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ercicio de la función jurisdic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e efectúa sobre la base de normas jurídicas y otros estándares juríd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de tip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tapas del razonamiento judici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) Discurrir razones en torno al ca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) Resultado de la acción de razon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stricciones del razonamiento judici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) Recinto institucional predetermin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) Procedimiento delimi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i) Marco tempo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v) Punto final o de término: decisión del jue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esencialmente deciso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inexcusab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Obligación de fundar las decis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cidir no es sinónimo de argumen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Tipos de razon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ones explic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Motivo o causa de la dec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ones justific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lausibilidad o razón de la dec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cisiones judiciales                 explicadas y justificad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5516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INTRODUCCIÓ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. El derecho como práctica argument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. Justificación de la argumentación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III. Distinción conceptual: razonar, argumentar e interpre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IV. Ámbitos o contextos del razonamiento juríd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Legisla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stificación de sus decisiones normativas: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de tip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termina la racionalidad en la aplicación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Ámbito de la producción de normas jurídic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Fase prelegislativ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Fuentes materiales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Fase legislativ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ocedimiento de formación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Juris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abor de la dogmática jurídica o cienci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jurídico teór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Observador de la realidad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fectos e incidencia en la práctica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nciones de la dogmática (Atienza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1) Suministra criterios para la producc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2) Suministra criterios para la aplicac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3) Ordena y sistematiza un sector del ordenamiento j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Abog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nciones ejercicio profesion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ositiva construc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Negativa defens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de tip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supeditado a los intereses y expectativas de un cli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cisión ventajosa antes que plausible o correc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Otros operadores juríd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ncionarios de la Administración d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Tribunal Co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ontraloría General de la Repúbl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Ministerio Público y Defensoría Penal Públi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rección del Trabaj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Municipal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Mediadores, árbitr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EL DERECHO COMO PRÁCTICA ARGUMENTATIV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nfoques sobre el derecho (Atienza, pp. 19-26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. Enfoque estruc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. Enfoque soci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3. Enfoque valor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4. Enfoque argument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EL DERECHO COMO PRÁCTICA ARGUMENTATIV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es del enfoque argumentativo del derech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ón dogmát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Teorías del sistema jurídico: visión estruc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Aspectos funcionales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) Práctica jurídica: procedimientos discurs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) Lenguaje en acción: persuadir y convenc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i) Visión dinámica: derecho en movi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EL DERECHO COMO PRÁCTICA ARGUMENTATIV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2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ón metodológ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Sustento teórico de la práctica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otenciar capacidades argumentativ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3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ón político-i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stificación de las decisiones públ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Razonabilidad de las justifica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Socialización de las decis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JUSTIFICACIÓN DE LA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ARGUMENTACIÓN JURÍDIC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entes de justificación de las decision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) Apelar a la autor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) Apelar al procedi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) Apelar al conteni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stificación de las decisiones en un Estado Constitucional y Democrático de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Dimensión form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Dimensión sustan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JUSTIFICACIÓN DE LA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ARGUMENTACIÓN JURÍDIC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Necesidad de Fundar las Sentencias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 (A. Bell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forma radical en la judica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Jueces deben fundar siempre sus decis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) Principio republicano esencial: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esponsabilidad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i) Garantía de una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ecta administración de justicia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dea central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los planteamientos de Bello para la judicatura, son extrapolables a la función pública desarrollada por todos los órganos y autoridades estat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JUSTIFICACIÓN DE LA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ARGUMENTACIÓN JURÍDIC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Ventajas colaterales de la fundamentación y socialización de las sentencias (pp. 114-115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1. Institucionaliza la interpretación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Promueve la coherencia interna de la judica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. Propaga y generaliza el conocimiento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4. Eleva a la jurisprudencia a la categoría de ci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5. Posibilita el orden y la coherencia en el sistema leg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ón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Capacidad de producir argumen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Argumentos en sí mism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r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Fase interna            discurrir raz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Fase externa           aducir o exponer raz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43700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494172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4:14:57Z</dcterms:created>
  <dc:creator>Miguel</dc:creator>
  <dc:description/>
  <dc:language>en-US</dc:language>
  <cp:lastModifiedBy> </cp:lastModifiedBy>
  <dcterms:modified xsi:type="dcterms:W3CDTF">2008-08-13T05:10:25Z</dcterms:modified>
  <cp:revision>55</cp:revision>
  <dc:subject/>
  <dc:title>INTRODUCCIÓN AL DERECHO I  </dc:title>
</cp:coreProperties>
</file>