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784-EC22-42C4-A87D-F1629F8C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BB74-BE9E-4E09-8621-6864CF20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1BD-9E70-4A0C-AA02-43597D53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B663-72D0-4BAB-9B74-3AC646D2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BF78-FB1D-42CB-BA3F-BFEEC66B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698E-1183-486E-BB22-FF42A066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30F7-6CDE-4FF0-B7CE-E5D391B4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84D2-C4B7-4BA9-86B6-07D51EBB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0778-11DB-4590-A250-F86E89FA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8174-F529-4BB5-86DD-967BA394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80FE-D9B1-4C71-97E8-48D45D54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4DA-92A5-453B-A30C-FA2700D5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CA87-2E39-44F1-9952-F4447ED0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EADA-72B0-4C70-9CC4-FA136749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7C62-88D3-4291-8A6A-263EF0B9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DEFB-F829-4FC5-B5F5-57CBA443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CDC6-84E7-405D-84B9-34DAEA68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94A8-2B02-4EEE-A912-41D4AD15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CD0-E0CE-4F1D-A0E8-46E68053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B0D-177F-4779-B178-80885FF6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D90-8088-44F8-B54B-031B1EB8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E0F-A002-42DF-A2DE-A4343419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AA5-7BA4-43C7-B1C0-642FB46B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D61-63AD-4AFC-A501-3E528BD1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5580-89BA-428B-B5C9-FAD1724A219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DEC7-EDC4-468E-89D2-2849A35C8E8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INTRODUCCIÓN AL DERECHO II</a:t>
            </a:r>
            <a:br>
              <a:rPr sz="32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_____________________________________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Prof. Miguel González Le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Universidad de Chile - Facultad de Derec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Segundo Semestre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r y argumentar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Acepción restringida de razon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=  discurr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Acepción amplia de razon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=  argumen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rgument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municar o aducir raz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Acción de razonar (discurri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fecto de razonar (dar razone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378936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lasificación o tipos de razonamiento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 teóric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Razonamiento demostr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Ámbito 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 práctic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Razonamiento justific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Ámbito de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r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r o declarar el sentido o significado de alg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Acción d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Resultado de la actividad interpre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r o declarar el sentido de la realidad juríd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 de normas jurídica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stitución, leyes, tratados internacionales, decreto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rmas consuetudinarias, sentencias judiciale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ctos jurídico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 de otros estándares jurídico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lasificación o tipos de interpret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Sentido amplísi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Sentido ampl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) Sentido estric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.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1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Interpretación teó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.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) Interpretación oper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RAZON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Razonamiento práctico             Razonamiento teór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zonamiento jurídico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Argumentación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zonamiento juríd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(Jueces, Legisladores)                                     (Jurist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terpretación jurídica                  Interpretación jurí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(operativa)                                              (teóri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___________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Razonamiento &gt; Razonamiento jco. = Argumentación jca. &gt; Interpretación jc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123640" y="1989000"/>
            <a:ext cx="2303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1989000"/>
            <a:ext cx="223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2852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32720" y="2852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422100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22100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407664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Distintas sedes en las que tiene lugar el razonamiento jurídico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1. Judica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2. Legisl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3. Jur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4. Abog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5. Otros operadores juríd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 judi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ercicio de la función jurisdic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 efectúa sobre la base de normas jurídicas y otros estándares juríd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de tip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tapas del razonamiento judici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) Discurrir razones en torno al ca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) Resultado de la acción de razon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stricciones del razonamiento judici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) Recinto institucional predetermin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) Procedimiento delimi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i) Marco tempo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v) Punto final o de término: decisión del jue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esencialmente deciso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excusa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Obligación de fundar las decis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cidir no es sinónimo de argumen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ipos de raz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ones explic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Motivo o causa de la dec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ones justific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lausibilidad o razón de la dec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cisiones judiciales                 explicadas y justific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5516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INTRODUCCIÓ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. El derecho como práctica argumen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. Justificación de la argumentación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III. Distinción conceptual: razonar, argumentar 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IV. Ámbitos o contextos del razonamiento juríd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Legisl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stificación de sus decisiones normativas: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de tip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termina la racionalidad en la aplicación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Ámbito de la producción de normas jurídic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Fase prelegislativ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Fuentes material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Fase legislativ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ocedimiento de formación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Juri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bor de la dogmática jurídica o cienci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jurídico teór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Observador de la realidad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fectos e incidencia en la práctica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nciones de la dogmática (Atienza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1) Suministra criterios para la produc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2) Suministra criterios para la aplica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3) Ordena y sistematiza un sector del ordenamiento j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Abog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nciones ejercicio profesion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ositiva constru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Negativa defens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de tip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supeditado a los intereses y expectativas de un cl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cisión ventajosa antes que plausible o correc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Otros operadores jurí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ncionarios de la Administración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ribunal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ontraloría General de la Repúbl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Ministerio Público y Defensoría Penal Públi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rección del Trabaj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Municipa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Mediadores, árbitr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EL DERECHO COMO PRÁCTICA ARGUMENTATIV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nfoques sobre el derecho (Atienza, pp. 19-26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. Enfoque estruc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. Enfoque soci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3. Enfoque valor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4. Enfoque argument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EL DERECHO COMO PRÁCTICA ARGUMENTATIV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es del enfoque argumentativo del derech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ón dogmát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Teorías del sistema jurídico: visión estruc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Aspectos funcional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) Práctica jurídica: procedimientos discurs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) Lenguaje en acción: persuadir y convenc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i) Visión dinámica: derecho en movi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EL DERECHO COMO PRÁCTICA ARGUMENTATIV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2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ón metodol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Sustento teórico de la práctica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otenciar capacidades argumentativ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3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ón político-i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stificación de las decisiones públ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Razonabilidad de las justifica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Socialización de las decis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JUSTIFICACIÓN DE LA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ARGUMENTACIÓN JURÍDIC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entes de justificación de las decisi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) Apelar a la auto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) Apelar al procedi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) Apelar al conteni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stificación de las decisiones en un Estado Constitucional y Democrático de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Dimensión form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Dimensión sustan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JUSTIFICACIÓN DE LA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ARGUMENTACIÓN JURÍDIC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Necesidad de Fundar las Sentencias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 (A. Bell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forma radical en la judica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Jueces deben fundar siempre sus decis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Principio republicano esencial: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esponsabilidad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Garantía de una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ecta administración de justicia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dea central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los planteamientos de Bello para la judicatura, son extrapolables a la función pública desarrollada por todos los órganos y autoridades estat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JUSTIFICACIÓN DE LA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ARGUMENTACIÓN JURÍDIC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Ventajas colaterales de la fundamentación y socialización de las sentencias (pp. 114-115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Institucionaliza la interpretación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Promueve la coherencia interna de la judica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Propaga y generaliza el conocimiento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Eleva a la jurisprudencia a la categoría de ci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5. Posibilita el orden y la coherencia en el sistema leg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ón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Capacidad de producir argumen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Argumentos en sí mism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r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Fase interna            discurrir raz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Fase externa           aducir o exponer raz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43700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494172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4:14:57Z</dcterms:created>
  <dc:creator>Miguel</dc:creator>
  <dc:description/>
  <dc:language>en-US</dc:language>
  <cp:lastModifiedBy> </cp:lastModifiedBy>
  <dcterms:modified xsi:type="dcterms:W3CDTF">2008-08-13T05:10:25Z</dcterms:modified>
  <cp:revision>55</cp:revision>
  <dc:subject/>
  <dc:title>INTRODUCCIÓN AL DERECHO I  </dc:title>
</cp:coreProperties>
</file>