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B34-49F3-491D-B670-6950DDEA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A8A-134C-400B-BBCA-7C947D1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099-5029-4346-9351-14684C1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A7C-1292-4A99-A9D4-FC60E17E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269C-4198-4269-BB26-D5FB9BC3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4A2-1512-4534-9587-F441CFCC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5A10-D6AA-472D-BACB-A8EF3EE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C40C-DCB5-445F-BAB3-FC1E3C0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D74-4756-4906-AA8E-BF639D7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426-2512-4988-9E4F-472D5625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501-70AC-4BA2-8112-DE66658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691-CB09-4F8D-A2AA-EB2CBCBF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99D-B3D3-46B7-8DA6-6479F96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7A27-43E0-4C6C-A2E3-E484465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093-F790-41E3-B945-359FF6F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7730-BEBC-4BC3-AE19-9B653AF9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E6B-656A-4D43-B4FE-DCCDC934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A2D-9BE8-4597-AB8A-8690AAC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35C-3CCF-435A-B9A1-038553FD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67A-88AF-43A4-BE20-E3AAC85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77B-5B3C-4987-A126-1DDF0AC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8E7-E73E-47D3-BB1C-7F5A6DC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267-69F6-4F11-A1D9-589FF8C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2CC-18C2-43F3-92FC-DC3A1A4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A55-7350-4B26-8AF2-6F8C458590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90D9-7B3D-4D5B-A694-91E61D85AF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 AL DERECHO II</a:t>
            </a:r>
            <a:br>
              <a:rPr sz="3200"/>
            </a:b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_____________________________________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Prof. Miguel González Le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Universidad de Chile - Facultad de Derec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egundo Semestre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 y argumen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epción restringid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discur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cepción amplia de razon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= 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Argument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unicar o aduc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Acción de razonar (discurr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fecto de razonar (dar razon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789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razonamient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teór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demost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práctic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Razonamiento justific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Ámbito deont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o significado de al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Acción d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Resultado de la actividad interpre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l derech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xplicar o declarar el sentido de la realidad juríd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normas jurídica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stitución, leyes, tratados internacionales, decret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consuetudinarias, sentencias judicial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tos jurídico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nterpretación de otros estándares jurídic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ncipios y val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Clasificación o tipos de interpretación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Sentido amplísi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Sentido ampl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) Sentido estr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Interpretación te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) Interpretación oper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AZON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azonamiento práctico             Razonamiento teór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 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gumentación)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azonamiento juríd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Jueces, Legisladores)                                     (Jurist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pretación jurídica                  Interpretación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operativa)                                              (teóri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azonamiento &gt; Razonamiento jco. = Argumentación jca. &gt; Interpretación j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23640" y="1989000"/>
            <a:ext cx="230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989000"/>
            <a:ext cx="223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22100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076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Distintas sedes en las que tiene lugar el razonamiento jurídico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.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. Legisl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. Jur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4. Abo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5. Otros operado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amiento jud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ercicio de la función jurisdic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efectúa sobre la base de normas jurídicas y otros estándares juríd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tapa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Discurrir razones en torno al ca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Resultado de la acción de razon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tricciones del razonamiento judici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Recinto institucional predetermin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Procedimiento delimi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Marco tempo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v) Punto final o de término: decisión del ju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esencialmente deciso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incipio de inexcusab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Obligación de fundar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dir no es sinónimo de argume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pos de raz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expl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Motivo o causa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ones justific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lausibilidad o razón de la dec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ones judiciales                 explicadas y justific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551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Garamond"/>
              </a:rPr>
              <a:t>INTRODUCCIÓ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. El derecho como práctica argumenta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I. Justificación de la argumentación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II. Distinción conceptual: razonar, argumentar e interpre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IV. Ámbitos o contextos del razonamiento juríd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Legisl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sus decisiones normativas: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 la racionalidad en la aplic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Ámbito de la producción de normas juríd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pre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Fuentes materi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Fase legislativ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: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rocedimiento de form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Jur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abor de la dogmática jurídica o ciencia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jurídico teó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bservador de la realidad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fectos e incidencia en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de la dogmática (Atienza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1) Suministra criterios para la produc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2) Suministra criterios para la aplicación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3) Ordena y sistematiza un sector del ordenamiento j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Abog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es ejercicio profes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sitiva construc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Negativa defens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de tipo prác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amiento supeditado a los intereses y expectativas de un cl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cisión ventajosa antes que plausible o correc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V. ÁMBITOS O CONTEXTOS DEL RAZONAMIENTO JURÍDIC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Otros operadores jurí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ncionarios de la Administración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ibunal Co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ntraloría General de la Re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inisterio Público y Defensoría Penal Públi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rección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unicip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Mediadores, árbit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nfoques sobre el derecho (Atienza, pp. 19-26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. Enfoque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. Enfoque sociológ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3. Enfoque valor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4. Enfoque argumenta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azones del enfoque argumentativo del derech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1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dog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Teorías del sistema jurídico: visión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Aspectos funcionales del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) Práctica jurídica: procedimientos discurs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) Lenguaje en acción: persuadir y conve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ii) Visión dinámica: derecho en mov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. EL DERECHO COMO PRÁCTICA ARGUMENTATIV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2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metodo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ustento teórico de la práctica juríd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Potenciar capacidades argumenta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3)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Garamond"/>
              </a:rPr>
              <a:t>Razón político-instituc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públ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Razonabilidad de las just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- Socialización de la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uentes de justificación de las decis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) Apelar a la autor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) Apelar al procedi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) Apelar al conten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Justificación de las decisiones en un Estado Constitucional y Democrático de Derech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f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Dimensión sustan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Necesidad de Fundar las Sentencias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A. Bell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forma radical en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Jueces deben fundar siempre sus decis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) Principio republicano esencial: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sponsabilidad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i) Garantía de una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ecta administración de justi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Idea central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: los planteamientos de Bello para la judicatura, son extrapolables a la función pública desarrollada por todos los órganos y autoridades estat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II. JUSTIFICACIÓN DE LA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Garamond"/>
              </a:rPr>
              <a:t>ARGUMENTACIÓN JURÍDIC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Ventajas colaterales de la fundamentación y socialización de las sentencias (pp. 114-115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1. Institucionaliza la interpretación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Promueve la coherencia interna de la judica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. Propaga y generaliza el conocimiento de las ley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4. Eleva a la jurisprudencia a la categoría de c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5. Posibilita el orden y la coherencia en el sistema le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Garamond"/>
              </a:rPr>
              <a:t>III. DISTINCIÓN CONCEPTUAL: RAZONAR, ARGUMENTAR E INTERPRETAR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ón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Capacidad de producir argumen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Argumentos en sí m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Razonar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) Fase interna            discurri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b) Fase externa           aducir o exponer raz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437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14:57Z</dcterms:created>
  <dc:creator>Miguel</dc:creator>
  <dc:description/>
  <dc:language>en-US</dc:language>
  <cp:lastModifiedBy> </cp:lastModifiedBy>
  <dcterms:modified xsi:type="dcterms:W3CDTF">2008-08-13T05:10:25Z</dcterms:modified>
  <cp:revision>55</cp:revision>
  <dc:subject/>
  <dc:title>INTRODUCCIÓN AL DERECHO I  </dc:title>
</cp:coreProperties>
</file>