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31F-74CC-444D-B532-2D1555A7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F5D-6C09-43BB-9813-348322B2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6DB-7B3D-44A8-85E9-83A0FE36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F1C-C432-4C33-8F85-EFF5275D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3305-3F5F-4C69-90E3-60EAC60B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E629-7FC5-4F80-A591-928A374D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17A7-3635-4133-ABBA-C5901A49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5FD7-FBA9-4B4B-B2BC-3BC11FF4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CF90-31FC-4FC1-858D-3EE1D69E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BAC9-4401-4E25-91ED-30B894F9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A96B-2305-48C9-83BD-48F907DA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D34-9AC0-42AA-B008-CE74C0C2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393E-DB30-45DB-BAD0-3286F3B9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4F94-99BB-46AD-A946-EF0F9AF9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9A79-1219-40D4-8D94-70F75775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9D76-166E-4D42-8AE0-D9471F37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D03E-BD8B-461A-AB51-AD61F1D3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2C5-7D98-47DB-8D3D-065BB9D1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E75-5D60-49E7-BF76-30AC2497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C1F-34F4-4EE7-A775-C0C237E5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2C3-305E-4BC0-94C1-4D6E85B2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279-164E-44F6-895C-7B8B6065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080-CF1C-4FB3-BCD2-8F161908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063-C716-4807-BDD3-B3AB62A5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23B2-6F62-4B25-93CA-7478DFCF1B3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BA33-278A-4411-89FA-B575577385C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INTRODUCCIÓN AL DERECHO I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Segundo Semestre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r y argument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Acepción restringida de razon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=  discurr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Acepción amplia de razon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=  argum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rgument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municar o aduci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Acción de razonar (discurri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fecto de razonar (dar razon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378936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lasificación o tipos de razonamiento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teóric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Razonamiento demostr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práctic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Razonamiento justific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r o declarar el sentido o significado de alg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Acción d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Resultado de la actividad interpre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r o declarar el sentido de la realidad juríd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 normas jurídica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stitución, leyes, tratados internacionales, decreto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rmas consuetudinarias, sentencias judiciale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ctos jurídico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 otros estándares jurídico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lasificación o tipos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entido amplísi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Sentido ampl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) Sentido estri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.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1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Interpretación teó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.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) Interpretación oper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RAZON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Razonamiento práctico             Razonamiento teór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zonamiento jurídico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rgumentación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zonamiento juríd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(Jueces, Legisladores)                                     (Jurist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rpretación jurídica                  Interpretación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(operativa)                                              (teóri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_________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azonamiento &gt; Razonamiento jco. = Argumentación jca. &gt; Interpretación j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123640" y="1989000"/>
            <a:ext cx="230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1989000"/>
            <a:ext cx="223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4221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221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07664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Distintas sedes en las que tiene lugar el razo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1.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2. Legisl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3. Jur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4. Abog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5. Otros operadores juríd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jud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ercicio de la función jurisdic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efectúa sobre la base de normas jurídicas y otros estándares juríd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tapas del razonamiento judici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Discurrir razones en torno al ca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Resultado de la acción de razon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stricciones del razonamiento judici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) Recinto institucional predetermin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) Procedimiento delimi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i) Marco tempo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v) Punto final o de término: decisión del ju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esencialmente deciso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Obligación de fundar la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dir no es sinónimo de argum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ipos de raz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es expli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Motivo o causa de la dec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es justifi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lausibilidad o razón de la dec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siones judiciales                 explicadas y justific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5516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El derecho como práctica argumen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Justificación de la argumentación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III. Distinción conceptual: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IV. Ámbitos o contextos del razonamient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egisl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sus decisiones normativas: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termina la racionalidad en la aplic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Ámbito de la producción de normas juríd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Fase prelegislativ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Fuentes material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Fase legislativ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ocedimiento de form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Jur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bor de la dogmática jurídica o ci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jurídico teór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bservador de la realidad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fectos e incidencia en la práctica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es de la dogmática (Atienza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1) Suministra criterios para la produc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2) Suministra criterios para la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3) Ordena y sistematiza un sector del ordenamiento j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Abog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es ejercicio profesion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supeditado a los intereses y expectativas de un cl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sión ventajosa antes que plausible o correc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Otros operadore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arios de la Administración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ribunal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traloría General de la Repúb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inisterio Público y Defensoría Penal Públ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rección del Tr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unicipa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ediadores, árbitr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nfoques sobre el derecho (Atienza, pp. 19-26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Enfoque estruc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Enfoque soci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. Enfoque valor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4. Enfoque argument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es del enfoque argumentativo del derech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dogmá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Teorías del sistema jurídico: visión estruc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Aspectos funcional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) Práctica jurídica: procedimientos discurs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) Lenguaje en acción: persuadir y conven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i) Visión dinámica: derecho en movi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metodo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Sustento teórico de la práctica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otenciar capacidades argumenta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político-i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las decisiones públ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Razonabilidad de las justifica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Socialización de la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entes de justificación de las decis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Apelar a la auto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Apelar al procedi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) Apelar al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las decisiones en un Estado Constitucional y Democrátic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Dimensión for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Dimensión sustan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Necesidad de Fundar las Sentencia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 (A.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forma radical en la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eces deben fundar siempre su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Principio republicano esencial: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esponsabilidad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Garantía de una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ecta administración de justicia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dea centr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los planteamientos de Bello para la judicatura, son extrapolables a la función pública desarrollada por todos los órganos y autoridades estat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entajas colaterales de la fundamentación y socialización de las sentencias (pp. 114-115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Institucionaliza la interpret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Promueve la coherencia interna de la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Propaga y generaliza el conocimiento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eva a la jurisprudencia a la categoría de c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5. Posibilita el orden y la coherencia en el sistema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ón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Capacidad de producir argumen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Argumentos en sí mis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Fase interna            discurri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Fase externa           aducir o expone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437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494172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08-08-13T05:10:25Z</dcterms:modified>
  <cp:revision>55</cp:revision>
  <dc:subject/>
  <dc:title>INTRODUCCIÓN AL DERECHO I  </dc:title>
</cp:coreProperties>
</file>