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54C-61A3-4265-82D1-0AEE79AF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D47-C416-4A6F-989E-BC3D4D8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9053-4B10-4DFA-89E5-F480947B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159-EF66-4A08-9D71-A6B5BE86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2EB6-A7F1-4F53-988A-136A4FD4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FD5-EBA5-492F-8269-1DAE6BD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B3D-5D4F-48E8-90C9-D66C52F2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9A0-FD60-4E20-8C18-87018FAE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5922-354D-4146-BF0D-28D5E6D8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A9C-7825-4B6C-B5E7-D0CC5462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7DC3-C50D-4471-9497-ACD9144F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830-96DF-427A-927F-6662CBD2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0DB-EE36-448B-9775-CFC5EF36638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082080" cy="6800040"/>
          </a:xfrm>
          <a:prstGeom prst="rect">
            <a:avLst/>
          </a:prstGeom>
          <a:solidFill>
            <a:srgbClr val="fff2e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Tiempos Modernos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: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Siglos XVI al XVIII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Proyección del derecho de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Castilla al Nuevo Mundo, derecho indiano</a:t>
            </a:r>
            <a:r>
              <a:rPr b="1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2000" spc="-1" strike="noStrike" u="sng">
                <a:solidFill>
                  <a:srgbClr val="cc6600"/>
                </a:solidFill>
                <a:uFillTx/>
                <a:latin typeface="Arial"/>
              </a:rPr>
              <a:t>La gestación de una nueva cosmovisión</a:t>
            </a: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. </a:t>
            </a:r>
            <a:r>
              <a:rPr b="1" lang="es-ES" sz="1800" spc="-1" strike="noStrike" u="sng">
                <a:solidFill>
                  <a:srgbClr val="cc6600"/>
                </a:solidFill>
                <a:uFillTx/>
                <a:latin typeface="Arial"/>
              </a:rPr>
              <a:t>Características gene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1.- Expansión europea hacia Africa y Amé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2.-Quiebre de la bases filosóficas, científicas y jurídicas del Medioe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3.- Ruptura de la unidad religiosa de Occidente en torno al catolic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4.- Consolidación del capitalismo comer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5.- Consolidación de las monarquías autónomas  y desarrollo del absolut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6.- Inicio del proceso de inserción de América en la cultura occid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7.- La proyección del jus commune al Nuevo Mundo a través del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astell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8.-La revitalización de la concepción jusnaturalista católica y su enfre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con los supuestos del jus commu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6600"/>
                </a:solidFill>
                <a:latin typeface="Arial"/>
              </a:rPr>
              <a:t>9.- Gestación del racionalismo e inicio ideológico de la Moder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2680" y="0"/>
            <a:ext cx="933084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 </a:t>
            </a: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( 2 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Santillán 1559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1/6 de lo produ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go tributo en servicio personal; regula trato en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del encomendado,organización pueblos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os, mita y repartimiento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Gamboa.1580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 el tributo y el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ario, prohibe el servicio personal, pago de jo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asacion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en dinero, regula trato en el trabajo, organización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hile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Esquilach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1620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real general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érica, Tasa tributo y jornal, hace voluntario el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ibuto en servicio personal, regula el trato, 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, mita y repart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asa de Laso de la Veg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635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 el tributo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jornal, permite el pago voluntario en servicio, 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nero o especies, regula mita repartimien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ueblos de in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2050920" y="765000"/>
            <a:ext cx="73080" cy="5616720"/>
          </a:xfrm>
          <a:custGeom>
            <a:avLst/>
            <a:gdLst>
              <a:gd name="textAreaLeft" fmla="*/ 21240 w 73080"/>
              <a:gd name="textAreaRight" fmla="*/ 73440 w 73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Estatutos jurídicos de la población en Amé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Principio que sustenta la estructura soci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desigualdad jurídica con base ra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Grupos con estatutos diferenciados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eninsulares americanos y crio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Indígenas 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Mestiz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Escla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0000"/>
                </a:solidFill>
                <a:uFillTx/>
                <a:latin typeface="Arial"/>
              </a:rPr>
              <a:t>Diferencias</a:t>
            </a:r>
            <a:r>
              <a:rPr b="1" lang="es-ES" sz="24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normas jurídicas que los rigen; capacidad jurídica; tributación; oficios, trabajos o actividades económicas permitidas; distinta inserción en los beneficios de la estructura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Facultad de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istoria del Derecho II –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Seminario: “El quiebre institucional de 189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Instrucciones para el desarrollo del seminario</a:t>
            </a:r>
            <a:r>
              <a:rPr b="1" lang="es-ES_tradnl" sz="20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tema debe ser preparado por los alumnos asignados de acuerdo a la pauta de desarrollo que se indica en cada caso.  El material bibliográfico suficiente para preparar la exposición y participación en el seminario se encuentra en un folleto que está a su disposición en la Biblioteca Central. Cada alumno será responsable de elaborar una presentación oral sobre el tema asignado, deberá dirigir los debates relativos a su exposición y participar en la discusión de los otros temas que se expongan en las reuniones sigu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Arial"/>
              </a:rPr>
              <a:t>Evaluación.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Cada alumno tendrá tres notas, se evaluará: a) la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dividual, 50% ; b ) la participación en el debate posterior a las exposicion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gún el número y calidad de las intervenciones, 25%;  c) prueba escrita br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bre el contenido esencial del seminario; 25%. En consideración a que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ta de un tema sobre el cual hay interpretaciones diversas, la evaluación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ntrará  en el conocimiento y comprensión de las materias y las destrez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exponer y argumentar sobre los temas discutidos, prescindiendo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sición que el alumno adopte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250920" y="135000"/>
            <a:ext cx="88930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lementos formativos del derecho occid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Siglos XVI a X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A la influencia ejercida en la formación del derecho occidental por el elemento romano, canónico, germano y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 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se agregan a partir del siglo XVI los sigu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Elemen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Concepción católic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cepción racionalista del derecho na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Positivismo juríd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Concepciones socialistas sobre el derec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26028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JUSTOS TITULOS DE EXPANSIÓN SEGÚN  LA DOCTRINA DEL  IUS COM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La doctrina del </a:t>
            </a:r>
            <a:r>
              <a:rPr b="1" i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ius commune</a:t>
            </a: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 creó ciertos títulos a los que asignó validez como justificativos de expansión en beneficio de “príncipes cristianos”.Textos legales de algunos estados recepcionaron estas normas doctrinales como es el caso del Código de las Si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990000"/>
                </a:solidFill>
                <a:uFillTx/>
                <a:latin typeface="Arial"/>
              </a:rPr>
              <a:t>Partidas en el reino de Castil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-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Matrimoni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 heredero (a) del reino (se adquiere el título y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 el reino del  cónyuge o lo adquiere el hijo d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Heren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diversos reinos se vinculan si son heredados por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isma  person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Elección por la comunida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Se trata de ratificación posterior a otr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ech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cesión Pontific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( opera sobre tierras de infieles a prín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y sobre tierras de príncipes cristianos excomulgados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iempre respecto de príncipes cristianos que acepten el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emporal 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Conquista u ocupación milit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tierras de infieles y sobre tierras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ristianos  siempre que concurran otros títul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Descubrimiento y toma de poses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ierras despobl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-36360"/>
            <a:ext cx="9144000" cy="70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Bases jurídicas de la expansión castellana</a:t>
            </a:r>
            <a:r>
              <a:rPr b="1" lang="es-ES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apitu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descubrimiento, conquista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lonización (Capitulación de Santa Fe 1492, de H.Cor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Pizarro, etc.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Hues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y la capitu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2.-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Bulas Pontificias de donación de 149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 Dominio sobre tierras e islas descubiertas y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demarcación de 100 lgs.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. de las Islas Azores y Cabo Ver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 Exclusiva de navegación en los mares dentro de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 Dominio de las riquezas, suelo y subs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)  Investidura sobre las tierras descubiertas y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ubrir dentro de la línea demarcato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3.-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Tratado de Tordesillas, 1494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rre la línea demarcatoria 370 leguas al O.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s Islas Azores y Cabo V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iglo 16"/>
          <p:cNvPicPr/>
          <p:nvPr/>
        </p:nvPicPr>
        <p:blipFill>
          <a:blip r:embed="rId1"/>
          <a:stretch/>
        </p:blipFill>
        <p:spPr>
          <a:xfrm>
            <a:off x="706320" y="1673280"/>
            <a:ext cx="7729560" cy="47800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poca de los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tillas"/>
          <p:cNvPicPr/>
          <p:nvPr/>
        </p:nvPicPr>
        <p:blipFill>
          <a:blip r:embed="rId1"/>
          <a:stretch/>
        </p:blipFill>
        <p:spPr>
          <a:xfrm>
            <a:off x="1393920" y="1724040"/>
            <a:ext cx="6778440" cy="4657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8380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illas . descub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POLEMICAS DE INDIAS -1511 – 1570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Junta de Burgos de 15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uerdo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yes de Bur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Requerimiento de J. López de Palacios Rub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Bula Sublimis Deus 153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Justos títulos de expansión de F. Vitoria 153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Libre circulación de los pueb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ibre consentimiento de la comu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Guerra justa sólo si es defens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Junta de Valladolid 1542  (Las casas / 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) Acoge el título de libre circulación de los pueb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Acoge el principio de la guerra defensiva como ju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) Dictación  de Las Leyes Nue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Junta de Valladolid 1551 (Las Casas /Ginés de Sepúlve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0" y="111240"/>
            <a:ext cx="914400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3300"/>
                </a:solidFill>
                <a:latin typeface="Arial"/>
              </a:rPr>
              <a:t>Contenido de los Acuerdos y Leyes de Burgos de 1512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-Acuerdo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Los indios son seres humanos racionales destinados a la salv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y sólo regidos por el derecho na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Los indígenas pueden ser obligados a traba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Se les debe pagar salario por 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Condiciones de trabajo compatibles con su condición human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da por l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) Evangelización de los indios para lograr conversión volu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) Deben vivir en comunicación con los españo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) Se declaran válidas las Bulas Papales como títulos justos pre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otificación  a los indios del poder del Pap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eyes de Burg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 Trato en el trabajo en las 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Reducción de los indios a pueb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) Mecanismos de control de encomienda y legis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bre los indios: Protector de indios; visita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>
            <a:off x="0" y="63360"/>
            <a:ext cx="9144000" cy="69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cc3300"/>
                </a:solidFill>
                <a:uFillTx/>
                <a:latin typeface="Arial"/>
              </a:rPr>
              <a:t>Encomienda americana.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cepto jurídico: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esión real del tributo debido al rey por un número determinado de indígenas en beneficio de un  español benemérito de Ind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antil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voluc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a encomiend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 de trib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egul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a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 de 150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indios son súbditos libre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Corona sometidos al pago de trib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de Burgos de 151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ula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, el trato en el trabaj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reducción a pueblos ,las visitas y 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tectores de ind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 )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Nuevas de 1542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 supresión de 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comie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Leyes sobre tasa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de tributo de los ind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asación de tributos y  jornal, monto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uperior al anterior; según condic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cada lugar, prohibe servicio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3059280" y="1413000"/>
            <a:ext cx="72720" cy="1008000"/>
          </a:xfrm>
          <a:custGeom>
            <a:avLst/>
            <a:gdLst>
              <a:gd name="textAreaLeft" fmla="*/ 21240 w 72720"/>
              <a:gd name="textAreaRight" fmla="*/ 73080 w 72720"/>
              <a:gd name="textAreaTop" fmla="*/ 41760 h 1008000"/>
              <a:gd name="textAreaBottom" fmla="*/ 96624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2:51:22Z</dcterms:created>
  <dc:creator>mfigueroa</dc:creator>
  <dc:description/>
  <dc:language>en-US</dc:language>
  <cp:lastModifiedBy>lucarna16</cp:lastModifiedBy>
  <dcterms:modified xsi:type="dcterms:W3CDTF">2008-08-18T21:37:14Z</dcterms:modified>
  <cp:revision>12</cp:revision>
  <dc:subject/>
  <dc:title>Diapositiva 1</dc:title>
</cp:coreProperties>
</file>