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DB0-9314-423D-AC9C-A749BF15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FF4-E9C4-41C4-8810-29DCEC0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F25-0839-4764-8DE9-CB9E8673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D07-B769-46BE-8200-23FA5FD7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E89-0C34-42C8-894C-B0D5A97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616-5F08-400B-BD46-F70C84C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E34-407E-4B3C-927E-91484021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F1A-6551-4881-8A7B-BBB5CEF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D7B-3469-4814-9D42-828B922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A75-AF01-4637-9BB1-730C9DC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DCE-D0D6-498E-910A-05154E8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843-2B58-460B-8BB6-4FACDC7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170-6D37-409D-B90A-BBADABD41B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glo 16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tillas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lucarna16</cp:lastModifiedBy>
  <dcterms:modified xsi:type="dcterms:W3CDTF">2008-08-18T21:37:14Z</dcterms:modified>
  <cp:revision>12</cp:revision>
  <dc:subject/>
  <dc:title>Diapositiva 1</dc:title>
</cp:coreProperties>
</file>