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D742-6883-4080-ACBB-A79EEA827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0734-728F-44FE-A8A8-B283688A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975C-28A1-4D01-BFCB-7CEC4C9F8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EF5C-C578-4439-B5C6-510E8AF1E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40DC-CF09-4E11-88D7-EFB22FA8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3473-0283-4B28-B7F8-33987316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F8BA-6D89-4ED9-9878-AA452B3C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5447-CCAE-4A45-8358-A99A3206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4639-66FA-4AEB-9A8B-AE8B4262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E8CD-EB80-4D06-A9B3-C89C61E2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329D-5CD1-476B-86DD-1315B63C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3AC4-4D52-4B81-816D-35AD6CE3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2E7F-F7C7-4686-84D7-6781436F4E4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0"/>
            <a:ext cx="9082080" cy="6800040"/>
          </a:xfrm>
          <a:prstGeom prst="rect">
            <a:avLst/>
          </a:prstGeom>
          <a:solidFill>
            <a:srgbClr val="fff2e5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c6600"/>
                </a:solidFill>
                <a:uFillTx/>
                <a:latin typeface="Arial"/>
              </a:rPr>
              <a:t>Tiempos Modernos</a:t>
            </a:r>
            <a:r>
              <a:rPr b="1" lang="es-ES" sz="2000" spc="-1" strike="noStrike">
                <a:solidFill>
                  <a:srgbClr val="cc6600"/>
                </a:solidFill>
                <a:latin typeface="Arial"/>
              </a:rPr>
              <a:t>:  </a:t>
            </a:r>
            <a:r>
              <a:rPr b="1" lang="es-ES" sz="2000" spc="-1" strike="noStrike" u="sng">
                <a:solidFill>
                  <a:srgbClr val="cc6600"/>
                </a:solidFill>
                <a:uFillTx/>
                <a:latin typeface="Arial"/>
              </a:rPr>
              <a:t>Siglos XVI al XVIII</a:t>
            </a:r>
            <a:r>
              <a:rPr b="1" lang="es-ES" sz="2000" spc="-1" strike="noStrike">
                <a:solidFill>
                  <a:srgbClr val="cc6600"/>
                </a:solidFill>
                <a:latin typeface="Arial"/>
              </a:rPr>
              <a:t>.  </a:t>
            </a:r>
            <a:r>
              <a:rPr b="1" lang="es-ES" sz="2000" spc="-1" strike="noStrike" u="sng">
                <a:solidFill>
                  <a:srgbClr val="cc6600"/>
                </a:solidFill>
                <a:uFillTx/>
                <a:latin typeface="Arial"/>
              </a:rPr>
              <a:t>Proyección del derecho de</a:t>
            </a:r>
            <a:r>
              <a:rPr b="1" lang="es-ES" sz="20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c6600"/>
                </a:solidFill>
                <a:uFillTx/>
                <a:latin typeface="Arial"/>
              </a:rPr>
              <a:t>Castilla al Nuevo Mundo, derecho indiano</a:t>
            </a:r>
            <a:r>
              <a:rPr b="1" lang="es-ES" sz="2000" spc="-1" strike="noStrike">
                <a:solidFill>
                  <a:srgbClr val="cc6600"/>
                </a:solidFill>
                <a:latin typeface="Arial"/>
              </a:rPr>
              <a:t>. </a:t>
            </a:r>
            <a:r>
              <a:rPr b="1" lang="es-ES" sz="2000" spc="-1" strike="noStrike" u="sng">
                <a:solidFill>
                  <a:srgbClr val="cc6600"/>
                </a:solidFill>
                <a:uFillTx/>
                <a:latin typeface="Arial"/>
              </a:rPr>
              <a:t>La gestación de una nueva cosmovisión</a:t>
            </a: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. </a:t>
            </a:r>
            <a:r>
              <a:rPr b="1" lang="es-ES" sz="1800" spc="-1" strike="noStrike" u="sng">
                <a:solidFill>
                  <a:srgbClr val="cc6600"/>
                </a:solidFill>
                <a:uFillTx/>
                <a:latin typeface="Arial"/>
              </a:rPr>
              <a:t>Características gene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1.- Expansión europea hacia Africa y Amé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2.-Quiebre de la bases filosóficas, científicas y jurídicas del Medioe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3.- Ruptura de la unidad religiosa de Occidente en torno al catolic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4.- Consolidación del capitalismo comer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5.- Consolidación de las monarquías autónomas  y desarrollo del absolut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6.- Inicio del proceso de inserción de América en la cultura occiden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7.- La proyección del jus commune al Nuevo Mundo a través del der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castell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8.-La revitalización de la concepción jusnaturalista católica y su enfrent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con los supuestos del jus commu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9.- Gestación del racionalismo e inicio ideológico de la Modern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22680" y="0"/>
            <a:ext cx="9330840" cy="70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3300"/>
                </a:solidFill>
                <a:uFillTx/>
                <a:latin typeface="Arial"/>
              </a:rPr>
              <a:t>Encomienda Americana </a:t>
            </a:r>
            <a:r>
              <a:rPr b="1" lang="es-ES" sz="2400" spc="-1" strike="noStrike">
                <a:solidFill>
                  <a:srgbClr val="cc3300"/>
                </a:solidFill>
                <a:latin typeface="Arial"/>
              </a:rPr>
              <a:t>( 2 )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asa de Santillán 1559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ibuto 1/6 de lo produc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go tributo en servicio personal; regula trato en 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abajo del encomendado,organización pueblo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os, mita y repartimiento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asa de Gamboa.1580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asa  el tributo y el jor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ario, prohibe el servicio personal, pago de jor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asacione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en dinero, regula trato en el trabajo, organización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ueblos de indios, mita y repart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hile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asa de Esquilache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1620.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asa real general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mérica, Tasa tributo y jornal, hace voluntario el p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ibuto en servicio personal, regula el trato,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ueblos de indios, mita y repart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asa de Laso de la Veg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635.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asa el tributo 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 jornal, permite el pago voluntario en servicio, 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nero o especies, regula mita repartimiento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ueblos de ind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5"/>
          <p:cNvSpPr/>
          <p:nvPr/>
        </p:nvSpPr>
        <p:spPr>
          <a:xfrm>
            <a:off x="2050920" y="765000"/>
            <a:ext cx="73080" cy="5616720"/>
          </a:xfrm>
          <a:custGeom>
            <a:avLst/>
            <a:gdLst>
              <a:gd name="textAreaLeft" fmla="*/ 21240 w 73080"/>
              <a:gd name="textAreaRight" fmla="*/ 73440 w 73080"/>
              <a:gd name="textAreaTop" fmla="*/ 234000 h 5616720"/>
              <a:gd name="textAreaBottom" fmla="*/ 5382720 h 561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0" y="0"/>
            <a:ext cx="9144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0000"/>
                </a:solidFill>
                <a:uFillTx/>
                <a:latin typeface="Arial"/>
              </a:rPr>
              <a:t>Estatutos jurídicos de la población en Amé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0000"/>
                </a:solidFill>
                <a:uFillTx/>
                <a:latin typeface="Arial"/>
              </a:rPr>
              <a:t>Principio que sustenta la estructura social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 desigualdad jurídica con base ra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0000"/>
                </a:solidFill>
                <a:uFillTx/>
                <a:latin typeface="Arial"/>
              </a:rPr>
              <a:t>Grupos con estatutos diferenciados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.-Peninsulares americanos y criol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.- Indígenas americ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3.- Mestiz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4.- Escla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0000"/>
                </a:solidFill>
                <a:uFillTx/>
                <a:latin typeface="Arial"/>
              </a:rPr>
              <a:t>Diferencias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normas jurídicas que los rigen; capacidad jurídica; tributación; oficios, trabajos o actividades económicas permitidas; distinta inserción en los beneficios de la estructura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5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Facultad de Derec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istoria del Derecho II – 200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cc3300"/>
                </a:solidFill>
                <a:uFillTx/>
                <a:latin typeface="Arial"/>
              </a:rPr>
              <a:t>Seminario: “El quiebre institucional de 1891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cc3300"/>
                </a:solidFill>
                <a:uFillTx/>
                <a:latin typeface="Arial"/>
              </a:rPr>
              <a:t>Instrucciones para el desarrollo del seminario</a:t>
            </a: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da tema debe ser preparado por los alumnos asignados de acuerdo a la pauta de desarrollo que se indica en cada caso.  El material bibliográfico suficiente para preparar la exposición y participación en el seminario se encuentra en un folleto que está a su disposición en la Biblioteca Central. Cada alumno será responsable de elaborar una presentación oral sobre el tema asignado, deberá dirigir los debates relativos a su exposición y participar en la discusión de los otros temas que se expongan en las reuniones sigui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cc3300"/>
                </a:solidFill>
                <a:uFillTx/>
                <a:latin typeface="Arial"/>
              </a:rPr>
              <a:t>Evaluación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Cada alumno tendrá tres notas, se evaluará: a) la exposi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ndividual, 50% ; b ) la participación en el debate posterior a las exposicion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gún el número y calidad de las intervenciones, 25%;  c) prueba escrita bre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obre el contenido esencial del seminario; 25%. En consideración a que 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rata de un tema sobre el cual hay interpretaciones diversas, la evaluación 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entrará  en el conocimiento y comprensión de las materias y las destrez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ara exponer y argumentar sobre los temas discutidos, prescindiendo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osición que el alumno adopte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250920" y="135000"/>
            <a:ext cx="88930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990000"/>
                </a:solidFill>
                <a:uFillTx/>
                <a:latin typeface="Arial"/>
              </a:rPr>
              <a:t>Elementos formativos del derecho occid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990000"/>
                </a:solidFill>
                <a:uFillTx/>
                <a:latin typeface="Arial"/>
              </a:rPr>
              <a:t>Siglos XVI a X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990000"/>
                </a:solidFill>
                <a:uFillTx/>
                <a:latin typeface="Arial"/>
              </a:rPr>
              <a:t>A la influencia ejercida en la formación del derecho occidental por el elemento romano, canónico, germano y </a:t>
            </a:r>
            <a:r>
              <a:rPr b="1" i="1" lang="es-ES" sz="1600" spc="-1" strike="noStrike" u="sng">
                <a:solidFill>
                  <a:srgbClr val="990000"/>
                </a:solidFill>
                <a:uFillTx/>
                <a:latin typeface="Arial"/>
              </a:rPr>
              <a:t>ius commune </a:t>
            </a:r>
            <a:r>
              <a:rPr b="1" lang="es-ES" sz="1600" spc="-1" strike="noStrike" u="sng">
                <a:solidFill>
                  <a:srgbClr val="990000"/>
                </a:solidFill>
                <a:uFillTx/>
                <a:latin typeface="Arial"/>
              </a:rPr>
              <a:t>se agregan a partir del siglo XVI los sigui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990000"/>
                </a:solidFill>
                <a:uFillTx/>
                <a:latin typeface="Arial"/>
              </a:rPr>
              <a:t>Element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.- Concepción católica del derecho natu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.- Concepción racionalista del derecho natu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3.- Positivismo juríd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4.-Concepciones socialistas sobre el derec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0" y="26028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990000"/>
                </a:solidFill>
                <a:uFillTx/>
                <a:latin typeface="Arial"/>
              </a:rPr>
              <a:t>JUSTOS TITULOS DE EXPANSIÓN SEGÚN  LA DOCTRINA DEL  IUS COMMU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990000"/>
                </a:solidFill>
                <a:uFillTx/>
                <a:latin typeface="Arial"/>
              </a:rPr>
              <a:t>La doctrina del </a:t>
            </a:r>
            <a:r>
              <a:rPr b="1" i="1" lang="es-ES" sz="1600" spc="-1" strike="noStrike" u="sng">
                <a:solidFill>
                  <a:srgbClr val="990000"/>
                </a:solidFill>
                <a:uFillTx/>
                <a:latin typeface="Arial"/>
              </a:rPr>
              <a:t>ius commune</a:t>
            </a:r>
            <a:r>
              <a:rPr b="1" lang="es-ES" sz="1600" spc="-1" strike="noStrike" u="sng">
                <a:solidFill>
                  <a:srgbClr val="990000"/>
                </a:solidFill>
                <a:uFillTx/>
                <a:latin typeface="Arial"/>
              </a:rPr>
              <a:t> creó ciertos títulos a los que asignó validez como justificativos de expansión en beneficio de “príncipes cristianos”.Textos legales de algunos estados recepcionaron estas normas doctrinales como es el caso del Código de las Si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990000"/>
                </a:solidFill>
                <a:uFillTx/>
                <a:latin typeface="Arial"/>
              </a:rPr>
              <a:t>Partidas en el reino de Castil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.-</a:t>
            </a:r>
            <a:r>
              <a:rPr b="1" lang="es-ES" sz="2000" spc="-1" strike="noStrike">
                <a:solidFill>
                  <a:srgbClr val="990000"/>
                </a:solidFill>
                <a:latin typeface="Arial"/>
              </a:rPr>
              <a:t> Matrimoni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 heredero (a) del reino (se adquiere el título y el p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  el reino del  cónyuge o lo adquiere el hijo de amb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.- </a:t>
            </a:r>
            <a:r>
              <a:rPr b="1" lang="es-ES" sz="2000" spc="-1" strike="noStrike">
                <a:solidFill>
                  <a:srgbClr val="990000"/>
                </a:solidFill>
                <a:latin typeface="Arial"/>
              </a:rPr>
              <a:t>Herenci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( diversos reinos se vinculan si son heredados por 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isma  person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.- </a:t>
            </a:r>
            <a:r>
              <a:rPr b="1" lang="es-ES" sz="2000" spc="-1" strike="noStrike">
                <a:solidFill>
                  <a:srgbClr val="990000"/>
                </a:solidFill>
                <a:latin typeface="Arial"/>
              </a:rPr>
              <a:t>Elección por la comunidad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(Se trata de ratificación posterior a otr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ech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4.- </a:t>
            </a:r>
            <a:r>
              <a:rPr b="1" lang="es-ES" sz="2000" spc="-1" strike="noStrike">
                <a:solidFill>
                  <a:srgbClr val="990000"/>
                </a:solidFill>
                <a:latin typeface="Arial"/>
              </a:rPr>
              <a:t>Concesión Pontifici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( opera sobre tierras de infieles a prínci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ristianos y sobre tierras de príncipes cristianos excomulgados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iempre respecto de príncipes cristianos que acepten el p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emporal  del Pap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5.- </a:t>
            </a:r>
            <a:r>
              <a:rPr b="1" lang="es-ES" sz="2000" spc="-1" strike="noStrike">
                <a:solidFill>
                  <a:srgbClr val="990000"/>
                </a:solidFill>
                <a:latin typeface="Arial"/>
              </a:rPr>
              <a:t>Conquista u ocupación militar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 tierras de infieles y sobre tierras d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ristianos  siempre que concurran otros títul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6.- </a:t>
            </a:r>
            <a:r>
              <a:rPr b="1" lang="es-ES" sz="2000" spc="-1" strike="noStrike">
                <a:solidFill>
                  <a:srgbClr val="990000"/>
                </a:solidFill>
                <a:latin typeface="Arial"/>
              </a:rPr>
              <a:t>Descubrimiento y toma de posesión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de tierras despobl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0" y="-36360"/>
            <a:ext cx="9144000" cy="70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800" spc="-1" strike="noStrike" u="sng">
                <a:solidFill>
                  <a:srgbClr val="990000"/>
                </a:solidFill>
                <a:uFillTx/>
                <a:latin typeface="Arial"/>
              </a:rPr>
              <a:t>Bases jurídicas de la expansión castellana</a:t>
            </a:r>
            <a:r>
              <a:rPr b="1" lang="es-ES" sz="28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1</a:t>
            </a: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.-</a:t>
            </a:r>
            <a:r>
              <a:rPr b="1" lang="es-ES" sz="2400" spc="-1" strike="noStrike" u="sng">
                <a:solidFill>
                  <a:srgbClr val="990000"/>
                </a:solidFill>
                <a:uFillTx/>
                <a:latin typeface="Arial"/>
              </a:rPr>
              <a:t>Capitulacione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 descubrimiento, conquista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lonización (Capitulación de Santa Fe 1492, de H.Cort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 Pizarro, etc.)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a Hueste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y la capitu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2.-</a:t>
            </a:r>
            <a:r>
              <a:rPr b="1" lang="es-ES" sz="2400" spc="-1" strike="noStrike" u="sng">
                <a:solidFill>
                  <a:srgbClr val="990000"/>
                </a:solidFill>
                <a:uFillTx/>
                <a:latin typeface="Arial"/>
              </a:rPr>
              <a:t>Bulas Pontificias de donación de 149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)  Dominio sobre tierras e islas descubiertas y 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scubrir dentro de la demarcación de 100 lgs. 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. de las Islas Azores y Cabo Ver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)  Exclusiva de navegación en los mares dentro de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ínea demarc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)  Dominio de las riquezas, suelo y subsue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)  Investidura sobre las tierras descubiertas y p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scubrir dentro de la línea demarc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3.- </a:t>
            </a:r>
            <a:r>
              <a:rPr b="1" lang="es-ES" sz="2400" spc="-1" strike="noStrike" u="sng">
                <a:solidFill>
                  <a:srgbClr val="990000"/>
                </a:solidFill>
                <a:uFillTx/>
                <a:latin typeface="Arial"/>
              </a:rPr>
              <a:t>Tratado de Tordesillas, 1494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rre la línea demarcatoria 370 leguas al O.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s Islas Azores y Cabo Ve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siglo 16"/>
          <p:cNvPicPr/>
          <p:nvPr/>
        </p:nvPicPr>
        <p:blipFill>
          <a:blip r:embed="rId1"/>
          <a:stretch/>
        </p:blipFill>
        <p:spPr>
          <a:xfrm>
            <a:off x="706320" y="1673280"/>
            <a:ext cx="7729560" cy="47800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poca de los descubrimi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antillas"/>
          <p:cNvPicPr/>
          <p:nvPr/>
        </p:nvPicPr>
        <p:blipFill>
          <a:blip r:embed="rId1"/>
          <a:stretch/>
        </p:blipFill>
        <p:spPr>
          <a:xfrm>
            <a:off x="1393920" y="1724040"/>
            <a:ext cx="6778440" cy="46576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6"/>
          <p:cNvSpPr/>
          <p:nvPr/>
        </p:nvSpPr>
        <p:spPr>
          <a:xfrm>
            <a:off x="8380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ntillas . descubrimi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0" y="0"/>
            <a:ext cx="9144000" cy="81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" sz="2400" spc="-1" strike="noStrike" u="sng">
                <a:solidFill>
                  <a:srgbClr val="cc3300"/>
                </a:solidFill>
                <a:uFillTx/>
                <a:latin typeface="Arial"/>
              </a:rPr>
              <a:t>POLEMICAS DE INDIAS -1511 – 1570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.- Junta de Burgos de 15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) Acuerdos de Bur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) Leyes de Bur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) Requerimiento de J. López de Palacios Ru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.- Bula Sublimis Deus 153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3.- Justos títulos de expansión de F. Vitoria 153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) Libre circulación de los pueb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) Libre consentimiento de la comun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) Guerra justa sólo si es defens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4.- Junta de Valladolid 1542  (Las casas / Ginés de Sepúlve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) Acoge el título de libre circulación de los pueb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) Acoge el principio de la guerra defensiva como ju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) Dictación  de Las Leyes Nue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5.- Junta de Valladolid 1551 (Las Casas /Ginés de Sepúlve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0" y="111240"/>
            <a:ext cx="9144000" cy="64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Arial"/>
              </a:rPr>
              <a:t>Contenido de los Acuerdos y Leyes de Burgos de 1512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.-Acuerdos de Burg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) Los indios son seres humanos racionales destinados a la salv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y sólo regidos por el derecho natu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) Los indígenas pueden ser obligados a trabaj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) Se les debe pagar salario por el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) Condiciones de trabajo compatibles con su condición humana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gulada por la l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) Evangelización de los indios para lograr conversión volunt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) Deben vivir en comunicación con los españo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) Se declaran válidas las Bulas Papales como títulos justos pre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tificación  a los indios del poder del Pap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.- Leyes de Burg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) Trato en el trabajo en las encomien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) Reducción de los indios a pueb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) Mecanismos de control de encomienda y legis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obre los indios: Protector de indios; visita de 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comiend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5"/>
          <p:cNvSpPr/>
          <p:nvPr/>
        </p:nvSpPr>
        <p:spPr>
          <a:xfrm>
            <a:off x="0" y="63360"/>
            <a:ext cx="9144000" cy="69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3300"/>
                </a:solidFill>
                <a:uFillTx/>
                <a:latin typeface="Arial"/>
              </a:rPr>
              <a:t>Encomienda americana.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ncepto jurídico: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cesión real del tributo debido al rey por un número determinado de indígenas en beneficio de un  español benemérito de Ind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comienda antill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Evolució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a encomiend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comienda de tribu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Regulación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a)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ey de 150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os indios son súbditos libres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Corona sometidos al pago de tribu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eyes de Burgos de 151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gula 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comiendas, el trato en el trabaj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reducción a pueblos ,las visitas y 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tectores de ind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 )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eyes Nuevas de 154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:  supresión de 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comien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eyes sobre tasación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de tributo de los indi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asación de tributos y  jornal, monto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uperior al anterior; según condic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 cada lugar, prohibe servicio pers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3059280" y="1413000"/>
            <a:ext cx="72720" cy="1008000"/>
          </a:xfrm>
          <a:custGeom>
            <a:avLst/>
            <a:gdLst>
              <a:gd name="textAreaLeft" fmla="*/ 21240 w 72720"/>
              <a:gd name="textAreaRight" fmla="*/ 73080 w 72720"/>
              <a:gd name="textAreaTop" fmla="*/ 41760 h 1008000"/>
              <a:gd name="textAreaBottom" fmla="*/ 96624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2:51:22Z</dcterms:created>
  <dc:creator>mfigueroa</dc:creator>
  <dc:description/>
  <dc:language>en-US</dc:language>
  <cp:lastModifiedBy>lucarna16</cp:lastModifiedBy>
  <dcterms:modified xsi:type="dcterms:W3CDTF">2008-08-18T21:37:14Z</dcterms:modified>
  <cp:revision>12</cp:revision>
  <dc:subject/>
  <dc:title>Diapositiva 1</dc:title>
</cp:coreProperties>
</file>