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307-CFA5-49D5-9C59-DDF7D14B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C5B-0C70-4045-853C-178C18A2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4B8-1732-421B-A5DF-B56C6DE2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111-692D-4361-ACDD-5E21EDA7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5F5-C5A7-44FF-829E-89E69632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261-359C-4E75-8787-9BFA29C9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066-1BC2-44B6-ACB8-CC44F11F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EF6-ACE9-4CB8-91EC-CDF61FC5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908-33D5-46F0-A0DC-AB789AD9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76C-D283-4533-B10B-4A620ED1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660-2B56-4ECB-9B5C-22461BE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412-3707-49AC-81AC-D4C3290C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81ED-B5B7-4FE3-8EEB-E0B3E658B1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082080" cy="6800040"/>
          </a:xfrm>
          <a:prstGeom prst="rect">
            <a:avLst/>
          </a:prstGeom>
          <a:solidFill>
            <a:srgbClr val="fff2e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Tiempos Modernos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: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Siglos XVI al XVIII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Proyección del derecho de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Castilla al Nuevo Mundo, derecho indiano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La gestación de una nueva cosmovisión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1800" spc="-1" strike="noStrike" u="sng">
                <a:solidFill>
                  <a:srgbClr val="cc6600"/>
                </a:solidFill>
                <a:uFillTx/>
                <a:latin typeface="Arial"/>
              </a:rPr>
              <a:t>Características ge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1.- Expansión europea hacia Africa y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2.-Quiebre de la bases filosóficas, científicas y jurídicas del Medioe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3.- Ruptura de la unidad religiosa de Occidente en torno al catol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4.- Consolidación del capitalismo comer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5.- Consolidación de las monarquías autónomas  y desarrollo del absolu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6.- Inicio del proceso de inserción de América en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7.- La proyección del jus commune al Nuevo Mundo a travé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8.-La revitalización de la concepción jusnaturalista católica y su enfre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on los supuestos del jus comm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9.- Gestación del racionalismo e inicio ideológico de la Moder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680" y="0"/>
            <a:ext cx="933084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( 2 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Santillán 1559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1/6 de lo produ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go tributo en servicio personal; regula trato en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bajo del encomendado,organización puebl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os, mita y repartimiento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Gamboa.1580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 el tributo y el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ario, prohibe el servicio personal, pago de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sacion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en dinero, regula trato en el trabajo, organización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l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Esquilach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1620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real general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érica, Tasa tributo y jornal, hace voluntario el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en servicio personal, regula el trato,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Laso de la Veg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635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el tributo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jornal, permite el pago voluntario en servicio,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nero o especies, regula mita repartimien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2050920" y="765000"/>
            <a:ext cx="73080" cy="5616720"/>
          </a:xfrm>
          <a:custGeom>
            <a:avLst/>
            <a:gdLst>
              <a:gd name="textAreaLeft" fmla="*/ 21240 w 73080"/>
              <a:gd name="textAreaRight" fmla="*/ 73440 w 73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Estatutos jurídicos de la población en 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Principio que sustenta la estructura socia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desigualdad jurídica con base r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Grupos con estatutos diferenciados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Peninsulares americanos y crio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Indígenas 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Mest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Escla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Diferencias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normas jurídicas que los rigen; capacidad jurídica; tributación; oficios, trabajos o actividades económicas permitidas; distinta inserción en los beneficios de la estructur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Facultad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storia del Derecho II –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Seminario: “El quiebre institucional de 189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Instrucciones para el desarrollo del seminario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tema debe ser preparado por los alumnos asignados de acuerdo a la pauta de desarrollo que se indica en cada caso.  El material bibliográfico suficiente para preparar la exposición y participación en el seminario se encuentra en un folleto que está a su disposición en la Biblioteca Central. Cada alumno será responsable de elaborar una presentación oral sobre el tema asignado, deberá dirigir los debates relativos a su exposición y participar en la discusión de los otros temas que se expongan en las reuniones sigu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valuación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da alumno tendrá tres notas, se evaluará: a) la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ividual, 50% ; b ) la participación en el debate posterior a las exposicio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gún el número y calidad de las intervenciones, 25%;  c) prueba escrita br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el contenido esencial del seminario; 25%. En consideración a qu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ta de un tema sobre el cual hay interpretaciones diversas, la evaluación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ntrará  en el conocimiento y comprensión de las materias y las destre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exponer y argumentar sobre los temas discutidos, prescindiendo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ón que el alumno adop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50920" y="135000"/>
            <a:ext cx="88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Elementos formativos de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Siglos XVI a X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A la influencia ejercida en la formación del derecho occidental por el elemento romano, canónico, germano y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 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se agregan a partir del siglo XVI los sigu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Elemen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Concepción católic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Concepción racionalist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Positivism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Concepciones socialistas sobre el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260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JUSTOS TITULOS DE EXPANSIÓN SEGÚN  LA DOCTRINA DEL  IUS COM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La doctrina del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 creó ciertos títulos a los que asignó validez como justificativos de expansión en beneficio de “príncipes cristianos”.Textos legales de algunos estados recepcionaron estas normas doctrinales como es el caso del Código de las Si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Partidas en el reino de Cast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Matrimon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heredero (a) del reino (se adquiere el título y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 el reino del  cónyuge o lo adquiere el hijo d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Her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diversos reinos se vinculan si son heredados por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sma  perso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Elección por la comunida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Se trata de ratificación posterior a o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ch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cesión Pontifi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opera sobre tierras de infieles a prín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y sobre tierras de príncipes cristianos excomulgad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empre respecto de príncipes cristianos que acepten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mporal 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quista u ocupación milit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 tierras de infieles y sobre tierras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 siempre que concurran otros títu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Descubrimiento y toma de poses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ierras despob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-36360"/>
            <a:ext cx="91440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Bases jurídicas de la expansión castellana</a:t>
            </a:r>
            <a:r>
              <a:rPr b="1" lang="es-ES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Capitul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descubrimiento, conquist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lonización (Capitulación de Santa Fe 1492, de H.Cor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Pizarro, etc.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Huest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la capit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2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Bulas Pontificias de donación de 14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 Dominio sobre tierras e islas descubiertas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demarcación de 100 lgs.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. de las Islas Azores y Cabo Ve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 Exclusiva de navegación en los mares dentr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 Dominio de las riquezas, suelo y sub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)  Investidura sobre las tierras descubiertas y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3.- 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Tratado de Tordesillas, 1494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rre la línea demarcatoria 370 leguas al O.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Islas Azores y Cabo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iglo 16"/>
          <p:cNvPicPr/>
          <p:nvPr/>
        </p:nvPicPr>
        <p:blipFill>
          <a:blip r:embed="rId1"/>
          <a:stretch/>
        </p:blipFill>
        <p:spPr>
          <a:xfrm>
            <a:off x="706320" y="1673280"/>
            <a:ext cx="7729560" cy="4780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poc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tillas"/>
          <p:cNvPicPr/>
          <p:nvPr/>
        </p:nvPicPr>
        <p:blipFill>
          <a:blip r:embed="rId1"/>
          <a:stretch/>
        </p:blipFill>
        <p:spPr>
          <a:xfrm>
            <a:off x="1393920" y="1724040"/>
            <a:ext cx="6778440" cy="4657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illas .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POLEMICAS DE INDIAS -1511 – 1570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Junta de Burgos de 15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uerdo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ye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querimiento de J. López de Palacios Ru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Bula Sublimis Deus 15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Justos títulos de expansión de F. Vitoria 15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Libre circulación de los pueb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ibre consentimiento de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Guerra justa sólo si es defen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Junta de Valladolid 1542  (Las casas / 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oge el título de libre circulación de los pue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Acoge el principio de la guerra defensiva como ju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Dictación  de Las Leyes Nue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Junta de Valladolid 1551 (Las Casas /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11240"/>
            <a:ext cx="914400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Contenido de los Acuerdos y Leyes de Burgos de 1512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-Acuerdo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Los indios son seres humanos racionales destinados a la sal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sólo regidos por el derecho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Los indígenas pueden ser obligados a trab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Se les debe pagar salario por 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Condiciones de trabajo compatibles con su condición huma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da por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Evangelización de los indios para lograr conversión volu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) Deben vivir en comunicación con los españ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) Se declaran válidas las Bulas Papales como títulos justos pre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tificación  a los indios del poder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Leye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Trato en el trabajo en las 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Reducción de los indios a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Mecanismos de control de encomienda y legis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bre los indios: Protector de indios; visita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0" y="63360"/>
            <a:ext cx="914400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 jurídic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esión real del tributo debido al rey por un número determinado de indígenas en beneficio de un  español benemérito de Ind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antil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volu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encomiend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de 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ul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a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 de 150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dios son súbditos libre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rona sometidos al pago de trib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de Burgos de 151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, el trato en el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reducción a pueblos ,las visitas y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ctores de in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 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Nuevas de 154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 supres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sobre tasa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ributo de los ind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ción de tributos y  jornal, monto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perior al anterior; según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cada lugar, prohibe servicio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059280" y="1413000"/>
            <a:ext cx="72720" cy="1008000"/>
          </a:xfrm>
          <a:custGeom>
            <a:avLst/>
            <a:gdLst>
              <a:gd name="textAreaLeft" fmla="*/ 21240 w 72720"/>
              <a:gd name="textAreaRight" fmla="*/ 73080 w 72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2:51:22Z</dcterms:created>
  <dc:creator>mfigueroa</dc:creator>
  <dc:description/>
  <dc:language>en-US</dc:language>
  <cp:lastModifiedBy>lucarna16</cp:lastModifiedBy>
  <dcterms:modified xsi:type="dcterms:W3CDTF">2008-08-18T21:37:14Z</dcterms:modified>
  <cp:revision>12</cp:revision>
  <dc:subject/>
  <dc:title>Diapositiva 1</dc:title>
</cp:coreProperties>
</file>