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6AD-E2D3-490B-87A9-3EA9E546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9B4-2AE7-4B69-ADBC-8A38940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BF8-D9FB-4FB2-8472-E2940216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E0A-1BB3-406E-BE3B-6077D7B8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8ED-5FC2-4669-949C-840414A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8A4-53DA-40D5-8732-301D005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114-FFEC-471A-8B66-1D3DD40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94C-3FD0-4E52-BA79-38E1AFC4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1E0-CC93-43B7-A904-EE6D0724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9D9-5B46-46CD-AA84-EECDE03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8A7-4881-47DA-9458-4A70DA0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E15-655E-483F-ADB2-3183FE1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4A5-384E-41AD-8D9C-D155FF2CB3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glo 16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tillas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lucarna16</cp:lastModifiedBy>
  <dcterms:modified xsi:type="dcterms:W3CDTF">2008-08-18T21:37:14Z</dcterms:modified>
  <cp:revision>12</cp:revision>
  <dc:subject/>
  <dc:title>Diapositiva 1</dc:title>
</cp:coreProperties>
</file>