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B3E1F-6897-4613-B8B8-77BBAB9FA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D18BF-9AD3-4B26-9E4A-8919549E4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3A75F-F012-4CF4-9EB8-0C909EC6C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79DFD-4722-4FDE-8182-1D10F563E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99085-7BCA-47D0-9C1D-0A934E952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B085A-DC68-4D33-AF96-AB59B4AB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61DC4-8A44-4CC2-A58E-444F644A6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A8F55-1E35-4544-B239-307C21DF3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A825-4021-4569-A80C-8974BBAF6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2851-B48C-4253-A94C-3955003A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7CA9B-8F45-4E36-90F4-98681E0EC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1830F-1D35-4C6D-A429-83497FEC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1B836-4031-4C13-A678-B9AE4CF92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EF027-1232-4222-8F10-BDFA15B81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AB105-AF08-4142-BF1C-66FAF12B6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27595-C0D3-47F1-A840-250F931A5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9F7F2-AE34-4F52-AF37-1B037AB8F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31311-1296-4344-AC86-DD180906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0624-D447-421E-BECF-7F7AC412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6427-EE2C-442F-8D2C-A1DBD0F29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1449C-80CC-4B84-8992-9AE2712F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B51F0-23DE-4D2D-A935-DF2197DB2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10289-7288-4566-8FEB-12298A58C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D935A-073A-4DBB-BF5C-7CFA2FCB5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AFCB-4113-48AD-A182-9BB6F5F0EBC3}"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ECEC-67A3-49BA-A1D2-32A3BFC5F00A}"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cr-net.org/caselaw/caselaw_show.htm?doc_id=400616&amp;attribLang_id=13441" TargetMode="External"/><Relationship Id="rId3" Type="http://schemas.openxmlformats.org/officeDocument/2006/relationships/hyperlink" Target="http://www.escr-net.org/caselaw/caselaw_show.htm?doc_id=400616&amp;attribLang_id=13441" TargetMode="External"/><Relationship Id="rId4" Type="http://schemas.openxmlformats.org/officeDocument/2006/relationships/hyperlink" Target="http://www.escr-net.org/caselaw/caselaw_show.htm?doc_id=400616&amp;attribLang_id=13441" TargetMode="External"/><Relationship Id="rId5" Type="http://schemas.openxmlformats.org/officeDocument/2006/relationships/hyperlink" Target="http://www.escr-net.org/caselaw/caselaw_show.htm?doc_id=400616&amp;attribLang_id=13441" TargetMode="External"/><Relationship Id="rId6" Type="http://schemas.openxmlformats.org/officeDocument/2006/relationships/hyperlink" Target="http://www.escr-net.org/caselaw/caselaw_show.htm?doc_id=400616&amp;attribLang_id=13441" TargetMode="External"/><Relationship Id="rId7" Type="http://schemas.openxmlformats.org/officeDocument/2006/relationships/hyperlink" Target="http://www.escr-net.org/caselaw/caselaw_show.htm?doc_id=400616&amp;attribLang_id=13441" TargetMode="External"/><Relationship Id="rId8" Type="http://schemas.openxmlformats.org/officeDocument/2006/relationships/hyperlink" Target="http://www.escr-net.org/caselaw/caselaw_show.htm?doc_id=400616&amp;attribLang_id=13441" TargetMode="External"/><Relationship Id="rId9" Type="http://schemas.openxmlformats.org/officeDocument/2006/relationships/hyperlink" Target="http://www.escr-net.org/caselaw/caselaw_show.htm?doc_id=400616&amp;attribLang_id=13441" TargetMode="External"/><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00000" y="1341360"/>
            <a:ext cx="6688080" cy="1656000"/>
          </a:xfrm>
          <a:prstGeom prst="rect">
            <a:avLst/>
          </a:prstGeom>
          <a:noFill/>
          <a:ln w="0">
            <a:noFill/>
          </a:ln>
        </p:spPr>
        <p:txBody>
          <a:bodyPr lIns="90000" rIns="90000" tIns="46800" bIns="46800" anchor="t"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400" spc="-1" strike="noStrike">
                <a:solidFill>
                  <a:srgbClr val="545472"/>
                </a:solidFill>
                <a:latin typeface="Tahoma"/>
              </a:rPr>
              <a:t>CONVENIO 169</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Obligaciones asumidas por Chile ante su ratificación. Derechos Territoriales y Conflictos Ambientales.</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Importancia de factores sociales, económicos y culturales.</a:t>
            </a:r>
            <a:r>
              <a:rPr b="0" lang="es-ES" sz="2400" spc="-1" strike="noStrike">
                <a:solidFill>
                  <a:srgbClr val="545472"/>
                </a:solidFill>
                <a:latin typeface="Tahoma"/>
              </a:rPr>
              <a:t> </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37" name=""/>
          <p:cNvSpPr/>
          <p:nvPr/>
        </p:nvSpPr>
        <p:spPr>
          <a:xfrm>
            <a:off x="2195640" y="4508640"/>
            <a:ext cx="446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ANCY YAÑEZ</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bservatorio Ciudadano</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eleva la Diversidad Cultural a la categoría de patrimonio común de la humanidad y levanta su defensa como imperativo ético indisociable del respeto a la dignidad humana</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Relación diversidad cultural y desarrollo</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sobre la Diversidad Cultural constata que la cultura se encuentra en el centro de los debates contemporáneos sobre: identidad, cohesión social y el desarrollo de una economía fundada en el sab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La Diversidad Cultural es un factor de Desarrollo</a:t>
            </a:r>
            <a:endParaRPr b="0" lang="en-US" sz="40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de esta perspectiva se entiende no sólo en término de crecimiento económico, sino también como medio de acceso a una existencia intelectual, afectiva, moral y espiritual satisfactoria (art. 3)</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sobre los recursos naturales para asegurar condiciones de existencia digna</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En el párrafo 2 del artículo 1 del Pacto de Derechos Civiles y Políticos y del Pacto de Derechos Económicos, Sociales y Culturales, se reconoce el derecho de los Pueblos a que </a:t>
            </a:r>
            <a:r>
              <a:rPr b="0" i="1" lang="es-ES_tradnl" sz="3200" spc="-1" strike="noStrike">
                <a:solidFill>
                  <a:srgbClr val="545472"/>
                </a:solidFill>
                <a:latin typeface="Tahoma"/>
              </a:rPr>
              <a:t>puedan disponer libremente de sus riquezas y recursos naturales, y que no se les prive de sus medios de subsistencia. </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 un  nivel de vida adecuado</a:t>
            </a:r>
            <a:endParaRPr b="0" lang="en-US" sz="4000" spc="-1" strike="noStrike">
              <a:solidFill>
                <a:srgbClr val="660066"/>
              </a:solidFill>
              <a:latin typeface="Tahoma"/>
            </a:endParaRPr>
          </a:p>
        </p:txBody>
      </p:sp>
      <p:sp>
        <p:nvSpPr>
          <p:cNvPr id="156"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artículo 11 del Pacto de Derechos Económicos, Sociales y Culturales incorpora una amplia gama de aspectos relacionados con la vida y el sustento de las personas. En lo pertinente se pronuncia sobre el derecho a la alimentación y a una mejora continua de las condiciones de existenci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mité de Derechos Humanos (PDCP)</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Comité de Derechos Humanos de la ONU ha tenido ocasión de pronunciarse respecto a situaciones en que se ha denunciado la violación del artículo 27 del Pacto de Derechos Civiles y Políticos y por esta vía ha protegido Derechos Económicos, Sociales y Culturales reconociendo que el respeto a las actividades económicas tradicionales garantiza el respeto a la cultura y la supervivencia de grupos culturalmente diferenci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octrina PDCP, art. 27</a:t>
            </a:r>
            <a:endParaRPr b="0" lang="en-US" sz="4400" spc="-1" strike="noStrike">
              <a:solidFill>
                <a:srgbClr val="660066"/>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Así por ejemplo, en el caso denominado "</a:t>
            </a:r>
            <a:r>
              <a:rPr b="0" i="1" lang="es-ES" sz="2400" spc="-1" strike="noStrike">
                <a:solidFill>
                  <a:srgbClr val="545472"/>
                </a:solidFill>
                <a:latin typeface="Tahoma"/>
              </a:rPr>
              <a:t>Ominayak y el Grupo del Lago Lubicón contra Canadá</a:t>
            </a:r>
            <a:r>
              <a:rPr b="0" lang="es-ES" sz="2400" spc="-1" strike="noStrike">
                <a:solidFill>
                  <a:srgbClr val="545472"/>
                </a:solidFill>
                <a:latin typeface="Tahoma"/>
              </a:rPr>
              <a:t>" se determinó en 1990 que "los derechos protegidos por el artículo 27 incluyen los derechos de las personas, en comunidad con otros, para comprometerse en actividades económicas y sociales que son parte de la cultura de la comunidad a la cual pertenecen". El Comité reconoció que la subsistencia y actividades económicas tradicionales de los pueblos indígenas son parte integrante de su cultura, y que la interferencia con esas actividades, en ciertos casos, podía ser perjudicial para su integridad cultural y supervivencia.</a:t>
            </a: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ea typeface="Times New Roman"/>
              </a:rPr>
              <a:t>E</a:t>
            </a:r>
            <a:r>
              <a:rPr b="0" lang="es-ES" sz="4400" spc="-1" strike="noStrike">
                <a:solidFill>
                  <a:srgbClr val="660066"/>
                </a:solidFill>
                <a:latin typeface="Tahoma"/>
                <a:ea typeface="Times New Roman"/>
              </a:rPr>
              <a:t>l Convenio sobre Diversidad Biológic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45472"/>
                </a:solidFill>
                <a:latin typeface="Tahoma"/>
                <a:ea typeface="Times New Roman"/>
              </a:rPr>
              <a:t>A</a:t>
            </a:r>
            <a:r>
              <a:rPr b="0" lang="es-ES" sz="2800" spc="-1" strike="noStrike">
                <a:solidFill>
                  <a:srgbClr val="545472"/>
                </a:solidFill>
                <a:latin typeface="Tahoma"/>
                <a:ea typeface="Times New Roman"/>
              </a:rPr>
              <a:t>rtículo 8, inciso j, impone a los Estados una obligación específica de  respetar, preservar y mantener los conocimientos, las innovaciones y las prácticas de las comunidades indígenas y locales que entrañen estilos tradicionales de vida pertinentes para la conservación y la utilización sostenible de la diversidad biológica</a:t>
            </a:r>
            <a:r>
              <a:rPr b="0" lang="es-ES" sz="2800" spc="-1" strike="noStrike">
                <a:solidFill>
                  <a:srgbClr val="545472"/>
                </a:solidFill>
                <a:latin typeface="Tahoma"/>
              </a:rPr>
              <a:t> </a:t>
            </a:r>
            <a:r>
              <a:rPr b="0" lang="es-MX" sz="2800" spc="-1" strike="noStrike">
                <a:solidFill>
                  <a:srgbClr val="545472"/>
                </a:solidFill>
                <a:latin typeface="Tahoma"/>
              </a:rPr>
              <a:t>con participació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Tahoma"/>
              </a:rPr>
              <a:t>Convenio 169: Libre determinación autonomía y autogobierno</a:t>
            </a:r>
            <a:endParaRPr b="0" lang="en-US" sz="3600" spc="-1" strike="noStrike">
              <a:solidFill>
                <a:srgbClr val="660066"/>
              </a:solidFill>
              <a:latin typeface="Tahoma"/>
            </a:endParaRPr>
          </a:p>
        </p:txBody>
      </p:sp>
      <p:sp>
        <p:nvSpPr>
          <p:cNvPr id="164" name="PlaceHolder 2"/>
          <p:cNvSpPr>
            <a:spLocks noGrp="1"/>
          </p:cNvSpPr>
          <p:nvPr>
            <p:ph/>
          </p:nvPr>
        </p:nvSpPr>
        <p:spPr>
          <a:xfrm>
            <a:off x="468360" y="1562040"/>
            <a:ext cx="8229600" cy="4530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Consulta: Al aplicar las disposiciones del Convenio los gobiernos deberán consultar a los pueblos interesados, mediante procedimientos apropiados y en particular a través de sus instituciones representativas, cada vez que se prevean medidas legislativas o administrativas susceptibles de afectarles directamente (art. 6)</a:t>
            </a:r>
            <a:endParaRPr b="0" lang="en-US" sz="2400" spc="-1" strike="noStrike">
              <a:solidFill>
                <a:srgbClr val="545472"/>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Derecho a decidir sus propias prioridades</a:t>
            </a:r>
            <a:endParaRPr b="0" lang="en-US" sz="2400" spc="-1" strike="noStrike">
              <a:solidFill>
                <a:srgbClr val="545472"/>
              </a:solidFill>
              <a:latin typeface="Tahoma"/>
            </a:endParaRPr>
          </a:p>
          <a:p>
            <a:pPr marL="318960" indent="-3189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 </a:t>
            </a:r>
            <a:r>
              <a:rPr b="0" lang="es-CL" sz="2400" spc="-1" strike="noStrike">
                <a:solidFill>
                  <a:srgbClr val="545472"/>
                </a:solidFill>
                <a:latin typeface="Tahoma"/>
              </a:rPr>
              <a:t>en lo que atañe el proceso de desarrollo en la medida que esto afecte a sus vidas, creencias, instituciones y bienestar espiritual y alas tierras que ocupan o utilizan de alguna manera, y de controlar, en la medida de lo posible, su propio desarrollo económico, social y cultural (art. 7.1)</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Desarrollo</a:t>
            </a: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iminación de diferencias socio económicas (2.2 c)</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 a decidir sus prioridades en materia de desarrollo (7.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joramiento de condiciones de vida (7.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mayoría de los países en vías de desarrollo están promoviendo economías de rápido crecimiento, fuertemente dependientes de la explotación de recursos naturales, lo que genera graves impactos ambientales, la erosión de ecosistema y el descenso de la calidad de vida de aquellos que habitan en los territorios de mayor riqueza ambiental.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Territorio, tierras y recursos naturales</a:t>
            </a:r>
            <a:endParaRPr b="0" lang="en-US" sz="3200" spc="-1" strike="noStrike">
              <a:solidFill>
                <a:srgbClr val="660066"/>
              </a:solidFill>
              <a:latin typeface="Tahoma"/>
            </a:endParaRPr>
          </a:p>
        </p:txBody>
      </p:sp>
      <p:sp>
        <p:nvSpPr>
          <p:cNvPr id="168" name="PlaceHolder 2"/>
          <p:cNvSpPr>
            <a:spLocks noGrp="1"/>
          </p:cNvSpPr>
          <p:nvPr>
            <p:ph/>
          </p:nvPr>
        </p:nvSpPr>
        <p:spPr>
          <a:xfrm>
            <a:off x="685800" y="1125360"/>
            <a:ext cx="7772400" cy="4114800"/>
          </a:xfrm>
          <a:prstGeom prst="rect">
            <a:avLst/>
          </a:prstGeom>
          <a:noFill/>
          <a:ln w="0">
            <a:noFill/>
          </a:ln>
        </p:spPr>
        <p:txBody>
          <a:bodyPr lIns="90000" rIns="90000" tIns="46800" bIns="46800" anchor="t">
            <a:normAutofit fontScale="79000"/>
          </a:bodyPr>
          <a:p>
            <a:pPr marL="270720" indent="-27072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545472"/>
                </a:solidFill>
                <a:latin typeface="Tahoma"/>
              </a:rPr>
              <a:t>Preservación del medio ambiente. Impone</a:t>
            </a:r>
            <a:r>
              <a:rPr b="0" lang="es-ES" sz="2400" spc="-1" strike="noStrike">
                <a:solidFill>
                  <a:srgbClr val="545472"/>
                </a:solidFill>
                <a:latin typeface="Tahoma"/>
              </a:rPr>
              <a:t> a los Estados la obligación de adoptar medidas para proteger el medio ambiente </a:t>
            </a:r>
            <a:r>
              <a:rPr b="0" lang="es-MX" sz="2400" spc="-1" strike="noStrike">
                <a:solidFill>
                  <a:srgbClr val="545472"/>
                </a:solidFill>
                <a:latin typeface="Tahoma"/>
              </a:rPr>
              <a:t>indígena</a:t>
            </a:r>
            <a:r>
              <a:rPr b="0" lang="es-ES" sz="2400" spc="-1" strike="noStrike">
                <a:solidFill>
                  <a:srgbClr val="545472"/>
                </a:solidFill>
                <a:latin typeface="Tahoma"/>
              </a:rPr>
              <a:t> (4.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Concepto de territorio de modo de incluir la totalidad del hábitat indígena (13.2)</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Protección de la relación material y espiritual con la tierra (13.1)</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erecho de propiedad,  posesión y utilización de las tierras que ocupan (14) Determinación y Reivindicación de tierras (14.2 y 14.3)</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Reconoce el derecho de subsistencia, (23); la protección de los recursos naturales (15.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s medidas para proteger y preservar los territorios de los pueblos indígenas en caso de explotación por terceros de Recursos Naturales (15.2) a través de: </a:t>
            </a:r>
            <a:r>
              <a:rPr b="0" lang="es-MX" sz="2400" spc="-1" strike="noStrike">
                <a:solidFill>
                  <a:srgbClr val="545472"/>
                </a:solidFill>
                <a:latin typeface="Tahoma"/>
              </a:rPr>
              <a:t>Consulta de buena fe, </a:t>
            </a:r>
            <a:r>
              <a:rPr b="0" lang="es-ES" sz="2400" spc="-1" strike="noStrike">
                <a:solidFill>
                  <a:srgbClr val="545472"/>
                </a:solidFill>
                <a:latin typeface="Tahoma"/>
              </a:rPr>
              <a:t>participación en los beneficios de la explotación y la compensación por los daños.</a:t>
            </a:r>
            <a:endParaRPr b="0" lang="en-US" sz="2400" spc="-1" strike="noStrike">
              <a:solidFill>
                <a:srgbClr val="545472"/>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rotección del Medio Ambiente</a:t>
            </a: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protección del Medio Ambiente indígena </a:t>
            </a:r>
            <a:r>
              <a:rPr b="0" lang="es-MX" sz="2800" spc="-1" strike="noStrike">
                <a:solidFill>
                  <a:srgbClr val="545472"/>
                </a:solidFill>
                <a:latin typeface="Tahoma"/>
              </a:rPr>
              <a:t>conforme</a:t>
            </a:r>
            <a:r>
              <a:rPr b="0" lang="es-ES" sz="2800" spc="-1" strike="noStrike">
                <a:solidFill>
                  <a:srgbClr val="545472"/>
                </a:solidFill>
                <a:latin typeface="Tahoma"/>
              </a:rPr>
              <a:t> </a:t>
            </a:r>
            <a:r>
              <a:rPr b="0" lang="es-MX" sz="2800" spc="-1" strike="noStrike">
                <a:solidFill>
                  <a:srgbClr val="545472"/>
                </a:solidFill>
                <a:latin typeface="Tahoma"/>
              </a:rPr>
              <a:t>a</a:t>
            </a:r>
            <a:r>
              <a:rPr b="0" lang="es-ES" sz="2800" spc="-1" strike="noStrike">
                <a:solidFill>
                  <a:srgbClr val="545472"/>
                </a:solidFill>
                <a:latin typeface="Tahoma"/>
              </a:rPr>
              <a:t>l Convenio 169 </a:t>
            </a:r>
            <a:r>
              <a:rPr b="0" lang="es-MX" sz="2800" spc="-1" strike="noStrike">
                <a:solidFill>
                  <a:srgbClr val="545472"/>
                </a:solidFill>
                <a:latin typeface="Tahoma"/>
              </a:rPr>
              <a:t>impone a</a:t>
            </a:r>
            <a:r>
              <a:rPr b="0" lang="es-ES" sz="2800" spc="-1" strike="noStrike">
                <a:solidFill>
                  <a:srgbClr val="545472"/>
                </a:solidFill>
                <a:latin typeface="Tahoma"/>
              </a:rPr>
              <a:t> los gobiernos </a:t>
            </a:r>
            <a:r>
              <a:rPr b="0" lang="es-MX" sz="2800" spc="-1" strike="noStrike">
                <a:solidFill>
                  <a:srgbClr val="545472"/>
                </a:solidFill>
                <a:latin typeface="Tahoma"/>
              </a:rPr>
              <a:t>el deber de</a:t>
            </a:r>
            <a:r>
              <a:rPr b="0" lang="es-ES" sz="2800" spc="-1" strike="noStrike">
                <a:solidFill>
                  <a:srgbClr val="545472"/>
                </a:solidFill>
                <a:latin typeface="Tahoma"/>
              </a:rPr>
              <a:t> respetar la importancia especial que para las culturas y valores espirituales de los pueblos interesados reviste su relación con las tierras o territorios, o con ambos, que ocupan o utilizan de alguna otra manera, y en particular los aspectos colectivos de esa relación (13.1)</a:t>
            </a:r>
            <a:endParaRPr b="0" lang="en-US" sz="2800" spc="-1" strike="noStrike">
              <a:solidFill>
                <a:srgbClr val="545472"/>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udios de Impacto</a:t>
            </a:r>
            <a:endParaRPr b="0" lang="en-US" sz="4400" spc="-1" strike="noStrike">
              <a:solidFill>
                <a:srgbClr val="660066"/>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os gobiernos deberán velar por que, siempre que haya lugar, se efectúen los estudios, en cooperación con los pueblos interesados, a fin de evaluar la incidencia social, espiritual y cultural y sobre el medio ambiente que las actividades de desarrollo pueden tener sobre estos pueblos. Los resultados de estos estudios deben ser considerados como criterios fundamentales para la ejecución de dichas actividades (7.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icipación</a:t>
            </a:r>
            <a:endParaRPr b="0" lang="en-US" sz="44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general (2.1)</a:t>
            </a:r>
            <a:endParaRPr b="0" lang="en-US" sz="3200" spc="-1" strike="noStrike">
              <a:solidFill>
                <a:srgbClr val="545472"/>
              </a:solidFill>
              <a:latin typeface="Tahoma"/>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toma de decisiones (6.b)</a:t>
            </a:r>
            <a:endParaRPr b="0" lang="en-US" sz="3200" spc="-1" strike="noStrike">
              <a:solidFill>
                <a:srgbClr val="545472"/>
              </a:solidFill>
              <a:latin typeface="Tahoma"/>
            </a:endParaRPr>
          </a:p>
          <a:p>
            <a:pPr marL="315360" indent="-315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arrollo de las Instituciones de los Pueblos Indígenas (6.c)</a:t>
            </a:r>
            <a:endParaRPr b="0" lang="en-US" sz="3200" spc="-1" strike="noStrike">
              <a:solidFill>
                <a:srgbClr val="545472"/>
              </a:solidFill>
              <a:latin typeface="Tahoma"/>
            </a:endParaRPr>
          </a:p>
          <a:p>
            <a:pPr marL="315360" indent="-315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os planes y programas de desarrollo (7.1)</a:t>
            </a:r>
            <a:endParaRPr b="0" lang="en-US" sz="3200" spc="-1" strike="noStrike">
              <a:solidFill>
                <a:srgbClr val="545472"/>
              </a:solidFill>
              <a:latin typeface="Tahoma"/>
            </a:endParaRPr>
          </a:p>
          <a:p>
            <a:pPr marL="315360" indent="-315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utilización de los recursos naturales (15.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ulta</a:t>
            </a:r>
            <a:endParaRPr b="0" lang="en-US" sz="44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para la aplicación del convenio y la adopción de medidas legislativas y administrativas (6.2)</a:t>
            </a:r>
            <a:endParaRPr b="0" lang="en-US" sz="3200" spc="-1" strike="noStrike">
              <a:solidFill>
                <a:srgbClr val="545472"/>
              </a:solidFill>
              <a:latin typeface="Tahoma"/>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l suelo y subsuelo (15.2)</a:t>
            </a:r>
            <a:endParaRPr b="0" lang="en-US" sz="3200" spc="-1" strike="noStrike">
              <a:solidFill>
                <a:srgbClr val="545472"/>
              </a:solidFill>
              <a:latin typeface="Tahoma"/>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caso de enajenación de las tierras (17.2)</a:t>
            </a:r>
            <a:endParaRPr b="0" lang="en-US" sz="3200" spc="-1" strike="noStrike">
              <a:solidFill>
                <a:srgbClr val="545472"/>
              </a:solidFill>
              <a:latin typeface="Tahoma"/>
            </a:endParaRPr>
          </a:p>
          <a:p>
            <a:pPr marL="322200" indent="-32220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materia de planes educativos (28.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nsentimiento Libre, previo e Informado</a:t>
            </a:r>
            <a:endParaRPr b="0" lang="en-US" sz="40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didas a favor de los Pueblos indígenas (bienes, trabajo, cultura y medio ambiente) no deben contrariar los deseos libremente expresados de los Pueblos Indígenas (4.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entimiento en el caso de traslado o reubicación (16.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SC en el Convenio 169</a:t>
            </a: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Participación indígena en la promoción de los DESC (2.b)</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Eliminación de las brechas de capacidades, especialmente socio económicas con otros sectores de la población (2.c y 5.c)</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Mejoramiento de condiciones de vida (7.2)</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Reconoce el derecho de subsistencia (2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rPr>
              <a:t>DESC en la Declaración ONU Derechos Indígenas</a:t>
            </a:r>
            <a:endParaRPr b="0" lang="en-US" sz="4400" spc="-1" strike="noStrike">
              <a:solidFill>
                <a:srgbClr val="660066"/>
              </a:solidFill>
              <a:latin typeface="Tahoma"/>
            </a:endParaRPr>
          </a:p>
        </p:txBody>
      </p:sp>
      <p:sp>
        <p:nvSpPr>
          <p:cNvPr id="18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45472"/>
                </a:solidFill>
                <a:latin typeface="Tahoma"/>
                <a:ea typeface="Times New Roman"/>
              </a:rPr>
              <a:t>Medios de subsistencia</a:t>
            </a:r>
            <a:r>
              <a:rPr b="0" lang="es-ES" sz="2800" spc="-1" strike="noStrike">
                <a:solidFill>
                  <a:srgbClr val="545472"/>
                </a:solidFill>
                <a:latin typeface="Tahoma"/>
                <a:ea typeface="Times New Roman"/>
              </a:rPr>
              <a:t>: Los pueblos indígenas tienen derecho a mantener y desarrollar sus sistemas o instituciones políticas, económicas y sociales a disfrutar de forma segura de sus propios medios de subsistencia y desarrollo, y a dedicarse libremente a sus actividades económicas tradicionales y de otro tipo (artículo 20.1)</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Mejoramiento de condiciones de vida</a:t>
            </a:r>
            <a:endParaRPr b="0" lang="en-US" sz="4000" spc="-1" strike="noStrike">
              <a:solidFill>
                <a:srgbClr val="660066"/>
              </a:solidFill>
              <a:latin typeface="Tahom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os pueblos indígenas tienen derecho, sin discriminación, al mejoramiento de sus condiciones económicas y sociales, entre otras esferas, en la educación, el empleo, la capacitación y el readiestramiento profesionales, la vivienda, el saneamiento, la salud y la seguridad social (art. 2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al consentimiento, previo, libre e informado</a:t>
            </a:r>
            <a:endParaRPr b="0" lang="en-US" sz="4000" spc="-1" strike="noStrike">
              <a:solidFill>
                <a:srgbClr val="660066"/>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Derecho que asiste a los PPII y se ejerce en los siguientes casos: traslado de población; antes de aprobar cualquier proyecto que afecte a sus tierras territorios y otros recursos, particularmente en relación con el desarrollo, la utilización o explotación de recursos minerales, hídricos o de otro tipo; adoptar o aplicar medidas legislativas o administrativas; restitución de bienes confisc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n la región la globalización económica - impuesta a través de los TLCs y BITs y los ajustes estructurales a la legislación interna-  han establecido un marco normativo de promoción de la inversión y protección de los derechos de los inversores, pero no han generado mecanismos adecuados para la exigibilidad y protección de derechos  indígenas </a:t>
            </a:r>
            <a:br>
              <a:rPr sz="2400"/>
            </a:br>
            <a:r>
              <a:rPr b="0" lang="es-ES" sz="2400" spc="-1" strike="noStrike">
                <a:solidFill>
                  <a:srgbClr val="545472"/>
                </a:solidFill>
                <a:latin typeface="Tahoma"/>
              </a:rPr>
              <a:t> </a:t>
            </a:r>
            <a:endParaRPr b="0" lang="en-US" sz="2400" spc="-1" strike="noStrike">
              <a:solidFill>
                <a:srgbClr val="545472"/>
              </a:solidFill>
              <a:latin typeface="Tahoma"/>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es de promoción a la inversión extranjera y leyes sectoriales </a:t>
            </a:r>
            <a:r>
              <a:rPr b="0" lang="es-ES_tradnl" sz="2400" spc="-1" strike="noStrike">
                <a:solidFill>
                  <a:srgbClr val="545472"/>
                </a:solidFill>
                <a:latin typeface="Tahoma"/>
              </a:rPr>
              <a:t>(minería, agua, pesca, bosques, recursos energétic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agua</a:t>
            </a:r>
            <a:endParaRPr b="0" lang="en-US" sz="4400" spc="-1" strike="noStrike">
              <a:solidFill>
                <a:srgbClr val="660066"/>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la importancia del agua en todos los procesos productivos, ha determinado una presión sistemática por incluir el agua en los bienes y servicios abiertos a la inversión extranjera, la que proviene de los inversores, Estados, exportadores de capital y organismos financieros</a:t>
            </a:r>
            <a:r>
              <a:rPr b="0" lang="es-ES"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Asamblea General de las Naciones Unidas, en el año 1999, se ha pronunciado a favor de reconocer que el derecho al agua está en la base del derecho al desarrollo. De esta forma, las Naciones Unidas han posicionado en el debate que el derecho al agua es un derecho económico, social y cultural que debe ser garantizado al amparo del Pacto Internacional de Derechos Económicos Sociales y Culturales (PDESC) de 1966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Comité sobre Derechos Económicos, Sociales y Culturales, en el año 2002, estableció expresamente la relación entre derechos humanos y agua, y otorgó reconocimiento expreso al derecho al agua, adoptando una Observación General sindicada con el N° 15, la que se sustenta en lo dispuesto por los artículos 11 y 12 del PDESC</a:t>
            </a:r>
            <a:r>
              <a:rPr b="1" lang="es-ES_tradnl" sz="2800" spc="-1" strike="noStrike">
                <a:solidFill>
                  <a:srgbClr val="545472"/>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Observación General N° 15 del PDESC, estableció como </a:t>
            </a:r>
            <a:r>
              <a:rPr b="0" lang="es-ES_tradnl" sz="2400" spc="-1" strike="noStrike">
                <a:solidFill>
                  <a:srgbClr val="545472"/>
                </a:solidFill>
                <a:latin typeface="Tahoma"/>
              </a:rPr>
              <a:t>fundamento jurídico del derecho humano al agua, el derecho de todos a disponer de agua suficiente, salubre, aceptable, accesible y asequible para el uso personal y doméstico.  </a:t>
            </a:r>
            <a:endParaRPr b="0" lang="en-US" sz="2400" spc="-1" strike="noStrike">
              <a:solidFill>
                <a:srgbClr val="545472"/>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2200" indent="-3222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observación, además, vincula el ejercicio del derecho al agua, a la obligación establecida en el párrafo 2 del artículo 1 del PIDESC, que dispone que no podrá privarse a un pueblo "</a:t>
            </a:r>
            <a:r>
              <a:rPr b="0" i="1" lang="es-ES_tradnl" sz="2400" spc="-1" strike="noStrike">
                <a:solidFill>
                  <a:srgbClr val="545472"/>
                </a:solidFill>
                <a:latin typeface="Tahoma"/>
              </a:rPr>
              <a:t>de sus propios medios de subsistencia</a:t>
            </a:r>
            <a:r>
              <a:rPr b="0" lang="es-ES_tradnl" sz="2400" spc="-1" strike="noStrike">
                <a:solidFill>
                  <a:srgbClr val="545472"/>
                </a:solidFill>
                <a:latin typeface="Tahoma"/>
              </a:rPr>
              <a:t>", imponiendo a los Estados Partes el deber de garantizar un acceso suficiente al agua para la agricultura de subsistencia y para asegurar la subsistencia en particular de los Pueblos Indígenas</a:t>
            </a: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abe resaltar la consagración de derechos preferentes a comunidades locales rurales sobre sus fuentes tradicionales de agua, salvaguardándola</a:t>
            </a:r>
            <a:r>
              <a:rPr b="0" lang="es-ES" sz="2400" spc="-1" strike="noStrike" u="sng">
                <a:solidFill>
                  <a:srgbClr val="545472"/>
                </a:solidFill>
                <a:uFillTx/>
                <a:latin typeface="Tahoma"/>
              </a:rPr>
              <a:t>s</a:t>
            </a:r>
            <a:r>
              <a:rPr b="0" lang="es-ES" sz="2400" spc="-1" strike="noStrike">
                <a:solidFill>
                  <a:srgbClr val="545472"/>
                </a:solidFill>
                <a:latin typeface="Tahoma"/>
              </a:rPr>
              <a:t> de toda injerencia ilícita y contaminación. Adicionalmente, </a:t>
            </a:r>
            <a:r>
              <a:rPr b="0" lang="es-ES" sz="2400" spc="-1" strike="noStrike" u="sng">
                <a:solidFill>
                  <a:srgbClr val="545472"/>
                </a:solidFill>
                <a:uFillTx/>
                <a:latin typeface="Tahoma"/>
              </a:rPr>
              <a:t>se establece </a:t>
            </a:r>
            <a:r>
              <a:rPr b="0" lang="es-ES" sz="2400" spc="-1" strike="noStrike">
                <a:solidFill>
                  <a:srgbClr val="545472"/>
                </a:solidFill>
                <a:latin typeface="Tahoma"/>
              </a:rPr>
              <a:t>el derecho de los pueblos indígenas para acceder al agua en sus tierras ancestrales, las que también deben ser protegidas de toda transgresión y contaminación ilícitas. Los Estados, deben facilitar recursos para que los </a:t>
            </a:r>
            <a:r>
              <a:rPr b="0" lang="es-ES" sz="2400" spc="-1" strike="noStrike" u="sng">
                <a:solidFill>
                  <a:srgbClr val="545472"/>
                </a:solidFill>
                <a:uFillTx/>
                <a:latin typeface="Tahoma"/>
              </a:rPr>
              <a:t>P</a:t>
            </a:r>
            <a:r>
              <a:rPr b="0" lang="es-ES" sz="2400" spc="-1" strike="noStrike">
                <a:solidFill>
                  <a:srgbClr val="545472"/>
                </a:solidFill>
                <a:latin typeface="Tahoma"/>
              </a:rPr>
              <a:t>ueblos indígenas planifiquen, ejerzan y controlen su acceso al agua. También, se garantizar el derecho preferente de las comunidades nómadas y errantes para acceder al agua potable en sus lugares de acampada tradicionales y designados.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l agua en el Convenio 169</a:t>
            </a:r>
            <a:endParaRPr b="0" lang="en-US" sz="4000" spc="-1" strike="noStrike">
              <a:solidFill>
                <a:srgbClr val="66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 territorio cubre la totalidad del hábitat, por tanto, involucra los recursos hídricos (13.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s sobre los recursos naturales (15.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 recursos del suelo y subsuelo (15.2)</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Yakye Axa vs Paraguay</a:t>
            </a:r>
            <a:br>
              <a:rPr sz="4000"/>
            </a:br>
            <a:r>
              <a:rPr b="0" lang="es-ES_tradnl" sz="2000" spc="-1" strike="noStrike">
                <a:solidFill>
                  <a:srgbClr val="660066"/>
                </a:solidFill>
                <a:latin typeface="Tahoma"/>
              </a:rPr>
              <a:t>En el año 2005 la misma Corte Interamericana, estableció que </a:t>
            </a:r>
            <a:r>
              <a:rPr b="0" lang="es-ES" sz="2000" spc="-1" strike="noStrike">
                <a:solidFill>
                  <a:srgbClr val="660066"/>
                </a:solidFill>
                <a:latin typeface="Tahoma"/>
              </a:rPr>
              <a:t>los derechos territoriales indígenas abarcan un concepto más amplio que está relacionado con el derecho colectivo a la supervivencia como pueblo organizado, con el control de su hábitat como una condición necesaria para la reproducción de su cultura, para su propio desarrollo y para llevar a cabo sus planes de vida. </a:t>
            </a:r>
            <a:br>
              <a:rPr sz="2000"/>
            </a:br>
            <a:endParaRPr b="0" lang="en-US" sz="2000" spc="-1" strike="noStrike">
              <a:solidFill>
                <a:srgbClr val="660066"/>
              </a:solidFill>
              <a:latin typeface="Tahoma"/>
            </a:endParaRPr>
          </a:p>
        </p:txBody>
      </p:sp>
      <p:sp>
        <p:nvSpPr>
          <p:cNvPr id="196" name="PlaceHolder 2"/>
          <p:cNvSpPr>
            <a:spLocks noGrp="1"/>
          </p:cNvSpPr>
          <p:nvPr>
            <p:ph/>
          </p:nvPr>
        </p:nvSpPr>
        <p:spPr>
          <a:xfrm>
            <a:off x="900000" y="3429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l fallo concluye que los miembros de la Comunidad Yakye Axa viven en condiciones de miseria extrema como consecuencia de la falta de tierra y acceso a recursos naturales, y que a consecuencia de ello ven imposibilitado el acceso a una vivienda adecuada dotada de los servicios básicos mínimos, así como  a agua limpia y servicios sanitarios, lo que constituye una infracción por parte del Estado de Paraguay a la luz de los derechos garantizados por la convención. </a:t>
            </a: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7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whoyamaxa vs Paraguay</a:t>
            </a:r>
            <a:endParaRPr b="0" lang="en-US" sz="4400" spc="-1" strike="noStrike">
              <a:solidFill>
                <a:srgbClr val="660066"/>
              </a:solidFill>
              <a:latin typeface="Tahoma"/>
            </a:endParaRPr>
          </a:p>
        </p:txBody>
      </p:sp>
      <p:sp>
        <p:nvSpPr>
          <p:cNvPr id="19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Se reconoce  que la estrecha vinculación de los integrantes de los pueblos indígenas con sus tierras tradicionales y los recursos naturales ligados a su cultura que ahí se encuentren, así como los elementos incorporales que se desprendan de ellos, deben ser salvaguardados por el artículo 21 de la Convención Americana. Se establece que la cultura de los miembros de las comunidades indígenas corresponde a una forma de vida particular de ser, ver y actuar en el mundo, constituido a partir de su estrecha relación con sus tierras tradicionales y recursos naturales, no sólo por ser estos su principal medio de subsistencia, sino además porque constituyen un elemento integrante de su cosmovisión, religiosidad y, por ende, de su identidad cultural.</a:t>
            </a:r>
            <a:endParaRPr b="0" lang="en-US" sz="2400" spc="-1" strike="noStrike">
              <a:solidFill>
                <a:srgbClr val="545472"/>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9595ff"/>
                </a:solidFill>
                <a:uFillTx/>
                <a:latin typeface="Tahoma"/>
                <a:hlinkClick r:id="rId2"/>
              </a:rPr>
              <a:t>Comunidades Mapuche </a:t>
            </a:r>
            <a:r>
              <a:rPr b="0" lang="es-ES" sz="4000" spc="-1" strike="noStrike" u="sng">
                <a:solidFill>
                  <a:srgbClr val="9595ff"/>
                </a:solidFill>
                <a:uFillTx/>
                <a:latin typeface="Tahoma"/>
                <a:hlinkClick r:id="rId3"/>
              </a:rPr>
              <a:t>Paynemil</a:t>
            </a:r>
            <a:r>
              <a:rPr b="0" lang="es-ES" sz="4000" spc="-1" strike="noStrike" u="sng">
                <a:solidFill>
                  <a:srgbClr val="9595ff"/>
                </a:solidFill>
                <a:uFillTx/>
                <a:latin typeface="Tahoma"/>
                <a:hlinkClick r:id="rId4"/>
              </a:rPr>
              <a:t> y </a:t>
            </a:r>
            <a:r>
              <a:rPr b="0" lang="es-ES" sz="4000" spc="-1" strike="noStrike" u="sng">
                <a:solidFill>
                  <a:srgbClr val="9595ff"/>
                </a:solidFill>
                <a:uFillTx/>
                <a:latin typeface="Tahoma"/>
                <a:hlinkClick r:id="rId5"/>
              </a:rPr>
              <a:t>Kaxipayiñ</a:t>
            </a:r>
            <a:r>
              <a:rPr b="0" lang="es-ES" sz="4000" spc="-1" strike="noStrike" u="sng">
                <a:solidFill>
                  <a:srgbClr val="9595ff"/>
                </a:solidFill>
                <a:uFillTx/>
                <a:latin typeface="Tahoma"/>
                <a:hlinkClick r:id="rId6"/>
              </a:rPr>
              <a:t> </a:t>
            </a:r>
            <a:r>
              <a:rPr b="0" lang="es-ES" sz="4000" spc="-1" strike="noStrike" u="sng">
                <a:solidFill>
                  <a:srgbClr val="9595ff"/>
                </a:solidFill>
                <a:uFillTx/>
                <a:latin typeface="Tahoma"/>
                <a:hlinkClick r:id="rId7"/>
              </a:rPr>
              <a:t>vs</a:t>
            </a:r>
            <a:r>
              <a:rPr b="0" lang="es-ES" sz="4000" spc="-1" strike="noStrike" u="sng">
                <a:solidFill>
                  <a:srgbClr val="9595ff"/>
                </a:solidFill>
                <a:uFillTx/>
                <a:latin typeface="Tahoma"/>
                <a:hlinkClick r:id="rId8"/>
              </a:rPr>
              <a:t> Argentina</a:t>
            </a:r>
            <a:r>
              <a:rPr b="0" lang="es-ES" sz="4000" spc="-1" strike="noStrike" u="sng">
                <a:solidFill>
                  <a:srgbClr val="9595ff"/>
                </a:solidFill>
                <a:uFillTx/>
                <a:latin typeface="Tahoma"/>
                <a:hlinkClick r:id="rId9"/>
              </a:rPr>
              <a:t>,</a:t>
            </a:r>
            <a:endParaRPr b="0" lang="en-US" sz="4000" spc="-1" strike="noStrike">
              <a:solidFill>
                <a:srgbClr val="660066"/>
              </a:solidFill>
              <a:latin typeface="Tahoma"/>
            </a:endParaRPr>
          </a:p>
        </p:txBody>
      </p:sp>
      <p:sp>
        <p:nvSpPr>
          <p:cNvPr id="200" name="PlaceHolder 2"/>
          <p:cNvSpPr>
            <a:spLocks noGrp="1"/>
          </p:cNvSpPr>
          <p:nvPr>
            <p:ph/>
          </p:nvPr>
        </p:nvSpPr>
        <p:spPr>
          <a:xfrm>
            <a:off x="685800" y="219384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de Argentina no cumple una sentencia judicial que ordenaba proveer agua potable a una población afectada por consumo de agua contaminada con plomo y mercurio y exigía determinar la existencia de daños y realizar los tratamientos médicos adecuados para su curación. </a:t>
            </a:r>
            <a:endParaRPr b="0" lang="en-US" sz="1600" spc="-1" strike="noStrike">
              <a:solidFill>
                <a:srgbClr val="545472"/>
              </a:solidFill>
              <a:latin typeface="Tahoma"/>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el marco de una audiencia, se llegó a un acuerdo por el cual el Estado Argentino se comprometió a tratar a los niños afectados en el Hospital Gutiérrez de Buenos Aires. También, se acordó que la planta de tratamiento y potabilización de agua que se construía en el lugar, sería monitoreada en su funcionamiento por ambas comunidades mapuche. Por último, el Estado se comprometió a entregar la información que posee acerca de la explotación del yacimiento de Loma de la Lata, en especial de los sitios de los pozos abandonados, piletas de oxidación y tuberías.</a:t>
            </a:r>
            <a:endParaRPr b="0" lang="en-US" sz="1600" spc="-1" strike="noStrike">
              <a:solidFill>
                <a:srgbClr val="545472"/>
              </a:solidFill>
              <a:latin typeface="Tahoma"/>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Argentino no cumplió con el acuerdo de solución. Si bien la CIDH efectuó una visita in loco a Argentina en agosto de 2001 en la que se reunió con las partes y mantuvo dos reuniones de trabajo adicionales (octubre 2001 y agosto 2003), hasta el momento no ha existido mayores avances. La resolución del caso está pendiente.</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ramaka c. Surinam</a:t>
            </a:r>
            <a:endParaRPr b="0" lang="en-US" sz="4400" spc="-1" strike="noStrike">
              <a:solidFill>
                <a:srgbClr val="660066"/>
              </a:solidFill>
              <a:latin typeface="Tahoma"/>
            </a:endParaRPr>
          </a:p>
        </p:txBody>
      </p:sp>
      <p:sp>
        <p:nvSpPr>
          <p:cNvPr id="202" name="PlaceHolder 2"/>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antes de dar concesiones que en la practica van a restringir de algún modo los derechos territoriales o el modo de vida de los pueblos, los estados están obligados a asegurar </a:t>
            </a:r>
            <a:r>
              <a:rPr b="1" lang="es-ES" sz="1600" spc="-1" strike="noStrike">
                <a:solidFill>
                  <a:srgbClr val="545472"/>
                </a:solidFill>
                <a:latin typeface="Tahoma"/>
              </a:rPr>
              <a:t>3 garantías</a:t>
            </a:r>
            <a:r>
              <a:rPr b="0" lang="es-ES" sz="1600" spc="-1" strike="noStrike">
                <a:solidFill>
                  <a:srgbClr val="545472"/>
                </a:solidFill>
                <a:latin typeface="Tahoma"/>
              </a:rPr>
              <a:t>: </a:t>
            </a:r>
            <a:endParaRPr b="0" lang="en-US" sz="1600" spc="-1" strike="noStrike">
              <a:solidFill>
                <a:srgbClr val="545472"/>
              </a:solidFill>
              <a:latin typeface="Tahoma"/>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1. La </a:t>
            </a:r>
            <a:r>
              <a:rPr b="1" lang="es-ES" sz="1600" spc="-1" strike="noStrike">
                <a:solidFill>
                  <a:srgbClr val="545472"/>
                </a:solidFill>
                <a:latin typeface="Tahoma"/>
              </a:rPr>
              <a:t>participación efectiva</a:t>
            </a:r>
            <a:r>
              <a:rPr b="0" lang="es-ES" sz="1600" spc="-1" strike="noStrike">
                <a:solidFill>
                  <a:srgbClr val="545472"/>
                </a:solidFill>
                <a:latin typeface="Tahoma"/>
              </a:rPr>
              <a:t> de los PI en los planes de inversión o desarrollo</a:t>
            </a:r>
            <a:endParaRPr b="0" lang="en-US" sz="1600" spc="-1" strike="noStrike">
              <a:solidFill>
                <a:srgbClr val="545472"/>
              </a:solidFill>
              <a:latin typeface="Tahoma"/>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2. </a:t>
            </a:r>
            <a:r>
              <a:rPr b="1" lang="es-ES" sz="1600" spc="-1" strike="noStrike">
                <a:solidFill>
                  <a:srgbClr val="545472"/>
                </a:solidFill>
                <a:latin typeface="Tahoma"/>
              </a:rPr>
              <a:t>Beneficios razonables</a:t>
            </a:r>
            <a:r>
              <a:rPr b="0" lang="es-ES" sz="1600" spc="-1" strike="noStrike">
                <a:solidFill>
                  <a:srgbClr val="545472"/>
                </a:solidFill>
                <a:latin typeface="Tahoma"/>
              </a:rPr>
              <a:t> para los PI</a:t>
            </a:r>
            <a:endParaRPr b="0" lang="en-US" sz="1600" spc="-1" strike="noStrike">
              <a:solidFill>
                <a:srgbClr val="545472"/>
              </a:solidFill>
              <a:latin typeface="Tahoma"/>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3. </a:t>
            </a:r>
            <a:r>
              <a:rPr b="1" lang="es-ES" sz="1600" spc="-1" strike="noStrike">
                <a:solidFill>
                  <a:srgbClr val="545472"/>
                </a:solidFill>
                <a:latin typeface="Tahoma"/>
              </a:rPr>
              <a:t>Estudios de impacto</a:t>
            </a:r>
            <a:r>
              <a:rPr b="0" lang="es-ES" sz="1600" spc="-1" strike="noStrike">
                <a:solidFill>
                  <a:srgbClr val="545472"/>
                </a:solidFill>
                <a:latin typeface="Tahoma"/>
              </a:rPr>
              <a:t> ambiental y social </a:t>
            </a:r>
            <a:r>
              <a:rPr b="1" lang="es-ES" sz="1600" spc="-1" strike="noStrike">
                <a:solidFill>
                  <a:srgbClr val="545472"/>
                </a:solidFill>
                <a:latin typeface="Tahoma"/>
              </a:rPr>
              <a:t>técnicos e independientes</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una interpretación progresiva, la Corte analiza los derechos de participación efectiva desde los planes de inversión o desarrollo, el derecho de consulta previa, como un proceso comunicativo continuo, y el derecho al consentimiento previo, libre e informado, como </a:t>
            </a:r>
            <a:r>
              <a:rPr b="1" lang="es-ES" sz="1600" spc="-1" strike="noStrike">
                <a:solidFill>
                  <a:srgbClr val="545472"/>
                </a:solidFill>
                <a:latin typeface="Tahoma"/>
              </a:rPr>
              <a:t>salvaguardas </a:t>
            </a:r>
            <a:r>
              <a:rPr b="0" lang="es-ES" sz="1600" spc="-1" strike="noStrike">
                <a:solidFill>
                  <a:srgbClr val="545472"/>
                </a:solidFill>
                <a:latin typeface="Tahoma"/>
              </a:rPr>
              <a:t>necesarias que los estados están obligados a cumplir antes de cualquier concesión. </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por ejemplo, en los casos de planes de desarrollo o inversión de gran escala (</a:t>
            </a:r>
            <a:r>
              <a:rPr b="1" lang="es-ES" sz="1600" spc="-1" strike="noStrike">
                <a:solidFill>
                  <a:srgbClr val="545472"/>
                </a:solidFill>
                <a:latin typeface="Tahoma"/>
              </a:rPr>
              <a:t>megaproyectos</a:t>
            </a:r>
            <a:r>
              <a:rPr b="0" lang="es-ES" sz="1600" spc="-1" strike="noStrike">
                <a:solidFill>
                  <a:srgbClr val="545472"/>
                </a:solidFill>
                <a:latin typeface="Tahoma"/>
              </a:rPr>
              <a:t>),  el Estado no solo esta obligado a la consulta sino a obtener el </a:t>
            </a:r>
            <a:r>
              <a:rPr b="1" lang="es-ES" sz="1600" spc="-1" strike="noStrike">
                <a:solidFill>
                  <a:srgbClr val="545472"/>
                </a:solidFill>
                <a:latin typeface="Tahoma"/>
              </a:rPr>
              <a:t>consentimiento libre, informado y previo</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Desde esta perspectiva el modelo y la normas jurídicas que lo sostienen afectan el ejercicio de los derechos de las personas reconocidos por los instrumentos internacionales de derechos humanos, en toda su dimensión: Derechos Civiles y Políticos, los Derechos Económicos, Sociales y Culturales y, en particular, derechos indígena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66"/>
                </a:solidFill>
                <a:latin typeface="Tahoma"/>
              </a:rPr>
              <a:t>IMPLICANCIAS DE TLCs y BITs PARA EL EJERCICIO DE LOS DERECHOS ECONÓMICOS, SOCIALES Y CULTURALES Y DERECHOS INDIGENAS</a:t>
            </a:r>
            <a:r>
              <a:rPr b="0" lang="es-ES" sz="2800" spc="-1" strike="noStrike">
                <a:solidFill>
                  <a:srgbClr val="660066"/>
                </a:solidFill>
                <a:latin typeface="Tahoma"/>
              </a:rPr>
              <a:t> </a:t>
            </a:r>
            <a:endParaRPr b="0" lang="en-US" sz="2800" spc="-1" strike="noStrike">
              <a:solidFill>
                <a:srgbClr val="660066"/>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os derechos económicos sociales y culturales y los derechos indígenas imponen responsabilidades internacionales a los Estados que no pueden ser soslayadas y menos aún al amparo de un acuerdo de inversión internacional.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07920"/>
            <a:ext cx="777240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n el caso de la comunidad Sawhoymaxa vs estado de Paraguay, el estado argumentó que no podía satisfacer la demanda de restitución de tierras planteada por la comunidad y obligar al propietario a vender dichas tierras o expropiárselas debido a que éste se encontraba amparado por un tratado suscrito entre Paraguay y Alemania, relativo al fomento y recíproca protección de inversiones de capital de ambos países. </a:t>
            </a:r>
            <a:endParaRPr b="0" lang="en-US" sz="2400" spc="-1" strike="noStrike">
              <a:solidFill>
                <a:srgbClr val="545472"/>
              </a:solidFill>
              <a:latin typeface="Tahoma"/>
            </a:endParaRPr>
          </a:p>
          <a:p>
            <a:pPr marL="288000" indent="-2880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Corte rechazó el argumento estatal (párr 140) y dispuso que si bien no cuenta con el texto del Tratado es un hecho no controvertido porque así lo señaló el Estado que el tratado permite la expropiación o nacionalización de inversiones de capital de una de las partes contratantes “por causa de utilidad o interés público”, lo que precisamente justifica la expropiación para satisfacer la demanda indíge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Tahoma"/>
              </a:rPr>
              <a:t>¿Cómo responde el derecho comercial y de inversión internacional a la protección de los derechos humanos de pueblos indígenas y comunidades campesinas, en el contexto de las controversias comerciales?</a:t>
            </a:r>
            <a:endParaRPr b="0" lang="en-US" sz="2000" spc="-1" strike="noStrike">
              <a:solidFill>
                <a:srgbClr val="660066"/>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Analizada la jurisprudencia generada a la luz de las controversias que han producido la aplicación de los TLCs y BITs, resulta que un mecanismo utilizado para resguardar estos derechos es la ponderación de las cláusulas del contrato que imponen la exigencia de garantizar el “Desarrollo Sostenible”.</a:t>
            </a:r>
            <a:endParaRPr b="0" lang="en-US" sz="2400" spc="-1" strike="noStrike">
              <a:solidFill>
                <a:srgbClr val="545472"/>
              </a:solidFill>
              <a:latin typeface="Tahoma"/>
            </a:endParaRPr>
          </a:p>
          <a:p>
            <a:pPr marL="305280" indent="-3052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Por esta vía los tribunales arbitrales han protegido el medio ambiente (Caso Methanex contra México y Maffezini contra España). También han resguardado como bien jurídico protegido por los acuerdos de inversión el desarrollo social y, por esta vía, han incluido expresamente los derechos humanos (</a:t>
            </a:r>
            <a:r>
              <a:rPr b="0" i="1" lang="es-ES" sz="2400" spc="-1" strike="noStrike">
                <a:solidFill>
                  <a:srgbClr val="545472"/>
                </a:solidFill>
                <a:latin typeface="Tahoma"/>
              </a:rPr>
              <a:t>Amicus Curiae</a:t>
            </a:r>
            <a:r>
              <a:rPr b="0" lang="es-ES" sz="2400" spc="-1" strike="noStrike">
                <a:solidFill>
                  <a:srgbClr val="545472"/>
                </a:solidFill>
                <a:latin typeface="Tahoma"/>
              </a:rPr>
              <a:t> Briwater con Tanzania y Aguas Argentinas S.A., Suez Sociedad General de Aguas de Barcelona S.A., Vivendi Universal S.A. con República Argenti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micus curiae</a:t>
            </a: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sistema paulatinamente ha comenzado a garantiza la participación ciudadana para la promoción de sus intereses. Así consta, por ejemplo, de la presentación formulada por varias organizaciones de usuarios, consumidores y de derechos humanos ante el Centro Internacional de Arreglo de Diferencias relativas a Inversiones (CIADI) donde fue formulada una “Petición de Transparencia y Participación en calidad de Amicus Curiae (amigo de la Corte),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IADI, el interés público internacional</a:t>
            </a:r>
            <a:endParaRPr b="0" lang="en-US" sz="4000" spc="-1" strike="noStrike">
              <a:solidFill>
                <a:srgbClr val="660066"/>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arias organizaciones de usuarios, consumidores y de derechos humanos presentaron ante el Centro Internacional de Arreglo de Diferencias relativas a Inversiones (CIADI) una “Petición de Transparencia y Participación en calidad de </a:t>
            </a:r>
            <a:r>
              <a:rPr b="0" i="1" lang="es-ES" sz="2400" spc="-1" strike="noStrike">
                <a:solidFill>
                  <a:srgbClr val="545472"/>
                </a:solidFill>
                <a:latin typeface="Tahoma"/>
              </a:rPr>
              <a:t>Amicus Curiae</a:t>
            </a:r>
            <a:r>
              <a:rPr b="0" lang="es-ES" sz="2400" spc="-1" strike="noStrike">
                <a:solidFill>
                  <a:srgbClr val="545472"/>
                </a:solidFill>
                <a:latin typeface="Tahoma"/>
              </a:rPr>
              <a:t>”, en el marco de una demanda presentada por las empresas Aguas Argentinas, Suez y Vivendi (Aguas Argentinas S.A., Suez Sociedad General de Aguas de Barcelona S.A., Vivendi Universal S.A. c. República Argentina. Caso Nº ARB/03/19).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os Derechos Humanos conforman el Derecho Público Internacional y tienen supremacía</a:t>
            </a:r>
            <a:endParaRPr b="0" lang="en-US" sz="3200" spc="-1" strike="noStrike">
              <a:solidFill>
                <a:srgbClr val="660066"/>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l CIADI permitió que las organizaciones puedan participar en carácter de “</a:t>
            </a:r>
            <a:r>
              <a:rPr b="0" i="1" lang="es-ES" sz="2000" spc="-1" strike="noStrike">
                <a:solidFill>
                  <a:srgbClr val="545472"/>
                </a:solidFill>
                <a:latin typeface="Tahoma"/>
              </a:rPr>
              <a:t>Amicus Curiae</a:t>
            </a:r>
            <a:r>
              <a:rPr b="0" lang="es-ES" sz="2000" spc="-1" strike="noStrike">
                <a:solidFill>
                  <a:srgbClr val="545472"/>
                </a:solidFill>
                <a:latin typeface="Tahoma"/>
              </a:rPr>
              <a:t>” (amigo de la Corte), con el fin de proporcionar sus perspectivas, argumentos, o conocimientos especializados sobre la controversia. El tribunal arbitral internacional destacó que este caso en particular reviste “especial interés público” debido a que la disputa relativa a inversiones gira en torno a los sistemas de distribución de agua y alcantarillado de una extensa zona metropolitana: la ciudad de Buenos Aires y los municipios que la rodean. Según los jueces, esos sistemas proporcionan servicios públicos básicos a millones de personas y, en consecuencia, podrían plantear una amplia gama de cuestiones complejas en materia de derecho público e internacional,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flexiones finales</a:t>
            </a:r>
            <a:endParaRPr b="0" lang="en-US" sz="4400" spc="-1" strike="noStrike">
              <a:solidFill>
                <a:srgbClr val="660066"/>
              </a:solidFill>
              <a:latin typeface="Tahoma"/>
            </a:endParaRPr>
          </a:p>
        </p:txBody>
      </p:sp>
      <p:sp>
        <p:nvSpPr>
          <p:cNvPr id="215"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ea typeface="Arial"/>
              </a:rPr>
              <a:t>El análisis jurídico demuestra que e</a:t>
            </a:r>
            <a:r>
              <a:rPr b="0" lang="es-BO" sz="2400" spc="-1" strike="noStrike">
                <a:solidFill>
                  <a:srgbClr val="545472"/>
                </a:solidFill>
                <a:latin typeface="Tahoma"/>
                <a:ea typeface="Arial"/>
              </a:rPr>
              <a:t>l derecho internacional ampara los derechos de los Pueblos Indígenas sobre los recursos naturales y se funda en el derecho a la autodeterminación, derecho al desarrollo, el derecho de propiedad, en el derecho a la protección de su medio ambiente, el derecho a la subsistencia, la protección y preservación de sus formas de vida y cultura y el derecho al consentimiento libre e informado. </a:t>
            </a:r>
            <a:endParaRPr b="0" lang="en-US" sz="2400" spc="-1" strike="noStrike">
              <a:solidFill>
                <a:srgbClr val="545472"/>
              </a:solidFill>
              <a:latin typeface="Tahoma"/>
            </a:endParaRPr>
          </a:p>
          <a:p>
            <a:pPr marL="329040" indent="-32904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ea typeface="Arial"/>
              </a:rPr>
              <a:t>La protección del hábitat y los ecosistemas garantiza la subsistencia de los Pueblos Indígenas y la preservación de sus culturas y formas de vida, indisolublemente ligadas a la tierra y/o el mar, los recursos naturales y el equilibrio ambiental.  </a:t>
            </a:r>
            <a:endParaRPr b="0" lang="en-US" sz="2400" spc="-1" strike="noStrike">
              <a:solidFill>
                <a:srgbClr val="545472"/>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755640" y="476280"/>
            <a:ext cx="7772400" cy="4114800"/>
          </a:xfrm>
          <a:prstGeom prst="rect">
            <a:avLst/>
          </a:prstGeom>
          <a:noFill/>
          <a:ln w="0">
            <a:noFill/>
          </a:ln>
        </p:spPr>
        <p:txBody>
          <a:bodyPr lIns="90000" rIns="90000" tIns="46800" bIns="46800" anchor="t">
            <a:normAutofit fontScale="81000"/>
          </a:bodyPr>
          <a:p>
            <a:pPr marL="277560" indent="-27756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ea typeface="Arial"/>
              </a:rPr>
              <a:t>Se reconoce que los derechos sobre los recursos naturales emanan de la presencia ancestral de los Pueblos Indígenas en sus territorios. El referente territorial al que se alude corresponde a aquellos espacios geográficos que han usado desde tiempos inmemoriales y que los ligan con los asentamientos humanos que ancestralmente han poblado dichos lugares, demostrando la continuidad del proyecto civilizatorio indígena en el territorio.</a:t>
            </a:r>
            <a:endParaRPr b="0" lang="en-US" sz="2800" spc="-1" strike="noStrike">
              <a:solidFill>
                <a:srgbClr val="545472"/>
              </a:solidFill>
              <a:latin typeface="Tahoma"/>
            </a:endParaRPr>
          </a:p>
          <a:p>
            <a:pPr marL="277560" indent="-27756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l ejercicio de estos derechos implica reconocer que Los Pueblos Indígenas tienen formas de organización propias a través de las cuales administran sus territorios ancestrales, distribuyen y aprovechan sus recursos naturales. </a:t>
            </a:r>
            <a:endParaRPr b="0" lang="en-US" sz="2800" spc="-1" strike="noStrike">
              <a:solidFill>
                <a:srgbClr val="545472"/>
              </a:solidFill>
              <a:latin typeface="Tahoma"/>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55640" y="1125360"/>
            <a:ext cx="7772400" cy="4114800"/>
          </a:xfrm>
          <a:prstGeom prst="rect">
            <a:avLst/>
          </a:prstGeom>
          <a:noFill/>
          <a:ln w="0">
            <a:noFill/>
          </a:ln>
        </p:spPr>
        <p:txBody>
          <a:bodyPr lIns="90000" rIns="90000" tIns="46800" bIns="46800" anchor="t">
            <a:normAutofit fontScale="94000"/>
          </a:bodyPr>
          <a:p>
            <a:pPr marL="322200" indent="-3222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ste reconocimiento de los derechos ancestrales sobre recursos naturales abre espacios institucionales para aplicar modelos de gestión usado desde tiempos inmemoriales y que han demostrado ser eficaces en los siguientes ámbitos: reasignación, disponibilidad del recurso, uso sostenible y resolución de conflictos entre múltiples usuarios sobre un patrimonio natural comú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130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entraremos el análisis en las implicancias de los TLCs y BITs y las normas sectoriales a nivel interno en el ejercicio y aplicación de los derechos económicos, sociales y culturales de los Pueblos indígenas reconocidos por el Convenio 169 y otros instrumentos internacionales ratificados por Chile y vigentes conforme al artículo 5 inciso 2 de la Constitución. </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hipótesis que guía la reflexión es que los TLCs y BITs y las leyes sectoriales a nivel interno contravienen estos derechos y, por tanto, deben adecuarse a los estándares de derechos indígena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sustentaremos como premisa la supremacía de los instrumentos de derechos humanos, en particular, las del Convenio 169 sobre las normas que regulan las inversiones y el comercio internacional y, asimismo, la legislación sectorial a nivel interno.</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egislación sectorial y de protección de derechos indígenas en Chile</a:t>
            </a:r>
            <a:endParaRPr b="0" lang="en-US" sz="3200" spc="-1" strike="noStrike">
              <a:solidFill>
                <a:srgbClr val="660066"/>
              </a:solidFill>
              <a:latin typeface="Tahoma"/>
            </a:endParaRPr>
          </a:p>
        </p:txBody>
      </p:sp>
      <p:sp>
        <p:nvSpPr>
          <p:cNvPr id="14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Aguas</a:t>
            </a:r>
            <a:endParaRPr b="0" lang="en-US" sz="2400" spc="-1" strike="noStrike">
              <a:solidFill>
                <a:srgbClr val="545472"/>
              </a:solidFill>
              <a:latin typeface="Tahoma"/>
            </a:endParaRPr>
          </a:p>
          <a:p>
            <a:pPr marL="291600" indent="-2916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Minería y </a:t>
            </a:r>
            <a:r>
              <a:rPr b="0" lang="es-CL" sz="2400" spc="-1" strike="noStrike">
                <a:solidFill>
                  <a:srgbClr val="545472"/>
                </a:solidFill>
                <a:latin typeface="Tahoma"/>
              </a:rPr>
              <a:t>ley Orgánica Constitucional 18.097 sobre Concesiones Mineras</a:t>
            </a:r>
            <a:endParaRPr b="0" lang="en-US" sz="2400" spc="-1" strike="noStrike">
              <a:solidFill>
                <a:srgbClr val="545472"/>
              </a:solidFill>
              <a:latin typeface="Tahoma"/>
            </a:endParaRPr>
          </a:p>
          <a:p>
            <a:pPr marL="291600" indent="-2916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de Fomento al Riego 18.450, sus modificaciones y su reglamento</a:t>
            </a:r>
            <a:endParaRPr b="0" lang="en-US" sz="2400" spc="-1" strike="noStrike">
              <a:solidFill>
                <a:srgbClr val="545472"/>
              </a:solidFill>
              <a:latin typeface="Tahoma"/>
            </a:endParaRPr>
          </a:p>
          <a:p>
            <a:pPr marL="291600" indent="-29160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253 sobre Protección, Fomento y Desarrollo de los Indígenas </a:t>
            </a:r>
            <a:endParaRPr b="0" lang="en-US" sz="2400" spc="-1" strike="noStrike">
              <a:solidFill>
                <a:srgbClr val="545472"/>
              </a:solidFill>
              <a:latin typeface="Tahoma"/>
            </a:endParaRPr>
          </a:p>
          <a:p>
            <a:pPr marL="291600" indent="-29160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L 701 – Ley de Fomento Forestal </a:t>
            </a:r>
            <a:endParaRPr b="0" lang="en-US" sz="2400" spc="-1" strike="noStrike">
              <a:solidFill>
                <a:srgbClr val="545472"/>
              </a:solidFill>
              <a:latin typeface="Tahoma"/>
            </a:endParaRPr>
          </a:p>
          <a:p>
            <a:pPr marL="291600" indent="-29160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300 sobre Bases del Medio Ambiente </a:t>
            </a:r>
            <a:endParaRPr b="0" lang="en-US" sz="2400" spc="-1" strike="noStrike">
              <a:solidFill>
                <a:srgbClr val="545472"/>
              </a:solidFill>
              <a:latin typeface="Tahoma"/>
            </a:endParaRPr>
          </a:p>
          <a:p>
            <a:pPr marL="291600" indent="-29160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19.657, sobre concesiones geotérmicas</a:t>
            </a:r>
            <a:endParaRPr b="0" lang="en-US" sz="2400" spc="-1" strike="noStrike">
              <a:solidFill>
                <a:srgbClr val="545472"/>
              </a:solidFill>
              <a:latin typeface="Tahoma"/>
            </a:endParaRPr>
          </a:p>
          <a:p>
            <a:pPr marL="291600" indent="-29160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20.249 que crea el espacio marítimo de los Pueblos Originarios</a:t>
            </a:r>
            <a:endParaRPr b="0" lang="en-US" sz="2400" spc="-1" strike="noStrike">
              <a:solidFill>
                <a:srgbClr val="545472"/>
              </a:solidFill>
              <a:latin typeface="Tahoma"/>
            </a:endParaRPr>
          </a:p>
          <a:p>
            <a:pPr marL="291600" indent="-291600">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20.283, sobre Recuperación del Bosque Nativo y Fomento Forestal</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os DESC se refieren a un estatuto de derechos que permiten asegurar a todos los seres humanos una existencia digna. </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Tradicionalmente ha involucrado: El derecho a  una alimentación adecuada, derecho a una vivienda adecuada y digna,  derecho a la salud, derecho a la educación y el derecho al trabajo, entre otros</a:t>
            </a:r>
            <a:endParaRPr b="0" lang="en-US" sz="2400" spc="-1" strike="noStrike">
              <a:solidFill>
                <a:srgbClr val="545472"/>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Desde una perspectiva de Derechos indígenas involucra el derecho a la diversidad cultural, a los recursos naturales, al desarrollo y al medio ambiente</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iversidad Cultural</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 bases normativas de la diversidad cultural están en los Pactos de Derechos Humanos, artículos 1 y 27;</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s Naciones Unidas han dado contenido legal a estas normas sobre diversidad cultural a través de la Observación General N° 23 y la adopción de la Declaración Universal de la UNESCO sobre la Diversidad Cultural, Noviembre del 200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22:05:38Z</dcterms:created>
  <dc:creator>Usuario Autorizado de HP</dc:creator>
  <dc:description/>
  <dc:language>en-US</dc:language>
  <cp:lastModifiedBy>Nancy Yáñez</cp:lastModifiedBy>
  <dcterms:modified xsi:type="dcterms:W3CDTF">2008-11-20T03:45:36Z</dcterms:modified>
  <cp:revision>365</cp:revision>
  <dc:subject/>
  <dc:title>LINEA 3: DERECHOS DE AGUA Y GESTION CIUDADANA</dc:title>
</cp:coreProperties>
</file>