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596E62-8BF7-462C-BE26-A6755BA334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arta y Declaración Universal de DH O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- Foco en derechos individu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- No se refieren a los pueblos indíge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PIDCP y PIDESC (ONU, 196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Derecho a la libre determinación (Art 1 comú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Derechos de quienes integran minorías (art. 27 PIDC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ité de Derechos Humanos (PIDCP) recibe comunicaciones individuales en virtud del Protocolo Facult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reación del Grupo de Trabajo sobre Poblaciones Indígenas (198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Examen de acontecimientos relativos a derechos de poblaciones indíge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Elaborar standards internacionales sobre derechos indígenas (en 1993 aprobó Proyecto de Declaración de Derechos de las Poblaciones Indígenas: en 1994 la Subcomisión Prevención Discriminaciones y Protección Minoría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isión de Derechos Humanos ONU y la Sub Comisión Protección y Promoción de Derechos Humanos (analizan asuntos de derechos indígenas en sesiones anuales y reciben alegaciones de violació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La Relatoría Especial para derechos humanos y libertades fundamentales de los indígenas (2000, la CDH nombra a Rodolfo Stavenhage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Informes temáticos (General, justicia, desarrollo, educació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Informes de país (Colombia, Guatemala, México, Chile,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Filipinas, Canadá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077-7401-4129-A837-4DA3994A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420-F571-4F50-A2D5-1F858D81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303-EFE1-4641-8A47-19E0FBFB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BFF-D400-4955-8E4C-BBD8E959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3F38-4978-4D3B-8CD0-EF0B8E1D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B202-215E-4347-A604-C8591EDF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E92F-16ED-494F-B20E-28B87552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8343-9E2E-42F4-B860-D8FDBA31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9F93-889F-4F71-AE38-6AA8D53E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CA65-09E9-46C1-8F99-1A2E47B6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5F69-5B2E-4144-8550-BB5ADE35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45C-7B56-46E3-9B45-1C241E9F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F341-7D4F-4F44-B6DB-406C9ED9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8CCC-0D30-42BF-9955-FB14DB17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F1EA-0119-4BEE-B7BA-B0B3B182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3DB3-2F5D-4BD2-B64D-20AE0A8D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C383-F842-4ED1-A9B4-4C8B2810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8F9-0740-43EC-B1C2-35F7D08C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FDC-73FF-4B72-A595-C095EB7F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3C1-B28E-4494-BC2B-056053E3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AA2-128D-4639-BCF7-5FAFB170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E41-356C-42A8-AF27-E4042772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53F-5A9F-4BBD-8E4F-62F8C700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826-5EA5-4AF5-890F-8F188092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0469-C1A6-437B-8506-AAD17DFC5E0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371B-CFC0-4300-A936-04801DC19F1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33"/>
                </a:solidFill>
                <a:latin typeface="Verdana"/>
              </a:rPr>
              <a:t>De los derechos indígenas en el concierto internacional: evolución temática y el rol  del Convenio 169 de la OIT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udio Nash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sistente investigación Daniela González Balagu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, 17 de noviembre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un invitado particular al derecho internacional de los derechos humano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62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Evoluci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de las normas en el DIDH y el Convenio 169 O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Objetivo comú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pleno goce y ejercicio de los derechos (universal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mplejidad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 torno a la temática indígena: matriz individual vs. matriz col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 y los derechos indígenas: el contexto en el que se insert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33"/>
                </a:solidFill>
                <a:latin typeface="Verdana"/>
              </a:rPr>
              <a:t>Panorama actual: N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hay tratad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Sí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hay “Declaración” en el ámbito de Naciones Un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nvenio 169 OIT: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único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instrumento internacional de carácter convencional en la ma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 y los derechos indígenas: el contexto en el que se insert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33"/>
                </a:solidFill>
                <a:latin typeface="Verdana"/>
              </a:rPr>
              <a:t>Panorama actual: jurisprudencia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IDH y derechos indígenas: ¿qué ha sucedido? (C. N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Mayagna Awas Tigni vs. Nicar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Yátama vs. Nicar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Yakye Axa vs. Paragu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omunidad Sawahayamaxa vs. Paragu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Ámbito nacional: algunos ejemplos relevantes (C. Court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Reclamos sobre tier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recho a ser consultadas (las comun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Medidas positivas en situaciones de extrema ca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n materias pe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Derechos (cambio de perspectiva: desde asimilación a la autonom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ueblos”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rechos fundamentales, incluso más allá del convenio (art.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rechos Colectivos (pueblo como titular de derech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sulta (art.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utonomía (arts. 7.1, 8 y 1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 de justicia tradicional (arts. 8 -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Territorio indígena (arts. 13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Obligaciones para 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Goce y ejercicio derechos sin discriminación (arts. 2.1, 2.2, 3, 4.3, 3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dopción de medidas especiales (art.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1. Deberán adoptarse las </a:t>
            </a: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medidas especiale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que se precisen para </a:t>
            </a: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salvaguarda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s personas, las instituciones, los bienes, el trabajo, las culturas y el medio ambiente de los pueblos interesado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2. Tales medidas especiales no deberán ser contrarias a los deseos expresados libremente por los pueblos interesado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Mecanismos de control/protección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OIT: procesos de diálogo y de que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 internacional de Derechos Hu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lo “esperable” que suced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Tratado internacional y su efecto en el ámbito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roducción/Adecuación de l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normativa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roducción/Adecuación en las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políticas públicas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Jurisprudenci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: lo que podría suced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33"/>
                </a:solidFill>
                <a:latin typeface="Arial"/>
              </a:rPr>
              <a:t>A modo de conclus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b812f"/>
                </a:solidFill>
                <a:latin typeface="Verdana"/>
              </a:rPr>
              <a:t>Corpus iure</a:t>
            </a: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 sobre derechos indígen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onvenio 169 OIT +  Declaración de Naciones Unidas 2007 + DIDH + normas constitucionales de cada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sos deben ser resueltos a partir de este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corpus i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te es un paso central en una efectiva y plena protección de los derechos indígenas a la luz de las especiales condiciones de sus tit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6633"/>
                </a:solidFill>
                <a:uFillTx/>
                <a:latin typeface="Verdana"/>
              </a:rPr>
              <a:t>Antecedentes generale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situación de los pueblos indígenas en la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gunas cuestiones vinculadas a la defin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relación del Estado con los pueblos indígenas en latino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s demandas de los pueblos indí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828800" y="650880"/>
          <a:ext cx="5486400" cy="5253120"/>
        </p:xfrm>
        <a:graphic>
          <a:graphicData uri="http://schemas.openxmlformats.org/drawingml/2006/table">
            <a:tbl>
              <a:tblPr/>
              <a:tblGrid>
                <a:gridCol w="1096920"/>
                <a:gridCol w="1096920"/>
                <a:gridCol w="1096920"/>
                <a:gridCol w="1254240"/>
                <a:gridCol w="9414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s y Estim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8.208 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0.000 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.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8.385 (c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00.000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76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789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82.347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010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.2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772 (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835280" y="2509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blación indígena America Latina, Cepal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828800" y="2806560"/>
          <a:ext cx="5486400" cy="1704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835280" y="836640"/>
            <a:ext cx="532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OBREZA INDÍG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N AMÉRICA L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orcentaje de la población por debajo de la línea de pobreza) Cepal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55640" y="620640"/>
          <a:ext cx="7775640" cy="5545080"/>
        </p:xfrm>
        <a:graphic>
          <a:graphicData uri="http://schemas.openxmlformats.org/drawingml/2006/table">
            <a:tbl>
              <a:tblPr/>
              <a:tblGrid>
                <a:gridCol w="7775640"/>
              </a:tblGrid>
              <a:tr h="554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3b812f"/>
                          </a:solidFill>
                          <a:latin typeface="Verdana"/>
                          <a:ea typeface="Times New Roman"/>
                        </a:rPr>
                        <a:t>Definición comunidades, pueblos y naciones indígenas: mirada desde el debate acerca de las “minorías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los que tienen continuidad histórica con las sociedades anteriores a la invasión y precoloniales que se desarrollaron en sus territo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 consideran distintos de otros sectores de las sociedades que ahora prevalecen en esos territorios, o en parte de ello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ituyen ahora sectores no dominantes de la socie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 tienen la determinación de preservar, desarrollar y transmitir a futuras generaciones sus territorios ancestrales y su identidad étnica como base de su existencia continuada como pueblo. (Martínez Cobo 1986/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6633"/>
                </a:solidFill>
                <a:latin typeface="Verdana"/>
              </a:rPr>
              <a:t>Postura del Convenio 169: no define, describe a los pueblos que trata de proteger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El presente Convenio se aplica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) a lo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eblos tribal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en países independientes, cuyas condiciones sociales culturales y económicas les distingan de otros sectores de la colectividad nacional, y que estén regidos total o parcialmente por sus propias costumbres o tradiciones o por una legislación especial;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) a los pueblos en países independientes, considerados </a:t>
            </a:r>
            <a:r>
              <a:rPr b="1" lang="es-ES" sz="1200" spc="-1" strike="noStrike">
                <a:solidFill>
                  <a:srgbClr val="0000ff"/>
                </a:solidFill>
                <a:latin typeface="Arial"/>
              </a:rPr>
              <a:t>indígena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or el hecho de descender de poblaciones que habitaban en el país o en una región geográfica a la que pertenece el país en la época de la conquista o la colonización o del establecimiento de las actuales fronteras estatales y que, cualquiera que sea su situación jurídica, conserven todas sus propias instituciones sociales, económicas, culturales y políticas, o parte de ella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   La conciencia de su identidad o tribal deberá considerarse un criterio fundamental para determinar los grupos a los que se aplican las disposiciones del presente Convenio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   La utilización del término «pueblos» en este Convenio no deberá interpretarse en el sentido de que tenga implicación alguna en lo que atañe a los derechos que pueda conferirse a dicho término en el derecho internaciona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59280" y="2781360"/>
          <a:ext cx="3888000" cy="24051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lementos de los pueblos indíge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lo de vida tradi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a y manera de vivir diferentes de las de otros sectores de la población nacional, por ej., sus formas de vida, lenguas, costumbres, etc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ón social propia y costumbres y leyes tradi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idad histórica de vida en una determinada región o antes de que otros hayan “invadido” o llegado a el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6633"/>
                </a:solidFill>
                <a:latin typeface="Verdana"/>
              </a:rPr>
              <a:t>Los “estados-nación” y los pueblos indígenas (J. Aylwin)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ación y asimilación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oj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indige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ormas agr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Verdana"/>
              </a:rPr>
              <a:t>Movimientos y demandas indígena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b812f"/>
                </a:solidFill>
                <a:latin typeface="Verdana"/>
              </a:rPr>
              <a:t>Emergen a contar de los 60 y 70 del siglo 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b812f"/>
                </a:solidFill>
                <a:latin typeface="Verdana"/>
              </a:rPr>
              <a:t>Demandas centrales de los pueblos indíg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El derecho a la autodefinición  y a un status leg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- El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derecho a la tierra y a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- El derecho a la identidad cul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- El derecho a la organización social y costumbre juríd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El derecho a la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participación política (Stavenhagen 2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2e17"/>
                </a:solidFill>
                <a:uFillTx/>
                <a:latin typeface="Verdana"/>
              </a:rPr>
              <a:t>Derecho internacional de derechos humanos y pueblos indígena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 en el contexto del DID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 y los derechos indígenas: el contexto normativo y jurisprud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: lo “esperable” que suce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46:14Z</dcterms:created>
  <dc:creator>Cliente</dc:creator>
  <dc:description/>
  <dc:language>en-US</dc:language>
  <cp:lastModifiedBy>claudio</cp:lastModifiedBy>
  <dcterms:modified xsi:type="dcterms:W3CDTF">2008-11-17T15:22:44Z</dcterms:modified>
  <cp:revision>57</cp:revision>
  <dc:subject/>
  <dc:title>INDIGENOUS PEOPLES´ RIGHTS IN CHILE: PROGRESS AND CONTRADICTION IN A CONTEXT OF GLOBALIZATION</dc:title>
</cp:coreProperties>
</file>