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27901D-EB5D-4767-B860-7AA1059698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arta y Declaración Universal de DH O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- Foco en derechos individu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- No se refieren a los pueblos indíge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PIDCP y PIDESC (ONU, 196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Derecho a la libre determinación (Art 1 comú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Derechos de quienes integran minorías (art. 27 PIDC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ité de Derechos Humanos (PIDCP) recibe comunicaciones individuales en virtud del Protocolo Facult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reación del Grupo de Trabajo sobre Poblaciones Indígenas (198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Examen de acontecimientos relativos a derechos de poblaciones indíge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Elaborar standards internacionales sobre derechos indígenas (en 1993 aprobó Proyecto de Declaración de Derechos de las Poblaciones Indígenas: en 1994 la Subcomisión Prevención Discriminaciones y Protección Minoría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isión de Derechos Humanos ONU y la Sub Comisión Protección y Promoción de Derechos Humanos (analizan asuntos de derechos indígenas en sesiones anuales y reciben alegaciones de violació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La Relatoría Especial para derechos humanos y libertades fundamentales de los indígenas (2000, la CDH nombra a Rodolfo Stavenhage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Informes temáticos (General, justicia, desarrollo, educació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Informes de país (Colombia, Guatemala, México, Chile,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Filipinas, Canadá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072-2B12-482A-8011-9C129303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C03-E737-49D4-A04E-7C0BA0DD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081-4E57-43B3-A714-C0B2C54E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931-9F6A-40EE-B613-15A71F72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278D-33B6-482E-9F01-02D9C63C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E2C1-8C31-4727-9698-D60B1B61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4AA9-8D92-4738-9AA0-B7D6609C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E141-F2ED-4C72-8857-9A7867DA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1BAD-EADA-41A9-8882-D8BC42E3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CC61-8B1C-4120-BA0A-AD9C7753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B0CF-A7E6-4DD4-A497-46BA9EDF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C09-8A90-4D32-9606-0CBDFBA0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7C6A-4659-4B1A-99B2-69478DE5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6855-4F4F-4E9A-AA27-11974161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DA00-5B7D-43E9-8852-41B07578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585B-EBB5-4BF5-A644-90F7F404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9D5A-5627-4F3E-B15C-7DDA72D1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214-D4BB-44B0-8417-1B396757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71C-2C90-4FFC-A84B-DC344DA9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1E6-B1E3-4A9C-B4B0-6DC6F878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009-339C-4148-8365-2DADF4B8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5C0-1325-495E-942C-774E8109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F8D-480E-4396-A3C0-251E34D7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3C4-9674-4258-B697-13EC2FD6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6914-536A-4959-BA4B-32F76B7A3F3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00D4-4924-4741-8FA5-079D09C6128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33"/>
                </a:solidFill>
                <a:latin typeface="Verdana"/>
              </a:rPr>
              <a:t>De los derechos indígenas en el concierto internacional: evolución temática y el rol  del Convenio 169 de la OIT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udio Nash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sistente investigación Daniela González Balagu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, 17 de noviembre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un invitado particular al derecho internacional de los derechos humano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62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Evoluci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de las normas en el DIDH y el Convenio 169 O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Objetivo comú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pleno goce y ejercicio de los derechos (universal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mplejidad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 torno a la temática indígena: matriz individual vs. matriz col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 y los derechos indígenas: el contexto en el que se inserta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33"/>
                </a:solidFill>
                <a:latin typeface="Verdana"/>
              </a:rPr>
              <a:t>Panorama actual: Norm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hay tratados 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Sí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hay “Declaración” en el ámbito de Naciones Un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nvenio 169 OIT: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único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instrumento internacional de carácter convencional en la ma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 y los derechos indígenas: el contexto en el que se inserta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33"/>
                </a:solidFill>
                <a:latin typeface="Verdana"/>
              </a:rPr>
              <a:t>Panorama actual: jurisprudencia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IDH y derechos indígenas: ¿qué ha sucedido? (C. Na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Mayagna Awas Tigni vs. Nicar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Yátama vs. Nicar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Yakye Axa vs. Paragu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omunidad Sawahayamaxa vs. Paragu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Ámbito nacional: algunos ejemplos relevantes (C. Court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Reclamos sobre tier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recho a ser consultadas (las comun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Medidas positivas en situaciones de extrema car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n materias pe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temas que aporta al debate sobre derechos indígena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Derechos (cambio de perspectiva: desde asimilación a la autonomí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ueblos”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rechos fundamentales, incluso más allá del convenio (art.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rechos Colectivos (pueblo como titular de derech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sulta (art.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utonomía (arts. 7.1, 8 y 1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stema de justicia tradicional (arts. 8 -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Territorio indígena (arts. 13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temas que aporta al debate sobre derechos indígena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Obligaciones para 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Goce y ejercicio derechos sin discriminación (arts. 2.1, 2.2, 3, 4.3, 3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dopción de medidas especiales (art.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1. Deberán adoptarse las </a:t>
            </a: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medidas especiale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que se precisen para </a:t>
            </a: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salvaguarda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as personas, las instituciones, los bienes, el trabajo, las culturas y el medio ambiente de los pueblos interesados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2. Tales medidas especiales no deberán ser contrarias a los deseos expresados libremente por los pueblos interesados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Mecanismos de control/protección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OIT: procesos de diálogo y de que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stema internacional de Derechos Hu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lo “esperable” que suceda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Tratado internacional y su efecto en el ámbito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roducción/Adecuación de la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normativa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roducción/Adecuación en las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políticas públicas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Jurisprudencia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: lo que podría suced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33"/>
                </a:solidFill>
                <a:latin typeface="Arial"/>
              </a:rPr>
              <a:t>A modo de conclus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b812f"/>
                </a:solidFill>
                <a:latin typeface="Verdana"/>
              </a:rPr>
              <a:t>Corpus iure</a:t>
            </a: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 sobre derechos indígen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onvenio 169 OIT +  Declaración de Naciones Unidas 2007 + DIDH + normas constitucionales de cada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sos deben ser resueltos a partir de este </a:t>
            </a:r>
            <a:r>
              <a:rPr b="0" i="1" lang="es-CL" sz="2000" spc="-1" strike="noStrike">
                <a:solidFill>
                  <a:srgbClr val="000000"/>
                </a:solidFill>
                <a:latin typeface="Verdana"/>
              </a:rPr>
              <a:t>corpus i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te es un paso central en una efectiva y plena protección de los derechos indígenas a la luz de las especiales condiciones de sus tit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6633"/>
                </a:solidFill>
                <a:uFillTx/>
                <a:latin typeface="Verdana"/>
              </a:rPr>
              <a:t>Antecedentes generale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situación de los pueblos indígenas en la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gunas cuestiones vinculadas a la defin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relación del Estado con los pueblos indígenas en latino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s demandas de los pueblos indíg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828800" y="650880"/>
          <a:ext cx="5486400" cy="5253120"/>
        </p:xfrm>
        <a:graphic>
          <a:graphicData uri="http://schemas.openxmlformats.org/drawingml/2006/table">
            <a:tbl>
              <a:tblPr/>
              <a:tblGrid>
                <a:gridCol w="1096920"/>
                <a:gridCol w="1096920"/>
                <a:gridCol w="1096920"/>
                <a:gridCol w="1254240"/>
                <a:gridCol w="9414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s y Estim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58.208 (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0.000 (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.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8.385 (c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00.000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76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789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82.347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010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.2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772 (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835280" y="2509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blación indígena America Latina, Cepal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828800" y="2806560"/>
          <a:ext cx="5486400" cy="1704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835280" y="836640"/>
            <a:ext cx="532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OBREZA INDÍG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N AMÉRICA L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(Porcentaje de la población por debajo de la línea de pobreza) Cepal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55640" y="620640"/>
          <a:ext cx="7775640" cy="5545080"/>
        </p:xfrm>
        <a:graphic>
          <a:graphicData uri="http://schemas.openxmlformats.org/drawingml/2006/table">
            <a:tbl>
              <a:tblPr/>
              <a:tblGrid>
                <a:gridCol w="7775640"/>
              </a:tblGrid>
              <a:tr h="554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3b812f"/>
                          </a:solidFill>
                          <a:latin typeface="Verdana"/>
                          <a:ea typeface="Times New Roman"/>
                        </a:rPr>
                        <a:t>Definición comunidades, pueblos y naciones indígenas: mirada desde el debate acerca de las “minorías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los que tienen continuidad histórica con las sociedades anteriores a la invasión y precoloniales que se desarrollaron en sus territo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 consideran distintos de otros sectores de las sociedades que ahora prevalecen en esos territorios, o en parte de ello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tituyen ahora sectores no dominantes de la socied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 tienen la determinación de preservar, desarrollar y transmitir a futuras generaciones sus territorios ancestrales y su identidad étnica como base de su existencia continuada como pueblo. (Martínez Cobo 1986/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6633"/>
                </a:solidFill>
                <a:latin typeface="Verdana"/>
              </a:rPr>
              <a:t>Postura del Convenio 169: no define, describe a los pueblos que trata de proteger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El presente Convenio se aplica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) a lo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ueblos tribal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en países independientes, cuyas condiciones sociales culturales y económicas les distingan de otros sectores de la colectividad nacional, y que estén regidos total o parcialmente por sus propias costumbres o tradiciones o por una legislación especial;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) a los pueblos en países independientes, considerados </a:t>
            </a:r>
            <a:r>
              <a:rPr b="1" lang="es-ES" sz="1200" spc="-1" strike="noStrike">
                <a:solidFill>
                  <a:srgbClr val="0000ff"/>
                </a:solidFill>
                <a:latin typeface="Arial"/>
              </a:rPr>
              <a:t>indígena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or el hecho de descender de poblaciones que habitaban en el país o en una región geográfica a la que pertenece el país en la época de la conquista o la colonización o del establecimiento de las actuales fronteras estatales y que, cualquiera que sea su situación jurídica, conserven todas sus propias instituciones sociales, económicas, culturales y políticas, o parte de ella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   La conciencia de su identidad o tribal deberá considerarse un criterio fundamental para determinar los grupos a los que se aplican las disposiciones del presente Convenio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   La utilización del término «pueblos» en este Convenio no deberá interpretarse en el sentido de que tenga implicación alguna en lo que atañe a los derechos que pueda conferirse a dicho término en el derecho internacional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859280" y="2781360"/>
          <a:ext cx="3888000" cy="24051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lementos de los pueblos indíge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lo de vida tradi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a y manera de vivir diferentes de las de otros sectores de la población nacional, por ej., sus formas de vida, lenguas, costumbres, etc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ón social propia y costumbres y leyes tradi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idad histórica de vida en una determinada región o antes de que otros hayan “invadido” o llegado a el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6633"/>
                </a:solidFill>
                <a:latin typeface="Verdana"/>
              </a:rPr>
              <a:t>Los “estados-nación” y los pueblos indígenas (J. Aylwin)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gación y asimilación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oj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indige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ormas agr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Verdana"/>
              </a:rPr>
              <a:t>Movimientos y demandas indígena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b812f"/>
                </a:solidFill>
                <a:latin typeface="Verdana"/>
              </a:rPr>
              <a:t>Emergen a contar de los 60 y 70 del siglo 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b812f"/>
                </a:solidFill>
                <a:latin typeface="Verdana"/>
              </a:rPr>
              <a:t>Demandas centrales de los pueblos indíge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El derecho a la autodefinición  y a un status leg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- El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derecho a la tierra y a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- El derecho a la identidad cul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- El derecho a la organización social y costumbre juríd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El derecho a la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participación política (Stavenhagen 2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2e17"/>
                </a:solidFill>
                <a:uFillTx/>
                <a:latin typeface="Verdana"/>
              </a:rPr>
              <a:t>Derecho internacional de derechos humanos y pueblos indígenas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 en el contexto del DID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 y los derechos indígenas: el contexto normativo y jurispruden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: temas que aporta al debate sobre derechos indígen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: lo “esperable” que suce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46:14Z</dcterms:created>
  <dc:creator>Cliente</dc:creator>
  <dc:description/>
  <dc:language>en-US</dc:language>
  <cp:lastModifiedBy>claudio</cp:lastModifiedBy>
  <dcterms:modified xsi:type="dcterms:W3CDTF">2008-11-17T15:22:44Z</dcterms:modified>
  <cp:revision>57</cp:revision>
  <dc:subject/>
  <dc:title>INDIGENOUS PEOPLES´ RIGHTS IN CHILE: PROGRESS AND CONTRADICTION IN A CONTEXT OF GLOBALIZATION</dc:title>
</cp:coreProperties>
</file>