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87E464-4921-49BA-9B9C-6906F04E9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E64430-72AC-47D3-B196-720D24FBCA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Declaración es fruto de una larga negociación en el seno de las NNUU (más de 20 años), trabajo intenso de las organizaciones mapuche en los foros inter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probada primero por el Consejo de DDHH en junio del 2006 en Ginebra y luego por la AG en Nueva York el 13 de septiembre d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G: votación 144 a favor, 4 en contra (Canadá, Nueva Zelanda, Australia y Estados Unidos) y 11 absten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ABB541-9F08-4B37-A820-3E96C96D0C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A69E7A-26A3-4EBE-9D44-52029D7678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6AA-4F15-4061-8E5C-838ECA63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293-C280-4C7F-A0DB-5773378F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3E8-5B49-4FCE-996B-234810B1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D6A-9F3E-4907-961F-171E2051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B966-ECE3-4D74-B51B-9D5E7411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5376-56A4-4E60-8650-BB3915FE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A35C-6EC5-4B8B-BF0A-01C36F79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8EBF-552E-4371-B157-D3711D37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3248-6009-4671-80EC-338B3D84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E8FC-6263-42FE-97A8-2AA27439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36F5-1FB3-40EE-92A0-04F156DF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A0C-FE24-4DFF-92FF-06D5D88A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61B1-57D9-47A4-A3ED-90AE7C70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2FAE-E84D-42C2-BD23-ED508D33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953E-1CE3-4279-9AE5-7324AE8F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1086-72AB-4316-ACEB-3C3DB094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173D-E364-42EC-97EB-013242D6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1BC-56A1-4F6F-BBB7-F628543C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118-DD8A-4B20-8AAA-F5DE2E79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25D-C60A-4F2A-BFF5-FC311325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DAA-5474-4AFC-857A-184839D7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063-6AA0-408A-865C-07053BF0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732-92D8-4E84-A272-4A895F77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7B7-8F3F-498E-8CF6-A0700D80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4138-63DE-45A4-8E1A-7DC762F4D303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C39B-7465-46E1-AD40-30AFFC66B460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claración de Naciones Unidas sobre los Derechos de Pueblos Indíge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90560" y="48769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Inés Margarita Uprim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ffffff"/>
                </a:solidFill>
                <a:latin typeface="Verdana"/>
              </a:rPr>
              <a:t>Visión general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La Declaración  de las NNUU sobre los </a:t>
            </a:r>
            <a:br>
              <a:rPr sz="2800"/>
            </a:b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ffffff"/>
                </a:solidFill>
                <a:uFillTx/>
                <a:latin typeface="Arial"/>
              </a:rPr>
              <a:t>Hito histórico para los pueblos indígenas</a:t>
            </a: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13 septiembre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Aprobación por la Asamblea General de 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Naciones Un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http://www.un.org/av/photo/incoming/medium/166313.jpg"/>
          <p:cNvPicPr/>
          <p:nvPr/>
        </p:nvPicPr>
        <p:blipFill>
          <a:blip r:embed="rId2"/>
          <a:stretch/>
        </p:blipFill>
        <p:spPr>
          <a:xfrm>
            <a:off x="2362320" y="4286160"/>
            <a:ext cx="3857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La Declaración de las Naciones Unidas sobre los Derechos de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Verdana"/>
                <a:ea typeface="SimSun"/>
              </a:rPr>
              <a:t>Aprobada por la Asamblea General, resolución A/RES/61/295, 13 de septiembre 2007 (A favor: 144; Abstención: 11; En contra: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tituye un hito histórico para el movimiento indígena y una reafirmación del compromiso de la Comunidad Internacional al respeto, promoción y cumplimiento de los derechos colectivos e individuales de los puebl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Largo proceso de negociación entre gob y PI (2 déca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Pueblos indígenas participaron activ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Instrumento mas exhaustivo sobre derechos de P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olida el Derecho Internacional sobre los derechos humanos de los pueblos indígen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marco universal de estándares mínimos para la dignidad, bienestar y derechos de los pueblos indígen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s esencial para la subsistencia física, cultural y espiritual, la dignidad y el bienestar de los pueblos indígenas del mund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oce los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erechos colectivos e individual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así como todos los derechos humanos y libertades fundamentales reconocidos en la Declaración Universal de los Derechos Humanos de la ONU, la Carta de las Naciones Unidas y demás instrumentos internacionales de derechos huma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derechos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individuale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lectivo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incluyendo aspectos referentes a la educación, las tierras, idiomas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000" spc="-1" strike="noStrike">
                <a:solidFill>
                  <a:srgbClr val="ffffff"/>
                </a:solidFill>
                <a:latin typeface="Verdana"/>
              </a:rPr>
              <a:t>autogobierno, instituciones políticas, sociales y culturales autónomas, integridad cultural, idiomas y expresiones culturales, tierras, coop transfronteriza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promueve plena y efectiva participación PI en todos los asuntos que les atañe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JA: Instrumento reparador (par 6 preámbul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600" spc="-1" strike="noStrike">
                <a:solidFill>
                  <a:srgbClr val="ffffff"/>
                </a:solidFill>
                <a:latin typeface="Verdana"/>
              </a:rPr>
              <a:t>Algunos elementos clave de la Declar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confirma el derecho de los pueblos indígenas a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ibre determin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art. 3). En virtud de ese derecho, los pueblos indígenas determinan libremente su condición política y persiguen libremente su desarrollo económico, social y cultural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7 de los 46 artículos de la Declaración abordan el tema de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ultur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cómo protegerla y promoverla, respetando la participación directa de los pueblos indígenas en la toma de decisiones y promoviendo la educación en lenguas indígenas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15 de los 46 artículos son sobre l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articipació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 los pueblos indígenas en todas las decisiones que afecten sus vidas, incluyendo la participación significativa en una sociedad democrát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Declaración reafirma 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erecho a las tierras territorios y recursos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(art.8.2, 25, 26.2, 26.3, 27, 30.1, 30.2, 32.1, 32.2, 31.1)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rincipio d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entimiento libre, previo e informado </a:t>
            </a:r>
            <a:r>
              <a:rPr b="0" lang="es-PA" sz="3200" spc="-1" strike="noStrike">
                <a:solidFill>
                  <a:srgbClr val="ffffff"/>
                </a:solidFill>
                <a:latin typeface="Arial"/>
              </a:rPr>
              <a:t>(art. 10, 19, 29.2, 11.2, 28, 32.2)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ult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9 (gen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30.2 (utilizar tierras para actividades milita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32.2 y 32.3: utilizar tierras y territorios  para exploración y explotación de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15.2:Combate a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rotección de niños indígenas: 17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ueblos Indígenas transfronterizos: 36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dopción de medidas: 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05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Medidas especi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rt 38 , art 5, art 26.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establece que los pueblos indígenas desposeídos de sus medios de subsistencia y desarrollo tienen derecho a un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reparación justa y equita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No discriminación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: reconoce el derecho en doble dimensión: </a:t>
            </a:r>
            <a:r>
              <a:rPr b="0" lang="es-PA" sz="3200" spc="-1" strike="noStrike">
                <a:solidFill>
                  <a:srgbClr val="ffffff"/>
                </a:solidFill>
                <a:latin typeface="Verdana"/>
              </a:rPr>
              <a:t>como personas individuales y como pueblo</a:t>
            </a:r>
            <a:r>
              <a:rPr b="0" lang="es-P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Verdana"/>
              </a:rPr>
              <a:t>(art. 2, 8.2, 9, 14.2, 15.2, 16.1, 17.3, 21.1, 22.2, 24.1, 29.1, 46.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Convenio OIT No.169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y la Declaración de las NNUU sobre los</a:t>
            </a:r>
            <a:br>
              <a:rPr sz="4400"/>
            </a:b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Derechos de los Pueblos Indígenas</a:t>
            </a: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Elementos cl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b050"/>
                </a:solidFill>
                <a:latin typeface="Arial"/>
              </a:rPr>
              <a:t>NO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2133720" y="33526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66ccff"/>
                </a:solidFill>
                <a:latin typeface="Arial"/>
              </a:rPr>
              <a:t>LIBRE DETER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4572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e el derecho a decidir sus propias prior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4952880" y="4114800"/>
            <a:ext cx="38862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l derecho a la libre determinación su condición política, a perseguir su desarrollo económico, social y cultural (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trabajo"/>
          <p:cNvPicPr/>
          <p:nvPr/>
        </p:nvPicPr>
        <p:blipFill>
          <a:blip r:embed="rId1"/>
          <a:stretch/>
        </p:blipFill>
        <p:spPr>
          <a:xfrm>
            <a:off x="2543040" y="5562720"/>
            <a:ext cx="1266840" cy="869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Caras.jpg"/>
          <p:cNvPicPr/>
          <p:nvPr/>
        </p:nvPicPr>
        <p:blipFill>
          <a:blip r:embed="rId2"/>
          <a:stretch/>
        </p:blipFill>
        <p:spPr>
          <a:xfrm>
            <a:off x="3048120" y="1143000"/>
            <a:ext cx="2057400" cy="2209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3"/>
          <p:cNvSpPr/>
          <p:nvPr/>
        </p:nvSpPr>
        <p:spPr>
          <a:xfrm>
            <a:off x="914400" y="2438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Derec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reconoc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24"/>
          <p:cNvSpPr/>
          <p:nvPr/>
        </p:nvSpPr>
        <p:spPr>
          <a:xfrm>
            <a:off x="5562720" y="1600200"/>
            <a:ext cx="3581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ff0000"/>
                </a:solidFill>
                <a:latin typeface="Arial"/>
              </a:rPr>
              <a:t>Reconoce el derecho en doble dimensión: como personas individuales y como pueblo</a:t>
            </a: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 (art. 2, 8.2, 9, 14.2, 15.2, 16.1, 17.3, 21.1, 22.2, 24.1, 29.1, 46.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Verdana"/>
              </a:rPr>
              <a:t>El contexto histórico a la Decla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57: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OIT aprueba el primer instrumento jurídico internacional Convenio 107 sobre Poblaciones Indígenas y Tribales (sustituido en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9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or el Convenio No. 169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71 – 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studio sobre la situación de los pueblos indígenas por  José Martínez Cobo  (Subcomisión de Prevención de Discriminaciones y Protección a las Minorí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Creación del Grupo de trabajo sobre poblaciones indígenas (GTPI) órgano subsidiario de la Subcomisión prevención de Discriminaciones y protección a las minoría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aminar los acontecimientos relativos a la promoción y protección de los derechos humanos y las libertades fundamentales de las poblaciones indíge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atención especial a la evolución de las normas relativas a los derechos de las poblaciones indígenas.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articipación representantes PI, comunidades, organizaciones 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yecto Declaración 1985 - 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ffff"/>
                </a:solidFill>
                <a:latin typeface="Arial"/>
              </a:rPr>
              <a:t>PARTICIP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2280" y="2057400"/>
            <a:ext cx="33530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Participación en la adopción de decisiones que afecten sus derec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486040" y="1371600"/>
            <a:ext cx="31273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4120" y="1752120"/>
            <a:ext cx="35812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nfatiza el derecho de los pueblos indígenas a determinar y elaborar prioridades (art. 5, 18, 2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350532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00"/>
                </a:solidFill>
                <a:latin typeface="Arial"/>
              </a:rPr>
              <a:t>CONSU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304920" y="454968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ben  ser consultados sobre medidas legislativas y administrativ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 buena fe y para lograr un acuerdo o consent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4724280" y="4572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8" descr="untitled"/>
          <p:cNvPicPr/>
          <p:nvPr/>
        </p:nvPicPr>
        <p:blipFill>
          <a:blip r:embed="rId3"/>
          <a:stretch/>
        </p:blipFill>
        <p:spPr>
          <a:xfrm>
            <a:off x="3505320" y="1752480"/>
            <a:ext cx="1690560" cy="1832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Reuniones.bmp"/>
          <p:cNvPicPr/>
          <p:nvPr/>
        </p:nvPicPr>
        <p:blipFill>
          <a:blip r:embed="rId4"/>
          <a:stretch/>
        </p:blipFill>
        <p:spPr>
          <a:xfrm>
            <a:off x="4114800" y="4572000"/>
            <a:ext cx="1781280" cy="13780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2"/>
          <p:cNvSpPr/>
          <p:nvPr/>
        </p:nvSpPr>
        <p:spPr>
          <a:xfrm>
            <a:off x="5943600" y="4724280"/>
            <a:ext cx="3200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consulta debe ser previa e informada 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(art. 19, 30.2, 32.2, 32.3, 15.2, 17.2, 3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ONSENTIMIENTO PREV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762120" y="373392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IMIENTO DEL DERECHO A LA IDENT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2" descr="edrua101.jpg"/>
          <p:cNvPicPr/>
          <p:nvPr/>
        </p:nvPicPr>
        <p:blipFill>
          <a:blip r:embed="rId1"/>
          <a:stretch/>
        </p:blipFill>
        <p:spPr>
          <a:xfrm>
            <a:off x="3429000" y="4419720"/>
            <a:ext cx="2019240" cy="13460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4"/>
          <p:cNvSpPr/>
          <p:nvPr/>
        </p:nvSpPr>
        <p:spPr>
          <a:xfrm>
            <a:off x="1295280" y="441972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Los Estados deben respetar la identidad social, cultural, las costumbr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tradiciones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instit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5562720" y="4648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Derechos a determinar  su propia  identidad  o pertenencia (art.33.1, 8, 9, 5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7" descr="Pueblos indígenas.jpg"/>
          <p:cNvPicPr/>
          <p:nvPr/>
        </p:nvPicPr>
        <p:blipFill>
          <a:blip r:embed="rId2"/>
          <a:stretch/>
        </p:blipFill>
        <p:spPr>
          <a:xfrm>
            <a:off x="3657600" y="1219320"/>
            <a:ext cx="2057400" cy="1360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0"/>
          <p:cNvSpPr/>
          <p:nvPr/>
        </p:nvSpPr>
        <p:spPr>
          <a:xfrm>
            <a:off x="5638680" y="1981080"/>
            <a:ext cx="3505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Recalca que debe 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previo, libre e informado </a:t>
            </a:r>
            <a:r>
              <a:rPr b="0" lang="es-PA" sz="2000" spc="-1" strike="noStrike">
                <a:solidFill>
                  <a:srgbClr val="7b46d0"/>
                </a:solidFill>
                <a:latin typeface="Arial"/>
              </a:rPr>
              <a:t>(art. 10, 19, 29.2, 11.2, 28, 32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994320" y="2286000"/>
            <a:ext cx="252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Medidas no deben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contrarias a los dese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libremente expres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Derechos colect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8" descr="kuna32.jpg"/>
          <p:cNvPicPr/>
          <p:nvPr/>
        </p:nvPicPr>
        <p:blipFill>
          <a:blip r:embed="rId1"/>
          <a:stretch/>
        </p:blipFill>
        <p:spPr>
          <a:xfrm>
            <a:off x="5867280" y="2514600"/>
            <a:ext cx="1673280" cy="1066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Picture1.jpg"/>
          <p:cNvPicPr/>
          <p:nvPr/>
        </p:nvPicPr>
        <p:blipFill>
          <a:blip r:embed="rId2"/>
          <a:stretch/>
        </p:blipFill>
        <p:spPr>
          <a:xfrm>
            <a:off x="1752480" y="4114800"/>
            <a:ext cx="1663920" cy="1868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838080" y="2743200"/>
            <a:ext cx="32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Reconoce los valor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prácticas social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culturales, religiosa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iri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4343400" y="380988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Desarrolla la noción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ecifica los derechos colectivos (autogobierno, instituciones políticas, sociales y culturales autónomas, integridad cultural, idiomas y expresiones culturales, tierras, coop transfronteriza,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400" spc="-1" strike="noStrike">
                <a:solidFill>
                  <a:srgbClr val="ffffff"/>
                </a:solidFill>
                <a:latin typeface="Verdana"/>
              </a:rPr>
              <a:t>¿Es vinculante la Declaración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s declaraciones de la ONU en general no son vincula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n embargo, representan el desarrollo de normas legales internacionales y reflejan el compromiso de los Estados Miembros con ciertos princip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Declaración no crea ni establece nuevos derechos.  Proporciona una interpretación sobre cómo los derechos humanos ya consagrados en otros instrumentos internacionales de importancia universal aplican a los pueblos y a los individu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este sentido, la Declaración sí tiene un efecto vinculante para la promoción, el respeto y el cumplimiento de los derechos de los pueblos indígenas alrededor del mu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Convenio OIT No.169 y la Declaración de las NNUU sobre los</a:t>
            </a:r>
            <a:br>
              <a:rPr sz="2400"/>
            </a:b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br>
              <a:rPr sz="2400"/>
            </a:b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FECTOS JURÍD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Tra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rea obligaciones legales  para los Estados partes del m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lectura y aplicación del Convenio  a la luz de la 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7960" y="24382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produce normas jurídicas reconocidas en otros tra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ge principios de derecho internacional obliga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stablece normas mínim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Instrumento complementario al 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Importancia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olivia: ley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de Naciones Unid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o Permanente: afirmó que sería su marco juríd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 de Expertos dchos PI: sus estudios fundamentales para hacer efectivos derechos de la D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:  una de sus responsabilidades promover la Dec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Interameric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rte IDH: Saramaka c. Suri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yecto de Declaración: GT/DADIN/doc.317/07 rev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ácter interrelacionado y complementario de normas internacionales de D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89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Convenio 169 OIT sobre pueblos indígenas y tribales en países independi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3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La ONU proclama el Año Internacional de las Poblaciones Indígenas del Mun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nferencia Mundial de Derechos Humanos Vie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4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Decenio Internacional de las Poblaciones Indígenas del Mundo (1995-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5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establece el Grupo de Trabajo de la Comisión de Derechos Humanos sobre el Proyecto de Declaración de los Derechos de los Pueblo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0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El ECOSOC establece el Foro Permanente para las Cuestiones Indígenas (resolución 2000/2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imer periodo de sesiones en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6 miemb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Mandato: 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aminar las cuestiones indígenas relativas al desarrollo económico y social, la cultura, el medio ambiente, la educación, la salud y los derechos humanos”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estar asesoramiento especializado y formular recomendaciones (por consenso) al Consejo, programas, fondos y organismos de las Naciones Un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- Difundir las actividades relacionadas con las cuestiones indígenas y promover su integración y coordinación dentro del sistema de la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- Producir material relacionado a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rticipación representantes Indígenas, O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304920"/>
            <a:ext cx="3200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1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nombra al primer Relator Especial sobre los derechos humanos y libertades fundamentales de los pueblos indígenas, el Sr. Rodolfo Stavenhagen. (2008: James Anay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5 – 2015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egundo D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ecenio de los Pueblos Indígenas del mundo. (A/RES/59/17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6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: El Consejo de Derechos Humanos aprueba la Declaración en el mes de jun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7: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 La Declaración de las Naciones Unidas sobre los Derechos de los Pueblos Indígenas es aprobada por la Asamblea General el 13 de septiembre. (A/RES/61/29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2007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: Mecanismo de Expertos sobre Derechos de Pueblos Indígenas (Consejo de Derechos Huma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Mecanismo de Expertos sobre Derechos de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udios y asesoramiento basado en la investigación: conocimientos especializados temá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odrá presentar propuestas al Consejo para que éste las examine y aprueb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5 expertos 3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imera sesión: 1 al 3 de octubre 200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ticipación como observado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I y F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s órganos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NG, organizaciones indígenas, expertos en cuestione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7560"/>
            <a:ext cx="7543800" cy="106200"/>
          </a:xfrm>
          <a:prstGeom prst="rect">
            <a:avLst/>
          </a:prstGeom>
          <a:noFill/>
          <a:ln w="0">
            <a:noFill/>
          </a:ln>
        </p:spPr>
        <p:txBody>
          <a:bodyPr tIns="14760" bIns="60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3520" y="380520"/>
            <a:ext cx="81532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LATOR ESPECIAL PUEBLOS INDIGE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FORMES ANUALES TEMA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VISITAS A PA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MUNICACIONES (CARTAS DE ALEGACIONES-LLAMAMIENTOS URG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TIVIDADES ACADEM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5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Investigaciones temátic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066320"/>
            <a:ext cx="8115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tuación de los pueblos indígenas (20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strum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incipales problemas y preocup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mpacto de proyectos de desarrollo en DH  de PI. (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Justicia y derechos indígenas (200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iscriminación en el sistema de justi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riminalización de prote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stemas educativos y PI (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ceso a la edu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lidad y apropiación cul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rticipación y sistemas educativos prop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lementación de normas relativas a derechos de PI (200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vances y obstácul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ndencias y desafíos (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érdida continuada de los terri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ueblos de los bosques, pueblos en aislamiento volu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obreza indíg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rechos de las mujere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7:47:50Z</dcterms:created>
  <dc:creator>Margarita Uprimny</dc:creator>
  <dc:description/>
  <dc:language>en-US</dc:language>
  <cp:lastModifiedBy>Margarita Uprimny</cp:lastModifiedBy>
  <dcterms:modified xsi:type="dcterms:W3CDTF">2008-11-17T14:42:48Z</dcterms:modified>
  <cp:revision>20</cp:revision>
  <dc:subject/>
  <dc:title>Slide 1</dc:title>
</cp:coreProperties>
</file>