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22A7E56-1F6C-4878-A496-646C86B24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2AB677D-4C77-4F45-B098-074FFC5966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Declaración es fruto de una larga negociación en el seno de las NNUU (más de 20 años), trabajo intenso de las organizaciones mapuche en los foros interna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Aprobada primero por el Consejo de DDHH en junio del 2006 en Ginebra y luego por la AG en Nueva York el 13 de septiembre d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AG: votación 144 a favor, 4 en contra (Canadá, Nueva Zelanda, Australia y Estados Unidos) y 11 absten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FA872F4-7A4D-485B-90DC-3CB3FCBF52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FBDF024-2060-4940-8E82-9EA0EB633D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9BF7-20C1-4E83-AA95-4AC5A4075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F1B1-2F5B-4F49-8C1A-B3A9CF05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DF01-D6DF-462D-BA33-9E27E1DF7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A37D-863A-4EB6-82F5-58F50ED59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1CB5-64DD-498A-B7B9-1F825995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013B-4D2C-4E44-B16E-C77ECC4B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BD48-512C-4C88-876F-43BC30CA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62E6-4FF7-4687-A97B-BD6D36C3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476E-7C84-4AF8-8A39-61773640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E226-A03C-4878-B337-6536D4F3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62D1-0520-4507-8AD9-8914DE7F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147A-8315-4FE0-B0F5-3054D21B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7641-31F1-44A2-BB98-3A9C8851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2F6C-5789-46A8-8405-9B6B1FB5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2829-A6B5-4C4C-9591-B6D350D6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A37B-04BA-4E49-89BD-8E0D3C993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38F0-5567-4F94-B559-E4642DF6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C1B2-09D1-4FB6-B9F4-C9E03DEE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A506-0E4B-4074-8878-8C20856E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FDF9-24FF-48C8-B612-0A593447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A87B-528E-4F36-8505-072BB1FF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B233-FD65-4C25-B494-5C2970FB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CDEF-933F-4CD8-BCF3-D85172F4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1C01-98E7-4727-BE47-1121C5CA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9630-FF9A-473F-9D60-E3AE742D2065}" type="slidenum">
              <a:rPr b="0" lang="es-C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4C0D-53CB-44F9-9E33-863C233FC980}" type="slidenum">
              <a:rPr b="0" lang="es-C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Declaración de Naciones Unidas sobre los Derechos de Pueblos Indígen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590560" y="4876920"/>
            <a:ext cx="5181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Inés Margarita Uprim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000" spc="-1" strike="noStrike">
                <a:solidFill>
                  <a:srgbClr val="ffffff"/>
                </a:solidFill>
                <a:latin typeface="Verdana"/>
              </a:rPr>
              <a:t>Visión general de la Declara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d1ec"/>
                </a:solidFill>
                <a:latin typeface="Arial"/>
              </a:rPr>
              <a:t>La Declaración  de las NNUU sobre los </a:t>
            </a:r>
            <a:br>
              <a:rPr sz="2800"/>
            </a:br>
            <a:r>
              <a:rPr b="1" lang="en-US" sz="2800" spc="-1" strike="noStrike">
                <a:solidFill>
                  <a:srgbClr val="86d1ec"/>
                </a:solidFill>
                <a:latin typeface="Arial"/>
              </a:rPr>
              <a:t>Derechos de los Pueblos Indíge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ffffff"/>
                </a:solidFill>
                <a:uFillTx/>
                <a:latin typeface="Arial"/>
              </a:rPr>
              <a:t>Hito histórico para los pueblos indígenas</a:t>
            </a:r>
            <a:r>
              <a:rPr b="0" lang="es-CO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13 septiembre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Aprobación por la Asamblea General de 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Naciones Un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8" descr="http://www.un.org/av/photo/incoming/medium/166313.jpg"/>
          <p:cNvPicPr/>
          <p:nvPr/>
        </p:nvPicPr>
        <p:blipFill>
          <a:blip r:embed="rId2"/>
          <a:stretch/>
        </p:blipFill>
        <p:spPr>
          <a:xfrm>
            <a:off x="2362320" y="4286160"/>
            <a:ext cx="38574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839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ffffff"/>
                </a:solidFill>
                <a:latin typeface="Verdana"/>
              </a:rPr>
              <a:t>La Declaración de las Naciones Unidas sobre los Derechos de los Pueblos Indíge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ffffff"/>
                </a:solidFill>
                <a:latin typeface="Verdana"/>
                <a:ea typeface="SimSun"/>
              </a:rPr>
              <a:t>Aprobada por la Asamblea General, resolución A/RES/61/295, 13 de septiembre 2007 (A favor: 144; Abstención: 11; En contra: 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SimSun"/>
              </a:rPr>
              <a:t>Constituye un hito histórico para el movimiento indígena y una reafirmación del compromiso de la Comunidad Internacional al respeto, promoción y cumplimiento de los derechos colectivos e individuales de los pueblos indígen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SimSun"/>
              </a:rPr>
              <a:t>Largo proceso de negociación entre gob y PI (2 décad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SimSun"/>
              </a:rPr>
              <a:t>Pueblos indígenas participaron activam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SimSun"/>
              </a:rPr>
              <a:t>Instrumento mas exhaustivo sobre derechos de P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SimSun"/>
              </a:rPr>
              <a:t>Consolida el Derecho Internacional sobre los derechos humanos de los pueblos indígen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8458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marco universal de estándares mínimos para la dignidad, bienestar y derechos de los pueblos indígena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s esencial para la subsistencia física, cultural y espiritual, la dignidad y el bienestar de los pueblos indígenas del mundo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econoce los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derechos colectivos e individual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así como todos los derechos humanos y libertades fundamentales reconocidos en la Declaración Universal de los Derechos Humanos de la ONU, la Carta de las Naciones Unidas y demás instrumentos internacionales de derechos human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derechos 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individuales</a:t>
            </a: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colectivos</a:t>
            </a: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 incluyendo aspectos referentes a la educación, las tierras, idiomas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PA" sz="2000" spc="-1" strike="noStrike">
                <a:solidFill>
                  <a:srgbClr val="ffffff"/>
                </a:solidFill>
                <a:latin typeface="Verdana"/>
              </a:rPr>
              <a:t>autogobierno, instituciones políticas, sociales y culturales autónomas, integridad cultural, idiomas y expresiones culturales, tierras, coop transfronteriza,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promueve plena y efectiva participación PI en todos los asuntos que les atañe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JA: Instrumento reparador (par 6 preámbul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600" spc="-1" strike="noStrike">
                <a:solidFill>
                  <a:srgbClr val="ffffff"/>
                </a:solidFill>
                <a:latin typeface="Verdana"/>
              </a:rPr>
              <a:t>Algunos elementos clave de la Declaració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 Declaración confirma el derecho de los pueblos indígenas a la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libre determinación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(art. 3). En virtud de ese derecho, los pueblos indígenas determinan libremente su condición política y persiguen libremente su desarrollo económico, social y cultural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art. 3, 4, 5, 18, 19, 20.1,20.2, 23, 32.1, 33.2, 34,35, 37, 46.1, 16.1, 16.2)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17 de los 46 artículos de la Declaración abordan el tema de la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cultur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y cómo protegerla y promoverla, respetando la participación directa de los pueblos indígenas en la toma de decisiones y promoviendo la educación en lenguas indígenas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15 de los 46 artículos son sobre la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participación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de los pueblos indígenas en todas las decisiones que afecten sus vidas, incluyendo la participación significativa en una sociedad democrátic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La Declaración reafirma el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derecho a las tierras territorios y recursos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(art.8.2, 25, 26.2, 26.3, 27, 30.1, 30.2, 32.1, 32.2, 31.1)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principio del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consentimiento libre, previo e informado </a:t>
            </a:r>
            <a:r>
              <a:rPr b="0" lang="es-PA" sz="3200" spc="-1" strike="noStrike">
                <a:solidFill>
                  <a:srgbClr val="ffffff"/>
                </a:solidFill>
                <a:latin typeface="Arial"/>
              </a:rPr>
              <a:t>(art. 10, 19, 29.2, 11.2, 28, 32.2)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Consult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rt. 9 (gener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30.2 (utilizar tierras para actividades milita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rt. 32.2 y 32.3: utilizar tierras y territorios  para exploración y explotación de mine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rt.15.2:Combate a discrimin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rotección de niños indígenas: 17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ueblos Indígenas transfronterizos: 36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dopción de medidas: 3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830592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Medidas especial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art 38 , art 5, art 26.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 Declaración establece que los pueblos indígenas desposeídos de sus medios de subsistencia y desarrollo tienen derecho a una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reparación justa y equitativ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Verdana"/>
              </a:rPr>
              <a:t>No discriminación</a:t>
            </a: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: reconoce el derecho en doble dimensión: </a:t>
            </a:r>
            <a:r>
              <a:rPr b="0" lang="es-PA" sz="3200" spc="-1" strike="noStrike">
                <a:solidFill>
                  <a:srgbClr val="ffffff"/>
                </a:solidFill>
                <a:latin typeface="Verdana"/>
              </a:rPr>
              <a:t>como personas individuales y como pueblo</a:t>
            </a:r>
            <a:r>
              <a:rPr b="0" lang="es-PA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PA" sz="2400" spc="-1" strike="noStrike">
                <a:solidFill>
                  <a:srgbClr val="ffffff"/>
                </a:solidFill>
                <a:latin typeface="Verdana"/>
              </a:rPr>
              <a:t>(art. 2, 8.2, 9, 14.2, 15.2, 16.1, 17.3, 21.1, 22.2, 24.1, 29.1, 46.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1532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4400" spc="-1" strike="noStrike">
                <a:solidFill>
                  <a:srgbClr val="ffffff"/>
                </a:solidFill>
                <a:latin typeface="Arial"/>
              </a:rPr>
              <a:t>Convenio OIT No.169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4400" spc="-1" strike="noStrike">
                <a:solidFill>
                  <a:srgbClr val="ffffff"/>
                </a:solidFill>
                <a:latin typeface="Arial"/>
              </a:rPr>
              <a:t>y la Declaración de las NNUU sobre los</a:t>
            </a:r>
            <a:br>
              <a:rPr sz="4400"/>
            </a:br>
            <a:r>
              <a:rPr b="1" lang="es-PA" sz="4400" spc="-1" strike="noStrike">
                <a:solidFill>
                  <a:srgbClr val="ffffff"/>
                </a:solidFill>
                <a:latin typeface="Arial"/>
              </a:rPr>
              <a:t>Derechos de los Pueblos Indígenas</a:t>
            </a:r>
            <a:r>
              <a:rPr b="0" lang="es-PA" sz="4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4400" spc="-1" strike="noStrike">
                <a:solidFill>
                  <a:srgbClr val="ffffff"/>
                </a:solidFill>
                <a:latin typeface="Arial"/>
              </a:rPr>
              <a:t>Elementos cla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b050"/>
                </a:solidFill>
                <a:latin typeface="Arial"/>
              </a:rPr>
              <a:t>NO DISCRIMIN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3353040" cy="2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000" spc="-1" strike="noStrike">
                <a:solidFill>
                  <a:srgbClr val="ffffff"/>
                </a:solidFill>
                <a:latin typeface="Arial"/>
              </a:rPr>
              <a:t>Declar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2133720" y="335268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66ccff"/>
                </a:solidFill>
                <a:latin typeface="Arial"/>
              </a:rPr>
              <a:t>LIBRE DETERMIN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Box 7"/>
          <p:cNvSpPr/>
          <p:nvPr/>
        </p:nvSpPr>
        <p:spPr>
          <a:xfrm>
            <a:off x="457200" y="45720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Reconoce el derecho a decidir sus propias prior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4952880" y="4114800"/>
            <a:ext cx="388620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El derecho a la libre determinación su condición política, a perseguir su desarrollo económico, social y cultural (</a:t>
            </a:r>
            <a:r>
              <a:rPr b="0" lang="es-PA" sz="2000" spc="-1" strike="noStrike">
                <a:solidFill>
                  <a:srgbClr val="ffffff"/>
                </a:solidFill>
                <a:latin typeface="Arial"/>
              </a:rPr>
              <a:t>art. 3, 4, 5, 18, 19, 20.1,20.2, 23, 32.1, 33.2, 34,35, 37, 46.1, 16.1, 16.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4" descr="trabajo"/>
          <p:cNvPicPr/>
          <p:nvPr/>
        </p:nvPicPr>
        <p:blipFill>
          <a:blip r:embed="rId1"/>
          <a:stretch/>
        </p:blipFill>
        <p:spPr>
          <a:xfrm>
            <a:off x="2543040" y="5562720"/>
            <a:ext cx="1266840" cy="8697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2" descr="Caras.jpg"/>
          <p:cNvPicPr/>
          <p:nvPr/>
        </p:nvPicPr>
        <p:blipFill>
          <a:blip r:embed="rId2"/>
          <a:stretch/>
        </p:blipFill>
        <p:spPr>
          <a:xfrm>
            <a:off x="3048120" y="1143000"/>
            <a:ext cx="2057400" cy="22096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13"/>
          <p:cNvSpPr/>
          <p:nvPr/>
        </p:nvSpPr>
        <p:spPr>
          <a:xfrm>
            <a:off x="914400" y="24382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c000"/>
                </a:solidFill>
                <a:latin typeface="Arial"/>
              </a:rPr>
              <a:t>Derech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c000"/>
                </a:solidFill>
                <a:latin typeface="Arial"/>
              </a:rPr>
              <a:t>reconoc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Box 24"/>
          <p:cNvSpPr/>
          <p:nvPr/>
        </p:nvSpPr>
        <p:spPr>
          <a:xfrm>
            <a:off x="5562720" y="1600200"/>
            <a:ext cx="358128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ff0000"/>
                </a:solidFill>
                <a:latin typeface="Arial"/>
              </a:rPr>
              <a:t>Reconoce el derecho en doble dimensión: como personas individuales y como pueblo</a:t>
            </a:r>
            <a:r>
              <a:rPr b="0" lang="es-PA" sz="1800" spc="-1" strike="noStrike">
                <a:solidFill>
                  <a:srgbClr val="ff0000"/>
                </a:solidFill>
                <a:latin typeface="Arial"/>
              </a:rPr>
              <a:t> (art. 2, 8.2, 9, 14.2, 15.2, 16.1, 17.3, 21.1, 22.2, 24.1, 29.1, 46.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ffffff"/>
                </a:solidFill>
                <a:latin typeface="Verdana"/>
              </a:rPr>
              <a:t>El contexto histórico a la Decla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1957: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OIT aprueba el primer instrumento jurídico internacional Convenio 107 sobre Poblaciones Indígenas y Tribales (sustituido en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1989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or el Convenio No. 169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1971 – 1982: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Estudio sobre la situación de los pueblos indígenas por  José Martínez Cobo  (Subcomisión de Prevención de Discriminaciones y Protección a las Minorí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1982: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Creación del Grupo de trabajo sobre poblaciones indígenas (GTPI) órgano subsidiario de la Subcomisión prevención de Discriminaciones y protección a las minorías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aminar los acontecimientos relativos a la promoción y protección de los derechos humanos y las libertades fundamentales de las poblaciones indíge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7b46d0"/>
              </a:buClr>
              <a:buSzPct val="9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tar atención especial a la evolución de las normas relativas a los derechos de las poblaciones indígenas.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7b46d0"/>
              </a:buClr>
              <a:buSzPct val="9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articipación representantes PI, comunidades, organizaciones 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7b46d0"/>
              </a:buClr>
              <a:buSzPct val="9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royecto Declaración 1985 - 9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ffff"/>
                </a:solidFill>
                <a:latin typeface="Arial"/>
              </a:rPr>
              <a:t>PARTICIP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504960" cy="3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52280" y="2057400"/>
            <a:ext cx="33530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Participación en la adopción de decisiones que afecten sus derech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486040" y="1371600"/>
            <a:ext cx="312732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334120" y="1752120"/>
            <a:ext cx="358128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Enfatiza el derecho de los pueblos indígenas a determinar y elaborar prioridades (art. 5, 18, 2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3505320" y="3809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ffff00"/>
                </a:solidFill>
                <a:latin typeface="Arial"/>
              </a:rPr>
              <a:t>CONSUL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304920" y="4549680"/>
            <a:ext cx="396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Deben  ser consultados sobre medidas legislativas y administrativ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De buena fe y para lograr un acuerdo o consent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9"/>
          <p:cNvSpPr/>
          <p:nvPr/>
        </p:nvSpPr>
        <p:spPr>
          <a:xfrm>
            <a:off x="4724280" y="45720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8" descr="untitled"/>
          <p:cNvPicPr/>
          <p:nvPr/>
        </p:nvPicPr>
        <p:blipFill>
          <a:blip r:embed="rId3"/>
          <a:stretch/>
        </p:blipFill>
        <p:spPr>
          <a:xfrm>
            <a:off x="3505320" y="1752480"/>
            <a:ext cx="1690560" cy="1832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Reuniones.bmp"/>
          <p:cNvPicPr/>
          <p:nvPr/>
        </p:nvPicPr>
        <p:blipFill>
          <a:blip r:embed="rId4"/>
          <a:stretch/>
        </p:blipFill>
        <p:spPr>
          <a:xfrm>
            <a:off x="4114800" y="4572000"/>
            <a:ext cx="1781280" cy="1378080"/>
          </a:xfrm>
          <a:prstGeom prst="rect">
            <a:avLst/>
          </a:prstGeom>
          <a:ln w="0">
            <a:noFill/>
          </a:ln>
        </p:spPr>
      </p:pic>
      <p:sp>
        <p:nvSpPr>
          <p:cNvPr id="216" name="TextBox 12"/>
          <p:cNvSpPr/>
          <p:nvPr/>
        </p:nvSpPr>
        <p:spPr>
          <a:xfrm>
            <a:off x="5943600" y="4724280"/>
            <a:ext cx="32004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La consulta debe ser previa e informada </a:t>
            </a:r>
            <a:r>
              <a:rPr b="0" lang="es-PA" sz="2000" spc="-1" strike="noStrike">
                <a:solidFill>
                  <a:srgbClr val="ffffff"/>
                </a:solidFill>
                <a:latin typeface="Arial"/>
              </a:rPr>
              <a:t>(art. 19, 30.2, 32.2, 32.3, 15.2, 17.2, 36.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CONSENTIMIENTO PREV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01920" y="1371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Box 7"/>
          <p:cNvSpPr/>
          <p:nvPr/>
        </p:nvSpPr>
        <p:spPr>
          <a:xfrm>
            <a:off x="762120" y="373392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RECONOCIMIENTO DEL DERECHO A LA IDENT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12" descr="edrua101.jpg"/>
          <p:cNvPicPr/>
          <p:nvPr/>
        </p:nvPicPr>
        <p:blipFill>
          <a:blip r:embed="rId1"/>
          <a:stretch/>
        </p:blipFill>
        <p:spPr>
          <a:xfrm>
            <a:off x="3429000" y="4419720"/>
            <a:ext cx="2019240" cy="1346040"/>
          </a:xfrm>
          <a:prstGeom prst="rect">
            <a:avLst/>
          </a:prstGeom>
          <a:ln w="0">
            <a:noFill/>
          </a:ln>
        </p:spPr>
      </p:pic>
      <p:sp>
        <p:nvSpPr>
          <p:cNvPr id="222" name="TextBox 14"/>
          <p:cNvSpPr/>
          <p:nvPr/>
        </p:nvSpPr>
        <p:spPr>
          <a:xfrm>
            <a:off x="1295280" y="4419720"/>
            <a:ext cx="1905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c000"/>
                </a:solidFill>
                <a:latin typeface="Arial"/>
              </a:rPr>
              <a:t>Los Estados deben respetar la identidad social, cultural, las costumbre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c000"/>
                </a:solidFill>
                <a:latin typeface="Arial"/>
              </a:rPr>
              <a:t>tradiciones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c000"/>
                </a:solidFill>
                <a:latin typeface="Arial"/>
              </a:rPr>
              <a:t>institu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15"/>
          <p:cNvSpPr/>
          <p:nvPr/>
        </p:nvSpPr>
        <p:spPr>
          <a:xfrm>
            <a:off x="5562720" y="46483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0000"/>
                </a:solidFill>
                <a:latin typeface="Arial"/>
              </a:rPr>
              <a:t>Derechos a determinar  su propia  identidad  o pertenencia (art.33.1, 8, 9, 5)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17" descr="Pueblos indígenas.jpg"/>
          <p:cNvPicPr/>
          <p:nvPr/>
        </p:nvPicPr>
        <p:blipFill>
          <a:blip r:embed="rId2"/>
          <a:stretch/>
        </p:blipFill>
        <p:spPr>
          <a:xfrm>
            <a:off x="3657600" y="1219320"/>
            <a:ext cx="2057400" cy="13604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20"/>
          <p:cNvSpPr/>
          <p:nvPr/>
        </p:nvSpPr>
        <p:spPr>
          <a:xfrm>
            <a:off x="5638680" y="1981080"/>
            <a:ext cx="35053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7b46d0"/>
                </a:solidFill>
                <a:latin typeface="Arial"/>
              </a:rPr>
              <a:t>Recalca que debe 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7b46d0"/>
                </a:solidFill>
                <a:latin typeface="Arial"/>
              </a:rPr>
              <a:t>previo, libre e informado </a:t>
            </a:r>
            <a:r>
              <a:rPr b="0" lang="es-PA" sz="2000" spc="-1" strike="noStrike">
                <a:solidFill>
                  <a:srgbClr val="7b46d0"/>
                </a:solidFill>
                <a:latin typeface="Arial"/>
              </a:rPr>
              <a:t>(art. 10, 19, 29.2, 11.2, 28, 32.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994320" y="2286000"/>
            <a:ext cx="252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0000"/>
                </a:solidFill>
                <a:latin typeface="Arial"/>
              </a:rPr>
              <a:t>Medidas no deben 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0000"/>
                </a:solidFill>
                <a:latin typeface="Arial"/>
              </a:rPr>
              <a:t>contrarias a los dese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0000"/>
                </a:solidFill>
                <a:latin typeface="Arial"/>
              </a:rPr>
              <a:t>libremente expres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4400" spc="-1" strike="noStrike">
                <a:solidFill>
                  <a:srgbClr val="ffffff"/>
                </a:solidFill>
                <a:latin typeface="Arial"/>
              </a:rPr>
              <a:t>Derechos colectiv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8" descr="kuna32.jpg"/>
          <p:cNvPicPr/>
          <p:nvPr/>
        </p:nvPicPr>
        <p:blipFill>
          <a:blip r:embed="rId1"/>
          <a:stretch/>
        </p:blipFill>
        <p:spPr>
          <a:xfrm>
            <a:off x="5867280" y="2514600"/>
            <a:ext cx="1673280" cy="1066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Picture1.jpg"/>
          <p:cNvPicPr/>
          <p:nvPr/>
        </p:nvPicPr>
        <p:blipFill>
          <a:blip r:embed="rId2"/>
          <a:stretch/>
        </p:blipFill>
        <p:spPr>
          <a:xfrm>
            <a:off x="1752480" y="4114800"/>
            <a:ext cx="1663920" cy="18684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3"/>
          <p:cNvSpPr/>
          <p:nvPr/>
        </p:nvSpPr>
        <p:spPr>
          <a:xfrm>
            <a:off x="838080" y="2743200"/>
            <a:ext cx="323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Reconoce los valores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prácticas sociale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culturales, religiosas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espiritu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4343400" y="3809880"/>
            <a:ext cx="4191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Desarrolla la noción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especifica los derechos colectivos (autogobierno, instituciones políticas, sociales y culturales autónomas, integridad cultural, idiomas y expresiones culturales, tierras, coop transfronteriza,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400" spc="-1" strike="noStrike">
                <a:solidFill>
                  <a:srgbClr val="ffffff"/>
                </a:solidFill>
                <a:latin typeface="Verdana"/>
              </a:rPr>
              <a:t>¿Es vinculante la Declaración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1219320"/>
            <a:ext cx="82296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s declaraciones de la ONU en general no son vincula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in embargo, representan el desarrollo de normas legales internacionales y reflejan el compromiso de los Estados Miembros con ciertos princip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 Declaración no crea ni establece nuevos derechos.  Proporciona una interpretación sobre cómo los derechos humanos ya consagrados en otros instrumentos internacionales de importancia universal aplican a los pueblos y a los individuos indígen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n este sentido, la Declaración sí tiene un efecto vinculante para la promoción, el respeto y el cumplimiento de los derechos de los pueblos indígenas alrededor del mun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86d1ec"/>
                </a:solidFill>
                <a:latin typeface="Arial"/>
              </a:rPr>
              <a:t>Convenio OIT No.169 y la Declaración de las NNUU sobre los</a:t>
            </a:r>
            <a:br>
              <a:rPr sz="2400"/>
            </a:br>
            <a:r>
              <a:rPr b="1" lang="es-PA" sz="2400" spc="-1" strike="noStrike">
                <a:solidFill>
                  <a:srgbClr val="86d1ec"/>
                </a:solidFill>
                <a:latin typeface="Arial"/>
              </a:rPr>
              <a:t>Derechos de los Pueblos Indígenas</a:t>
            </a:r>
            <a:br>
              <a:rPr sz="2400"/>
            </a:b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EFECTOS JURÍD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Tra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Crea obligaciones legales  para los Estados partes del m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La lectura y aplicación del Convenio  a la luz de la 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47960" y="243828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Reproduce normas jurídicas reconocidas en otros tra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Recoge principios de derecho internacional obligato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Establece normas mínim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Instrumento complementario al 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Importancia de la Declara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Bolivia: ley n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stema de Naciones Unid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oro Permanente: afirmó que sería su marco jurídic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Mecanismo de Expertos dchos PI: sus estudios fundamentales para hacer efectivos derechos de la De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:  una de sus responsabilidades promover la Dec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stema Interamerica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rte IDH: Saramaka c. Suri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yecto de Declaración: GT/DADIN/doc.317/07 rev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rácter interrelacionado y complementario de normas internacionales de D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1989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: Convenio 169 OIT sobre pueblos indígenas y tribales en países independien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1993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: La ONU proclama el Año Internacional de las Poblaciones Indígenas del Mund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onferencia Mundial de Derechos Humanos Vien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1994: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Decenio Internacional de las Poblaciones Indígenas del Mundo (1995-200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1995: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Se establece el Grupo de Trabajo de la Comisión de Derechos Humanos sobre el Proyecto de Declaración de los Derechos de los Pueblos Indígen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80520" y="1519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2000: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El ECOSOC establece el Foro Permanente para las Cuestiones Indígenas (resolución 2000/2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rimer periodo de sesiones en 200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16 miemb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Mandato: 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examinar las cuestiones indígenas relativas al desarrollo económico y social, la cultura, el medio ambiente, la educación, la salud y los derechos humanos”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restar asesoramiento especializado y formular recomendaciones (por consenso) al Consejo, programas, fondos y organismos de las Naciones Uni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- Difundir las actividades relacionadas con las cuestiones indígenas y promover su integración y coordinación dentro del sistema de la O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- Producir material relacionado a los pueblos indíge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articipación representantes Indígenas, O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304920"/>
            <a:ext cx="3200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2001: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Se nombra al primer Relator Especial sobre los derechos humanos y libertades fundamentales de los pueblos indígenas, el Sr. Rodolfo Stavenhagen. (2008: James Anay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05 – 2015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Segundo D</a:t>
            </a:r>
            <a:r>
              <a:rPr b="0" lang="es-EC" sz="2400" spc="-1" strike="noStrike">
                <a:solidFill>
                  <a:srgbClr val="ffffff"/>
                </a:solidFill>
                <a:latin typeface="Verdana"/>
              </a:rPr>
              <a:t>ecenio de los Pueblos Indígenas del mundo. (A/RES/59/17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ffffff"/>
                </a:solidFill>
                <a:latin typeface="Verdana"/>
              </a:rPr>
              <a:t>2006</a:t>
            </a:r>
            <a:r>
              <a:rPr b="0" lang="es-EC" sz="2400" spc="-1" strike="noStrike">
                <a:solidFill>
                  <a:srgbClr val="ffffff"/>
                </a:solidFill>
                <a:latin typeface="Verdana"/>
              </a:rPr>
              <a:t>: El Consejo de Derechos Humanos aprueba la Declaración en el mes de jun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ffffff"/>
                </a:solidFill>
                <a:latin typeface="Verdana"/>
              </a:rPr>
              <a:t>2007:</a:t>
            </a:r>
            <a:r>
              <a:rPr b="0" lang="es-EC" sz="2400" spc="-1" strike="noStrike">
                <a:solidFill>
                  <a:srgbClr val="ffffff"/>
                </a:solidFill>
                <a:latin typeface="Verdana"/>
              </a:rPr>
              <a:t> La Declaración de las Naciones Unidas sobre los Derechos de los Pueblos Indígenas es aprobada por la Asamblea General el 13 de septiembre. (A/RES/61/29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2007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: Mecanismo de Expertos sobre Derechos de Pueblos Indígenas (Consejo de Derechos Huma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Mecanismo de Expertos sobre Derechos de Pueblos Indíge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udios y asesoramiento basado en la investigación: conocimientos especializados temát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odrá presentar propuestas al Consejo para que éste las examine y aprueb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5 expertos 3 añ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imera sesión: 1 al 3 de octubre 2008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articipación como observador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PI y F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Mecanismos órganos O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NG, organizaciones indígenas, expertos en cuestiones indígen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2640" y="277560"/>
            <a:ext cx="7543800" cy="106200"/>
          </a:xfrm>
          <a:prstGeom prst="rect">
            <a:avLst/>
          </a:prstGeom>
          <a:noFill/>
          <a:ln w="0">
            <a:noFill/>
          </a:ln>
        </p:spPr>
        <p:txBody>
          <a:bodyPr tIns="14760" bIns="60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33520" y="380520"/>
            <a:ext cx="81532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</a:rPr>
              <a:t>RELATOR ESPECIAL PUEBLOS INDIGEN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FORMES ANUALES TEMA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VISITAS A PA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MUNICACIONES (CARTAS DE ALEGACIONES-LLAMAMIENTOS URGEN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EGU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CTIVIDADES ACADEM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277920"/>
            <a:ext cx="8077320" cy="715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Investigaciones temátic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240" y="1066320"/>
            <a:ext cx="8115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ituación de los pueblos indígenas (200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strumen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rincipales problemas y preocup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Impacto de proyectos de desarrollo en DH  de PI. (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Justicia y derechos indígenas (200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iscriminación en el sistema de justi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riminalización de prote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istemas educativos y PI (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cceso a la educ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alidad y apropiación cultu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articipación y sistemas educativos prop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mplementación de normas relativas a derechos de PI (200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vances y obstácul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endencias y desafíos (200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érdida continuada de los territo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ueblos de los bosques, pueblos en aislamiento volun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obreza indíge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erechos de las mujeres indíge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7:47:50Z</dcterms:created>
  <dc:creator>Margarita Uprimny</dc:creator>
  <dc:description/>
  <dc:language>en-US</dc:language>
  <cp:lastModifiedBy>Margarita Uprimny</cp:lastModifiedBy>
  <dcterms:modified xsi:type="dcterms:W3CDTF">2008-11-17T14:42:48Z</dcterms:modified>
  <cp:revision>20</cp:revision>
  <dc:subject/>
  <dc:title>Slide 1</dc:title>
</cp:coreProperties>
</file>