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848B7B9-04DD-4887-BE5A-3E9C6AAD2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C6B1B72-F0CA-4669-B4C0-0FFB7820195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Declaración es fruto de una larga negociación en el seno de las NNUU (más de 20 años), trabajo intenso de las organizaciones mapuche en los foros intern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probada primero por el Consejo de DDHH en junio del 2006 en Ginebra y luego por la AG en Nueva York el 13 de septiembre del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-AG: votación 144 a favor, 4 en contra (Canadá, Nueva Zelanda, Australia y Estados Unidos) y 11 absten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0130B70-96F4-4A98-B96F-B6EC23868B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004AEAF-3109-4065-97DA-029227CD33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193C-CFB5-4439-8421-345445161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27D-D341-4EEF-92F5-F52F0FEA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4285-DA33-4B67-B36D-CD5F0994A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B174-01E5-4D6D-AAF5-4C05E0D97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BFEE0-1154-401B-B23D-6A133BF9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8A95-00A4-4841-838F-DD9CA6AE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1F00-2235-40AD-8FDB-2FE19F0D9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351F9-5183-49A3-B0F1-ABE071C9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82B9-A32A-434A-BC0C-8942BAD0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B8D3-41F8-4515-A721-58797EC2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CEDD-76E0-471A-87E9-EB3495D13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7F7-B52E-408A-820E-ED8057E2F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D904-024C-49BB-B6B4-E94038D1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9547-F57B-4F8D-8118-836CBFB68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5083-3767-45B4-AF01-3CBEF41BF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F864-4B89-45CE-A99B-3772E467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2891-4EB1-495A-8338-3B641AEA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D8EB-AB9D-4917-8FB4-99021C05E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513-BF8C-42E8-87C0-462FBA4E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3A77-0D3C-4721-B009-6A1FA06E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5CF-CE8A-4EA6-A904-3DC3E7E3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166C-BD6C-43AF-A3E6-373173D5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3609-C8CA-4A13-A5C6-BF8FCE7E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FD0-7416-4313-B982-1C843216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51AA8-E2D4-47F7-9DFF-B777860EA45C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66C0-220B-46B3-8C66-F15DCA6D00B0}" type="slidenum">
              <a:rPr b="0" lang="es-CO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Declaración de Naciones Unidas sobre los Derechos de Pueblos Indígena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590560" y="4876920"/>
            <a:ext cx="5181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Inés Margarita Uprimn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3520" y="220932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4000" spc="-1" strike="noStrike">
                <a:solidFill>
                  <a:srgbClr val="ffffff"/>
                </a:solidFill>
                <a:latin typeface="Verdana"/>
              </a:rPr>
              <a:t>Visión general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La Declaración  de las NNUU sobre los </a:t>
            </a:r>
            <a:br>
              <a:rPr sz="2800"/>
            </a:br>
            <a:r>
              <a:rPr b="1" lang="en-US" sz="28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 u="sng">
                <a:solidFill>
                  <a:srgbClr val="ffffff"/>
                </a:solidFill>
                <a:uFillTx/>
                <a:latin typeface="Arial"/>
              </a:rPr>
              <a:t>Hito histórico para los pueblos indígenas</a:t>
            </a:r>
            <a:r>
              <a:rPr b="0" lang="es-CO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13 septiembre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Aprobación por la Asamblea General de l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Naciones Uni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8" descr="http://www.un.org/av/photo/incoming/medium/166313.jpg"/>
          <p:cNvPicPr/>
          <p:nvPr/>
        </p:nvPicPr>
        <p:blipFill>
          <a:blip r:embed="rId2"/>
          <a:stretch/>
        </p:blipFill>
        <p:spPr>
          <a:xfrm>
            <a:off x="2362320" y="4286160"/>
            <a:ext cx="38574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839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La Declaración de las Naciones Unidas sobre los Derechos de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2000" spc="-1" strike="noStrike">
                <a:solidFill>
                  <a:srgbClr val="ffffff"/>
                </a:solidFill>
                <a:latin typeface="Verdana"/>
                <a:ea typeface="SimSun"/>
              </a:rPr>
              <a:t>Aprobada por la Asamblea General, resolución A/RES/61/295, 13 de septiembre 2007 (A favor: 144; Abstención: 11; En contra: 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tituye un hito histórico para el movimiento indígena y una reafirmación del compromiso de la Comunidad Internacional al respeto, promoción y cumplimiento de los derechos colectivos e individuales de los puebl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Largo proceso de negociación entre gob y PI (2 décad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Pueblos indígenas participaron activam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Instrumento mas exhaustivo sobre derechos de P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SimSun"/>
              </a:rPr>
              <a:t>Consolida el Derecho Internacional sobre los derechos humanos de los pueblos indígena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marco universal de estándares mínimos para la dignidad, bienestar y derechos de los pueblos indígenas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s esencial para la subsistencia física, cultural y espiritual, la dignidad y el bienestar de los pueblos indígenas del mundo.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oce lo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derechos colectivos e individual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así como todos los derechos humanos y libertades fundamentales reconocidos en la Declaración Universal de los Derechos Humanos de la ONU, la Carta de las Naciones Unidas y demás instrumentos internacionales de derechos human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derechos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individuale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lectivos</a:t>
            </a: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 incluyendo aspectos referentes a la educación, las tierras, idiomas,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000" spc="-1" strike="noStrike">
                <a:solidFill>
                  <a:srgbClr val="ffffff"/>
                </a:solidFill>
                <a:latin typeface="Verdana"/>
              </a:rPr>
              <a:t>autogobierno, instituciones políticas, sociales y culturales autónomas, integridad cultural, idiomas y expresiones culturales, tierras, coop transfronteriza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Verdana"/>
              </a:rPr>
              <a:t>promueve plena y efectiva participación PI en todos los asuntos que les atañen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4811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JA: Instrumento reparador (par 6 preámbul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600" spc="-1" strike="noStrike">
                <a:solidFill>
                  <a:srgbClr val="ffffff"/>
                </a:solidFill>
                <a:latin typeface="Verdana"/>
              </a:rPr>
              <a:t>Algunos elementos clave de la Declaració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99036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confirma el derecho de los pueblos indígenas a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libre determinación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(art. 3). En virtud de ese derecho, los pueblos indígenas determinan libremente su condición política y persiguen libremente su desarrollo económico, social y cultural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(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7 de los 46 artículos de la Declaración abordan el tema de la </a:t>
            </a:r>
            <a:r>
              <a:rPr b="1" lang="es-ES" sz="2800" spc="-1" strike="noStrike">
                <a:solidFill>
                  <a:srgbClr val="ffffff"/>
                </a:solidFill>
                <a:latin typeface="Verdana"/>
              </a:rPr>
              <a:t>cultur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y cómo protegerla y promoverla, respetando la participación directa de los pueblos indígenas en la toma de decisiones y promoviendo la educación en lenguas indígenas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15 de los 46 artículos son sobre l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participación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de los pueblos indígenas en todas las decisiones que afecten sus vidas, incluyendo la participación significativa en una sociedad democrátic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La Declaración reafirma 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derecho a las tierras territorios y recursos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(art.8.2, 25, 26.2, 26.3, 27, 30.1, 30.2, 32.1, 32.2, 31.1)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principio del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entimiento libre, previo e informado </a:t>
            </a:r>
            <a:r>
              <a:rPr b="0" lang="es-PA" sz="3200" spc="-1" strike="noStrike">
                <a:solidFill>
                  <a:srgbClr val="ffffff"/>
                </a:solidFill>
                <a:latin typeface="Arial"/>
              </a:rPr>
              <a:t>(art. 10, 19, 29.2, 11.2, 28, 32.2)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Consulta</a:t>
            </a: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9 (gener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30.2 (utilizar tierras para actividades militar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 32.2 y 32.3: utilizar tierras y territorios  para exploración y explotación de miner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rt.15.2:Combate a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rotección de niños indígenas: 17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ueblos Indígenas transfronterizos: 36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Adopción de medidas: 3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830592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Medidas especiales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rt 38 , art 5, art 26.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La Declaración establece que los pueblos indígenas desposeídos de sus medios de subsistencia y desarrollo tienen derecho a una </a:t>
            </a: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reparación justa y equitativa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Verdana"/>
              </a:rPr>
              <a:t>No discriminación</a:t>
            </a:r>
            <a:r>
              <a:rPr b="0" lang="es-CL" sz="3200" spc="-1" strike="noStrike">
                <a:solidFill>
                  <a:srgbClr val="ffffff"/>
                </a:solidFill>
                <a:latin typeface="Verdana"/>
              </a:rPr>
              <a:t>: reconoce el derecho en doble dimensión: </a:t>
            </a:r>
            <a:r>
              <a:rPr b="0" lang="es-PA" sz="3200" spc="-1" strike="noStrike">
                <a:solidFill>
                  <a:srgbClr val="ffffff"/>
                </a:solidFill>
                <a:latin typeface="Verdana"/>
              </a:rPr>
              <a:t>como personas individuales y como pueblo</a:t>
            </a:r>
            <a:r>
              <a:rPr b="0" lang="es-PA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Verdana"/>
              </a:rPr>
              <a:t>(art. 2, 8.2, 9, 14.2, 15.2, 16.1, 17.3, 21.1, 22.2, 24.1, 29.1, 46.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15328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Convenio OIT No.169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y la Declaración de las NNUU sobre los</a:t>
            </a:r>
            <a:br>
              <a:rPr sz="4400"/>
            </a:br>
            <a:r>
              <a:rPr b="1" lang="es-PA" sz="4400" spc="-1" strike="noStrike">
                <a:solidFill>
                  <a:srgbClr val="ffffff"/>
                </a:solidFill>
                <a:latin typeface="Arial"/>
              </a:rPr>
              <a:t>Derechos de los Pueblos Indígenas</a:t>
            </a: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Elementos cl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b050"/>
                </a:solidFill>
                <a:latin typeface="Arial"/>
              </a:rPr>
              <a:t>NO DISCR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3353040" cy="22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37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11480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0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2133720" y="335268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66ccff"/>
                </a:solidFill>
                <a:latin typeface="Arial"/>
              </a:rPr>
              <a:t>LIBRE DETER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Box 7"/>
          <p:cNvSpPr/>
          <p:nvPr/>
        </p:nvSpPr>
        <p:spPr>
          <a:xfrm>
            <a:off x="457200" y="45720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e el derecho a decidir sus propias prior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8"/>
          <p:cNvSpPr/>
          <p:nvPr/>
        </p:nvSpPr>
        <p:spPr>
          <a:xfrm>
            <a:off x="4952880" y="4114800"/>
            <a:ext cx="388620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l derecho a la libre determinación su condición política, a perseguir su desarrollo económico, social y cultural (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art. 3, 4, 5, 18, 19, 20.1,20.2, 23, 32.1, 33.2, 34,35, 37, 46.1, 16.1, 1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trabajo"/>
          <p:cNvPicPr/>
          <p:nvPr/>
        </p:nvPicPr>
        <p:blipFill>
          <a:blip r:embed="rId1"/>
          <a:stretch/>
        </p:blipFill>
        <p:spPr>
          <a:xfrm>
            <a:off x="2543040" y="5562720"/>
            <a:ext cx="1266840" cy="8697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12" descr="Caras.jpg"/>
          <p:cNvPicPr/>
          <p:nvPr/>
        </p:nvPicPr>
        <p:blipFill>
          <a:blip r:embed="rId2"/>
          <a:stretch/>
        </p:blipFill>
        <p:spPr>
          <a:xfrm>
            <a:off x="3048120" y="1143000"/>
            <a:ext cx="2057400" cy="2209680"/>
          </a:xfrm>
          <a:prstGeom prst="rect">
            <a:avLst/>
          </a:prstGeom>
          <a:ln w="0">
            <a:noFill/>
          </a:ln>
        </p:spPr>
      </p:pic>
      <p:sp>
        <p:nvSpPr>
          <p:cNvPr id="204" name="TextBox 13"/>
          <p:cNvSpPr/>
          <p:nvPr/>
        </p:nvSpPr>
        <p:spPr>
          <a:xfrm>
            <a:off x="914400" y="24382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Derech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c000"/>
                </a:solidFill>
                <a:latin typeface="Arial"/>
              </a:rPr>
              <a:t>reconoci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24"/>
          <p:cNvSpPr/>
          <p:nvPr/>
        </p:nvSpPr>
        <p:spPr>
          <a:xfrm>
            <a:off x="5562720" y="1600200"/>
            <a:ext cx="3581280" cy="18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000" spc="-1" strike="noStrike">
                <a:solidFill>
                  <a:srgbClr val="ff0000"/>
                </a:solidFill>
                <a:latin typeface="Arial"/>
              </a:rPr>
              <a:t>Reconoce el derecho en doble dimensión: como personas individuales y como pueblo</a:t>
            </a: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 (art. 2, 8.2, 9, 14.2, 15.2, 16.1, 17.3, 21.1, 22.2, 24.1, 29.1, 46.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3200" spc="-1" strike="noStrike">
                <a:solidFill>
                  <a:srgbClr val="ffffff"/>
                </a:solidFill>
                <a:latin typeface="Verdana"/>
              </a:rPr>
              <a:t>El contexto histórico a la Declar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4582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57: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OIT aprueba el primer instrumento jurídico internacional Convenio 107 sobre Poblaciones Indígenas y Tribales (sustituido en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9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r el Convenio No. 169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71 – 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Estudio sobre la situación de los pueblos indígenas por  José Martínez Cobo  (Subcomisión de Prevención de Discriminaciones y Protección a las Minoría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1982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Creación del Grupo de trabajo sobre poblaciones indígenas (GTPI) órgano subsidiario de la Subcomisión prevención de Discriminaciones y protección a las minorías</a:t>
            </a: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- 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aminar los acontecimientos relativos a la promoción y protección de los derechos humanos y las libertades fundamentales de las poblaciones indígen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estar atención especial a la evolución de las normas relativas a los derechos de las poblaciones indígenas.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articipación representantes PI, comunidades, organizaciones 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7b46d0"/>
              </a:buClr>
              <a:buSzPct val="90000"/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yecto Declaración 1985 - 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00ffff"/>
                </a:solidFill>
                <a:latin typeface="Arial"/>
              </a:rPr>
              <a:t>PARTICIP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504960" cy="30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5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52280" y="2057400"/>
            <a:ext cx="33530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Participación en la adopción de decisiones que afecten sus derech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486040" y="1371600"/>
            <a:ext cx="3127320" cy="380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334120" y="1752120"/>
            <a:ext cx="358128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nfatiza el derecho de los pueblos indígenas a determinar y elaborar prioridades (art. 5, 18, 2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6"/>
          <p:cNvSpPr/>
          <p:nvPr/>
        </p:nvSpPr>
        <p:spPr>
          <a:xfrm>
            <a:off x="3505320" y="38098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800" spc="-1" strike="noStrike">
                <a:solidFill>
                  <a:srgbClr val="ffff00"/>
                </a:solidFill>
                <a:latin typeface="Arial"/>
              </a:rPr>
              <a:t>CONSUL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304920" y="4549680"/>
            <a:ext cx="396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ben  ser consultados sobre medidas legislativas y administrativ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De buena fe y para lograr un acuerdo o consent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9"/>
          <p:cNvSpPr/>
          <p:nvPr/>
        </p:nvSpPr>
        <p:spPr>
          <a:xfrm>
            <a:off x="4724280" y="45720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untitled"/>
          <p:cNvPicPr/>
          <p:nvPr/>
        </p:nvPicPr>
        <p:blipFill>
          <a:blip r:embed="rId3"/>
          <a:stretch/>
        </p:blipFill>
        <p:spPr>
          <a:xfrm>
            <a:off x="3505320" y="1752480"/>
            <a:ext cx="1690560" cy="183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Reuniones.bmp"/>
          <p:cNvPicPr/>
          <p:nvPr/>
        </p:nvPicPr>
        <p:blipFill>
          <a:blip r:embed="rId4"/>
          <a:stretch/>
        </p:blipFill>
        <p:spPr>
          <a:xfrm>
            <a:off x="4114800" y="4572000"/>
            <a:ext cx="1781280" cy="1378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2"/>
          <p:cNvSpPr/>
          <p:nvPr/>
        </p:nvSpPr>
        <p:spPr>
          <a:xfrm>
            <a:off x="5943600" y="4724280"/>
            <a:ext cx="32004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consulta debe ser previa e informada </a:t>
            </a:r>
            <a:r>
              <a:rPr b="0" lang="es-PA" sz="2000" spc="-1" strike="noStrike">
                <a:solidFill>
                  <a:srgbClr val="ffffff"/>
                </a:solidFill>
                <a:latin typeface="Arial"/>
              </a:rPr>
              <a:t>(art. 19, 30.2, 32.2, 32.3, 15.2, 17.2, 36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6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ONSENTIMIENTO PREV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01920" y="1371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7"/>
          <p:cNvSpPr/>
          <p:nvPr/>
        </p:nvSpPr>
        <p:spPr>
          <a:xfrm>
            <a:off x="762120" y="373392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NOCIMIENTO DEL DERECHO A LA IDE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12" descr="edrua101.jpg"/>
          <p:cNvPicPr/>
          <p:nvPr/>
        </p:nvPicPr>
        <p:blipFill>
          <a:blip r:embed="rId1"/>
          <a:stretch/>
        </p:blipFill>
        <p:spPr>
          <a:xfrm>
            <a:off x="3429000" y="4419720"/>
            <a:ext cx="2019240" cy="13460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14"/>
          <p:cNvSpPr/>
          <p:nvPr/>
        </p:nvSpPr>
        <p:spPr>
          <a:xfrm>
            <a:off x="1295280" y="4419720"/>
            <a:ext cx="1905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Los Estados deben respetar la identidad social, cultural, las costumbre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tradiciones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c000"/>
                </a:solidFill>
                <a:latin typeface="Arial"/>
              </a:rPr>
              <a:t>institu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15"/>
          <p:cNvSpPr/>
          <p:nvPr/>
        </p:nvSpPr>
        <p:spPr>
          <a:xfrm>
            <a:off x="5562720" y="464832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Derechos a determinar  su propia  identidad  o pertenencia (art.33.1, 8, 9, 5)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17" descr="Pueblos indígenas.jpg"/>
          <p:cNvPicPr/>
          <p:nvPr/>
        </p:nvPicPr>
        <p:blipFill>
          <a:blip r:embed="rId2"/>
          <a:stretch/>
        </p:blipFill>
        <p:spPr>
          <a:xfrm>
            <a:off x="3657600" y="1219320"/>
            <a:ext cx="2057400" cy="136044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0"/>
          <p:cNvSpPr/>
          <p:nvPr/>
        </p:nvSpPr>
        <p:spPr>
          <a:xfrm>
            <a:off x="5638680" y="1981080"/>
            <a:ext cx="35053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Recalca que debe 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7b46d0"/>
                </a:solidFill>
                <a:latin typeface="Arial"/>
              </a:rPr>
              <a:t>previo, libre e informado </a:t>
            </a:r>
            <a:r>
              <a:rPr b="0" lang="es-PA" sz="2000" spc="-1" strike="noStrike">
                <a:solidFill>
                  <a:srgbClr val="7b46d0"/>
                </a:solidFill>
                <a:latin typeface="Arial"/>
              </a:rPr>
              <a:t>(art. 10, 19, 29.2, 11.2, 28, 32.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17"/>
          <p:cNvSpPr/>
          <p:nvPr/>
        </p:nvSpPr>
        <p:spPr>
          <a:xfrm>
            <a:off x="994320" y="2286000"/>
            <a:ext cx="252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Medidas no deben 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contrarias a los dese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0000"/>
                </a:solidFill>
                <a:latin typeface="Arial"/>
              </a:rPr>
              <a:t>libremente expres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4400" spc="-1" strike="noStrike">
                <a:solidFill>
                  <a:srgbClr val="ffffff"/>
                </a:solidFill>
                <a:latin typeface="Arial"/>
              </a:rPr>
              <a:t>Derechos colectiv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8" descr="kuna32.jpg"/>
          <p:cNvPicPr/>
          <p:nvPr/>
        </p:nvPicPr>
        <p:blipFill>
          <a:blip r:embed="rId1"/>
          <a:stretch/>
        </p:blipFill>
        <p:spPr>
          <a:xfrm>
            <a:off x="5867280" y="2514600"/>
            <a:ext cx="1673280" cy="1066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Picture1.jpg"/>
          <p:cNvPicPr/>
          <p:nvPr/>
        </p:nvPicPr>
        <p:blipFill>
          <a:blip r:embed="rId2"/>
          <a:stretch/>
        </p:blipFill>
        <p:spPr>
          <a:xfrm>
            <a:off x="1752480" y="4114800"/>
            <a:ext cx="1663920" cy="18684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838080" y="2743200"/>
            <a:ext cx="32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Reconoce los valore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prácticas sociales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culturales, religiosas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iri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4343400" y="3809880"/>
            <a:ext cx="4191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Desarrolla la noció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1800" spc="-1" strike="noStrike">
                <a:solidFill>
                  <a:srgbClr val="ffffff"/>
                </a:solidFill>
                <a:latin typeface="Arial"/>
              </a:rPr>
              <a:t>especifica los derechos colectivos (autogobierno, instituciones políticas, sociales y culturales autónomas, integridad cultural, idiomas y expresiones culturales, tierras, coop transfronteriza,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3400" spc="-1" strike="noStrike">
                <a:solidFill>
                  <a:srgbClr val="ffffff"/>
                </a:solidFill>
                <a:latin typeface="Verdana"/>
              </a:rPr>
              <a:t>¿Es vinculante la Declaración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219320"/>
            <a:ext cx="82296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s declaraciones de la ONU en general no son vincula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in embargo, representan el desarrollo de normas legales internacionales y reflejan el compromiso de los Estados Miembros con ciertos princip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a Declaración no crea ni establece nuevos derechos.  Proporciona una interpretación sobre cómo los derechos humanos ya consagrados en otros instrumentos internacionales de importancia universal aplican a los pueblos y a los individuos indíge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n este sentido, la Declaración sí tiene un efecto vinculante para la promoción, el respeto y el cumplimiento de los derechos de los pueblos indígenas alrededor del mun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Convenio OIT No.169 y la Declaración de las NNUU sobre los</a:t>
            </a:r>
            <a:br>
              <a:rPr sz="2400"/>
            </a:br>
            <a:r>
              <a:rPr b="1" lang="es-PA" sz="2400" spc="-1" strike="noStrike">
                <a:solidFill>
                  <a:srgbClr val="86d1ec"/>
                </a:solidFill>
                <a:latin typeface="Arial"/>
              </a:rPr>
              <a:t>Derechos de los Pueblos Indígenas</a:t>
            </a:r>
            <a:br>
              <a:rPr sz="2400"/>
            </a:b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FECTOS JURÍD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Tra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Crea obligaciones legales  para los Estados partes del mism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La lectura y aplicación del Convenio  a la luz de la 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A" sz="2400" spc="-1" strike="noStrike">
                <a:solidFill>
                  <a:srgbClr val="ffffff"/>
                </a:solidFill>
                <a:latin typeface="Arial"/>
              </a:rPr>
              <a:t>DECLAR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7960" y="243828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produce normas jurídicas reconocidas en otros tra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Recoge principios de derecho internacional obli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Establece normas mínim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A" sz="2400" spc="-1" strike="noStrike">
                <a:solidFill>
                  <a:srgbClr val="ffffff"/>
                </a:solidFill>
                <a:latin typeface="Arial"/>
              </a:rPr>
              <a:t>Instrumento complementario al Conve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77560"/>
            <a:ext cx="81532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Arial"/>
              </a:rPr>
              <a:t>Importancia de la Declaració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458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Bolivia: ley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de Naciones Unid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oro Permanente: afirmó que sería su marco jurídic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 de Expertos dchos PI: sus estudios fundamentales para hacer efectivos derechos de la De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:  una de sus responsabilidades promover la Dec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istema Interamerican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rte IDH: Saramaka c. Suri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yecto de Declaración: GT/DADIN/doc.317/07 rev.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arácter interrelacionado y complementario de normas internacionales de D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89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Convenio 169 OIT sobre pueblos indígenas y tribales en países independi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3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: La ONU proclama el Año Internacional de las Poblaciones Indígenas del Mun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nferencia Mundial de Derechos Humanos Viena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4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Decenio Internacional de las Poblaciones Indígenas del Mundo (1995-200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1995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establece el Grupo de Trabajo de la Comisión de Derechos Humanos sobre el Proyecto de Declaración de los Derechos de los Pueblo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80520" y="1519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0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El ECOSOC establece el Foro Permanente para las Cuestiones Indígenas (resolución 2000/2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imer periodo de sesiones en 200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16 miemb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Mandato: 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examinar las cuestiones indígenas relativas al desarrollo económico y social, la cultura, el medio ambiente, la educación, la salud y los derechos humanos”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-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restar asesoramiento especializado y formular recomendaciones (por consenso) al Consejo, programas, fondos y organismos de las Naciones Un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- Difundir las actividades relacionadas con las cuestiones indígenas y promover su integración y coordinación dentro del sistema de la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- Producir material relacionado a los pueblos indígen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participación representantes Indígenas, O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29000" y="304920"/>
            <a:ext cx="3200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2001: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e nombra al primer Relator Especial sobre los derechos humanos y libertades fundamentales de los pueblos indígenas, el Sr. Rodolfo Stavenhagen. (2008: James Anay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2005 – 2015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Segundo D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ecenio de los Pueblos Indígenas del mundo. (A/RES/59/174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6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: El Consejo de Derechos Humanos aprueba la Declaración en el mes de ju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C" sz="2400" spc="-1" strike="noStrike">
                <a:solidFill>
                  <a:srgbClr val="ffffff"/>
                </a:solidFill>
                <a:latin typeface="Verdana"/>
              </a:rPr>
              <a:t>2007:</a:t>
            </a:r>
            <a:r>
              <a:rPr b="0" lang="es-EC" sz="2400" spc="-1" strike="noStrike">
                <a:solidFill>
                  <a:srgbClr val="ffffff"/>
                </a:solidFill>
                <a:latin typeface="Verdana"/>
              </a:rPr>
              <a:t> La Declaración de las Naciones Unidas sobre los Derechos de los Pueblos Indígenas es aprobada por la Asamblea General el 13 de septiembre. (A/RES/61/295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3300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2007</a:t>
            </a:r>
            <a:r>
              <a:rPr b="0" lang="es-CL" sz="2400" spc="-1" strike="noStrike">
                <a:solidFill>
                  <a:srgbClr val="ffffff"/>
                </a:solidFill>
                <a:latin typeface="Verdana"/>
              </a:rPr>
              <a:t>: Mecanismo de Expertos sobre Derechos de Pueblos Indígenas (Consejo de Derechos Huma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0592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Verdana"/>
              </a:rPr>
              <a:t>Mecanismo de Expertos sobre Derechos de Pueblo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tudios y asesoramiento basado en la investigación: conocimientos especializados temát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odrá presentar propuestas al Consejo para que éste las examine y aprueb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5 expertos 3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imera sesión: 1 al 3 de octubre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articipación como observado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I y Fo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ecanismos órganos ON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NG, organizaciones indígenas, expertos en cuestiones indígen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2640" y="277560"/>
            <a:ext cx="7543800" cy="106200"/>
          </a:xfrm>
          <a:prstGeom prst="rect">
            <a:avLst/>
          </a:prstGeom>
          <a:noFill/>
          <a:ln w="0">
            <a:noFill/>
          </a:ln>
        </p:spPr>
        <p:txBody>
          <a:bodyPr tIns="14760" bIns="604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33520" y="380520"/>
            <a:ext cx="815328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ffffff"/>
                </a:solidFill>
                <a:latin typeface="Arial"/>
              </a:rPr>
              <a:t>RELATOR ESPECIAL PUEBLOS INDIGENA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FORMES ANUALES TEMAT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VISITAS A PA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UNICACIONES (CARTAS DE ALEGACIONES-LLAMAMIENTOS URG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SEGU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TIVIDADES ACADEM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2224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277920"/>
            <a:ext cx="8077320" cy="715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Investigaciones temátic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28240" y="1066320"/>
            <a:ext cx="81154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tuación de los pueblos indígenas (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trument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incipales problemas y preocup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Impacto de proyectos de desarrollo en DH  de PI. (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Justicia y derechos indígenas (2004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Discriminación en el sistema de justi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riminalización de prote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istemas educativos y PI (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cceso a la educ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lidad y apropiación cult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756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articipación y sistemas educativos prop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Implementación de normas relativas a derechos de PI (2006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Avances y obstácul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ndencias y desafíos (2007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érdida continuada de los territo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ueblos de los bosques, pueblos en aislamiento volunta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Pobreza indíge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541800" indent="-226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Derechos de las mujeres indígen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4T17:47:50Z</dcterms:created>
  <dc:creator>Margarita Uprimny</dc:creator>
  <dc:description/>
  <dc:language>en-US</dc:language>
  <cp:lastModifiedBy>Margarita Uprimny</cp:lastModifiedBy>
  <dcterms:modified xsi:type="dcterms:W3CDTF">2008-11-17T14:42:48Z</dcterms:modified>
  <cp:revision>20</cp:revision>
  <dc:subject/>
  <dc:title>Slide 1</dc:title>
</cp:coreProperties>
</file>