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60108C-83B0-4B76-835A-625CF4859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A7EE52-70A7-4200-960B-DFE53920A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Declaración es fruto de una larga negociación en el seno de las NNUU (más de 20 años), trabajo intenso de las organizaciones mapuche en los for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probada primero por el Consejo de DDHH en junio del 2006 en Ginebra y luego por la AG en Nueva York el 13 de septiembre d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G: votación 144 a favor, 4 en contra (Canadá, Nueva Zelanda, Australia y Estados Unidos) y 11 abst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F9BA1D-600E-47D9-9021-CAECEAE1C9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078787-FEBB-430B-ABA0-8BDBEC787B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BE0-23CA-4D62-A301-002B49EB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631-04C2-4EFA-8184-E4DF3B21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79D-194E-439D-82CA-85010521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7EC-3FF0-46A5-8C2D-23F380F9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08C6-5A33-4A96-8E94-30A43C57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2DBE-1912-4C2A-896D-F51CCA65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D19F-F562-4EA1-9E50-4C8B8662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BFED-F578-4136-8617-D688461A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85CB-4227-413A-A8A9-454C027F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0960-CB7B-453F-972D-62F354F6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643F-C6C0-4620-9355-02F4023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3B5-4C6A-40C3-8054-A69C6A7F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16EC-1FD6-4E06-B3CC-37F944B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1EE2-EC91-4D39-866C-FC6D9E63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35D6-0E28-4480-99C4-F30C8CA1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9806-BA11-43A5-9913-B993362F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2DDF-4F0A-4536-A975-22810C24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737-2B77-4C64-B690-DAFF899E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11A-6AA3-4666-BB71-2357430C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A63-BEF6-4AD3-AA22-54DE8DDC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306-6AA1-4EBB-9C33-C4247352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DD3-01F6-457B-9984-3378B428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EF6-A4FE-40FD-A259-C2DED14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D2C-A133-4169-8D63-FA3676C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8C60-11D3-4871-8A02-781982BA35AA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EECE-5BBE-4523-8C64-C682A8F6DC0B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claración de Naciones Unidas sobre los Derechos de Pueblos Indíge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48769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Inés Margarita Uprim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ff"/>
                </a:solidFill>
                <a:latin typeface="Verdana"/>
              </a:rPr>
              <a:t>Visión general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La Declaración  de las NNUU sobre los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ffffff"/>
                </a:solidFill>
                <a:uFillTx/>
                <a:latin typeface="Arial"/>
              </a:rPr>
              <a:t>Hito histórico para los pueblos indígenas</a:t>
            </a: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13 septiembr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probación por la Asamblea General de 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Naciones Un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http://www.un.org/av/photo/incoming/medium/166313.jpg"/>
          <p:cNvPicPr/>
          <p:nvPr/>
        </p:nvPicPr>
        <p:blipFill>
          <a:blip r:embed="rId2"/>
          <a:stretch/>
        </p:blipFill>
        <p:spPr>
          <a:xfrm>
            <a:off x="2362320" y="42861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La Declaración de las Naciones Unidas sobre los Derechos de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Verdana"/>
                <a:ea typeface="SimSun"/>
              </a:rPr>
              <a:t>Aprobada por la Asamblea General, resolución A/RES/61/295, 13 de septiembre 2007 (A favor: 144; Abstención: 11; En contra: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tituye un hito histórico para el movimiento indígena y una reafirmación del compromiso de la Comunidad Internacional al respeto, promoción y cumplimiento de los derechos colectivos e individuales de los puebl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Largo proceso de negociación entre gob y PI (2 déc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Pueblos indígenas participaron activ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Instrumento mas exhaustivo sobre derechos de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olida el Derecho Internacional sobre los derechos humanos de los pueblos indígen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arco universal de estándares mínimos para la dignidad, bienestar y derechos de los pueblos indígen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sencial para la subsistencia física, cultural y espiritual, la dignidad y el bienestar de los pueblos indígenas del mund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oce l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rechos colectivos e individua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así como todos los derechos humanos y libertades fundamentales reconocidos en la Declaración Universal de los Derechos Humanos de la ONU, la Carta de las Naciones Unidas y demás instrumentos internacionales de derecho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derechos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individuale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lectivo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incluyendo aspectos referentes a la educación, las tierras, idiomas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000" spc="-1" strike="noStrike">
                <a:solidFill>
                  <a:srgbClr val="ffffff"/>
                </a:solidFill>
                <a:latin typeface="Verdana"/>
              </a:rPr>
              <a:t>autogobierno, instituciones políticas, sociales y culturales autónomas, integridad cultural, idiomas y expresiones culturales, tierras, coop transfronteriz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romueve plena y efectiva participación PI en todos los asuntos que les atañe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JA: Instrumento reparador (par 6 preámbu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ffffff"/>
                </a:solidFill>
                <a:latin typeface="Verdana"/>
              </a:rPr>
              <a:t>Algunos elementos clave de la Declar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confirma el derecho de los pueblos indígenas a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ibre determin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rt. 3). En virtud de ese derecho, los pueblos indígenas determinan libremente su condición política y persiguen libremente su desarrollo económico, social y cultura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7 de los 46 artículos de la Declaración abordan el tema de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lt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cómo protegerla y promoverla, respetando la participación directa de los pueblos indígenas en la toma de decisiones y promoviendo la educación en lenguas indígen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15 de los 46 artículos son sobre 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los pueblos indígenas en todas las decisiones que afecten sus vidas, incluyendo la participación significativa en una sociedad democrá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claración reafirma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erecho a las tierras territorios y recurso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(art.8.2, 25, 26.2, 26.3, 27, 30.1, 30.2, 32.1, 32.2, 31.1)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incipio d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entimiento libre, previo e informado </a:t>
            </a:r>
            <a:r>
              <a:rPr b="0" lang="es-PA" sz="3200" spc="-1" strike="noStrike">
                <a:solidFill>
                  <a:srgbClr val="ffffff"/>
                </a:solidFill>
                <a:latin typeface="Arial"/>
              </a:rPr>
              <a:t>(art. 10, 19, 29.2, 11.2, 28, 32.2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ul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9 (ge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30.2 (utilizar tierras para actividades milita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32.2 y 32.3: utilizar tierras y territorios  para exploración y explotación de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15.2:Combate a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tección de niños indígenas: 17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blos Indígenas transfronterizos: 36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opción de medidas: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Medidas especi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rt 38 , art 5, art 26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establece que los pueblos indígenas desposeídos de sus medios de subsistencia y desarrollo tienen derecho a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paración justa y equit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No discriminación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: reconoce el derecho en doble dimensión: </a:t>
            </a:r>
            <a:r>
              <a:rPr b="0" lang="es-PA" sz="3200" spc="-1" strike="noStrike">
                <a:solidFill>
                  <a:srgbClr val="ffffff"/>
                </a:solidFill>
                <a:latin typeface="Verdana"/>
              </a:rPr>
              <a:t>como personas individuales y como pueblo</a:t>
            </a:r>
            <a:r>
              <a:rPr b="0" lang="es-P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Verdana"/>
              </a:rPr>
              <a:t>(art. 2, 8.2, 9, 14.2, 15.2, 16.1, 17.3, 21.1, 22.2, 24.1, 29.1, 46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Convenio OIT No.16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y la Declaración de las NNUU sobre los</a:t>
            </a:r>
            <a:br>
              <a:rPr sz="4400"/>
            </a:b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Derechos de los Pueblos Indígenas</a:t>
            </a: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Elementos cl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b050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133720" y="33526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66ccff"/>
                </a:solidFill>
                <a:latin typeface="Arial"/>
              </a:rPr>
              <a:t>LIBRE DET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4572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e el derecho a decidir sus propias pri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952880" y="4114800"/>
            <a:ext cx="3886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l derecho a la libre determinación su condición política, a perseguir su desarrollo económico, social y cultural (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trabajo"/>
          <p:cNvPicPr/>
          <p:nvPr/>
        </p:nvPicPr>
        <p:blipFill>
          <a:blip r:embed="rId1"/>
          <a:stretch/>
        </p:blipFill>
        <p:spPr>
          <a:xfrm>
            <a:off x="2543040" y="5562720"/>
            <a:ext cx="1266840" cy="869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Caras.jpg"/>
          <p:cNvPicPr/>
          <p:nvPr/>
        </p:nvPicPr>
        <p:blipFill>
          <a:blip r:embed="rId2"/>
          <a:stretch/>
        </p:blipFill>
        <p:spPr>
          <a:xfrm>
            <a:off x="3048120" y="11430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914400" y="2438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recono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5562720" y="1600200"/>
            <a:ext cx="3581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0000"/>
                </a:solidFill>
                <a:latin typeface="Arial"/>
              </a:rPr>
              <a:t>Reconoce el derecho en doble dimensión: como personas individuales y como pueblo</a:t>
            </a: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 (art. 2, 8.2, 9, 14.2, 15.2, 16.1, 17.3, 21.1, 22.2, 24.1, 29.1, 46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Verdana"/>
              </a:rPr>
              <a:t>El contexto histórico a la Decla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57: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IT aprueba el primer instrumento jurídico internacional Convenio 107 sobre Poblaciones Indígenas y Tribales (sustituido en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r el Convenio No. 16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71 – 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tudio sobre la situación de los pueblos indígenas por  José Martínez Cobo  (Subcomisión de Prevención de Discriminaciones y Protección a las Minorí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Creación del Grupo de trabajo sobre poblaciones indígenas (GTPI) órgano subsidiario de la Subcomisión prevención de Discriminaciones y protección a las minoría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aminar los acontecimientos relativos a la promoción y protección de los derechos humanos y las libertades fundamentales de las poblacion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atención especial a la evolución de las normas relativas a los derechos de las poblaciones indígenas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ticipación representantes PI, comunidades, organizaciones 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yecto Declaración 1985 -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ffff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2057400"/>
            <a:ext cx="33530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Participación en la adopción de decisiones que afecten sus derec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1273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4120" y="1752120"/>
            <a:ext cx="3581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nfatiza el derecho de los pueblos indígenas a determinar y elaborar prioridades (art. 5, 18, 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5053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00"/>
                </a:solidFill>
                <a:latin typeface="Arial"/>
              </a:rPr>
              <a:t>CONS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04920" y="45496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ben  ser consultados sobre medidas legislativas y administ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 buena fe y para lograr un acuerdo o consent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724280" y="4572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untitled"/>
          <p:cNvPicPr/>
          <p:nvPr/>
        </p:nvPicPr>
        <p:blipFill>
          <a:blip r:embed="rId3"/>
          <a:stretch/>
        </p:blipFill>
        <p:spPr>
          <a:xfrm>
            <a:off x="3505320" y="1752480"/>
            <a:ext cx="1690560" cy="183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Reuniones.bmp"/>
          <p:cNvPicPr/>
          <p:nvPr/>
        </p:nvPicPr>
        <p:blipFill>
          <a:blip r:embed="rId4"/>
          <a:stretch/>
        </p:blipFill>
        <p:spPr>
          <a:xfrm>
            <a:off x="4114800" y="4572000"/>
            <a:ext cx="178128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2"/>
          <p:cNvSpPr/>
          <p:nvPr/>
        </p:nvSpPr>
        <p:spPr>
          <a:xfrm>
            <a:off x="5943600" y="472428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consulta debe ser previa e informada 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(art. 19, 30.2, 32.2, 32.3, 15.2, 17.2, 3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ONSENTIMIENTO PREV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62120" y="37339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IMIENTO DEL DERECHO A LA ID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2" descr="edrua101.jpg"/>
          <p:cNvPicPr/>
          <p:nvPr/>
        </p:nvPicPr>
        <p:blipFill>
          <a:blip r:embed="rId1"/>
          <a:stretch/>
        </p:blipFill>
        <p:spPr>
          <a:xfrm>
            <a:off x="3429000" y="4419720"/>
            <a:ext cx="2019240" cy="1346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4"/>
          <p:cNvSpPr/>
          <p:nvPr/>
        </p:nvSpPr>
        <p:spPr>
          <a:xfrm>
            <a:off x="12952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Los Estados deben respetar la identidad social, cultural, las costu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tradicione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562720" y="4648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Derechos a determinar  su propia  identidad  o pertenencia (art.33.1, 8, 9, 5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Pueblos indígenas.jpg"/>
          <p:cNvPicPr/>
          <p:nvPr/>
        </p:nvPicPr>
        <p:blipFill>
          <a:blip r:embed="rId2"/>
          <a:stretch/>
        </p:blipFill>
        <p:spPr>
          <a:xfrm>
            <a:off x="3657600" y="1219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638680" y="1981080"/>
            <a:ext cx="3505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Recalca que debe 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previo, libre e informado </a:t>
            </a:r>
            <a:r>
              <a:rPr b="0" lang="es-PA" sz="2000" spc="-1" strike="noStrike">
                <a:solidFill>
                  <a:srgbClr val="7b46d0"/>
                </a:solidFill>
                <a:latin typeface="Arial"/>
              </a:rPr>
              <a:t>(art. 10, 19, 29.2, 11.2, 28, 32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994320" y="22860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Medidas no deben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contrarias a los des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libremente expres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rechos colec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kuna32.jpg"/>
          <p:cNvPicPr/>
          <p:nvPr/>
        </p:nvPicPr>
        <p:blipFill>
          <a:blip r:embed="rId1"/>
          <a:stretch/>
        </p:blipFill>
        <p:spPr>
          <a:xfrm>
            <a:off x="5867280" y="2514600"/>
            <a:ext cx="167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icture1.jpg"/>
          <p:cNvPicPr/>
          <p:nvPr/>
        </p:nvPicPr>
        <p:blipFill>
          <a:blip r:embed="rId2"/>
          <a:stretch/>
        </p:blipFill>
        <p:spPr>
          <a:xfrm>
            <a:off x="1752480" y="4114800"/>
            <a:ext cx="1663920" cy="1868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2743200"/>
            <a:ext cx="32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Reconoce los valor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prácticas socia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culturales, religiosa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iri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380988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Desarrolla la no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ecifica los derechos colectivos (autogobierno, instituciones políticas, sociales y culturales autónomas, integridad cultural, idiomas y expresiones culturales, tierras, coop transfronteriza,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Verdana"/>
              </a:rPr>
              <a:t>¿Es vinculante la Declaració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declaraciones de la ONU en general no son vincul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embargo, representan el desarrollo de normas legales internacionales y reflejan el compromiso de los Estados Miembros con ciert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Declaración no crea ni establece nuevos derechos.  Proporciona una interpretación sobre cómo los derechos humanos ya consagrados en otros instrumentos internacionales de importancia universal aplican a los pueblos y a los individu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ste sentido, la Declaración sí tiene un efecto vinculante para la promoción, el respeto y el cumplimiento de los derechos de los pueblos indígenas alrededor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Convenio OIT No.169 y la Declaración de las NNUU sobre los</a:t>
            </a:r>
            <a:br>
              <a:rPr sz="2400"/>
            </a:b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br>
              <a:rPr sz="2400"/>
            </a:b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FECTOS JURÍ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Tra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rea obligaciones legales  para los Estados partes del m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lectura y aplicación del Convenio  a la luz de la 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2438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produce normas jurídicas reconocidas en otros tra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ge principios de derecho internacion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stablece normas mínim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Instrumento complementario al 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Importancia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olivia: ley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de Naciones Uni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o Permanente: afirmó que sería su marco jurí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 de Expertos dchos PI: sus estudios fundamentales para hacer efectivos derechos de la D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:  una de sus responsabilidades promover la De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Interameric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rte IDH: Saramaka c. Suri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to de Declaración: GT/DADIN/doc.317/07 rev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ácter interrelacionado y complementario de normas internacionales de 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89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Convenio 169 OIT sobre pueblos indígenas y tribales en países independ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La ONU proclama el Año Internacional de las Poblaciones Indígenas del Mun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ferencia Mundial de Derechos Humanos Vi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4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cenio Internacional de las Poblaciones Indígenas del Mundo (1995-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5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stablece el Grupo de Trabajo de la Comisión de Derechos Humanos sobre el Proyecto de Declaración de los Derechos de los Pueblo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0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El ECOSOC establece el Foro Permanente para las Cuestiones Indígenas (resolución 2000/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imer periodo de sesiones en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6 mi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ndato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aminar las cuestiones indígenas relativas al desarrollo económico y social, la cultura, el medio ambiente, la educación, la salud y los derechos humanos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estar asesoramiento especializado y formular recomendaciones (por consenso) al Consejo, programas, fondos y organismos de las Naciones Un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Difundir las actividades relacionadas con las cuestiones indígenas y promover su integración y coordinación dentro del sistema de la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- Producir material relacionado a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ación representantes Indígenas, 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1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nombra al primer Relator Especial sobre los derechos humanos y libertades fundamentales de los pueblos indígenas, el Sr. Rodolfo Stavenhagen. (2008: James Anay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5 – 201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gundo D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ecenio de los Pueblos Indígenas del mundo. (A/RES/59/1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6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: El Consejo de Derechos Humanos aprueba la Declaración en el mes de ju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7: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 La Declaración de las Naciones Unidas sobre los Derechos de los Pueblos Indígenas es aprobada por la Asamblea General el 13 de septiembre. (A/RES/61/2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: Mecanismo de Expertos sobre Derechos de Pueblos Indígenas (Consejo de Derech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canismo de Expertos sobre Derechos de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udios y asesoramiento basado en la investigación: conocimientos especializados 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drá presentar propuestas al Consejo para que éste las examine y aprue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 expertos 3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mera sesión: 1 al 3 de octubre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ticipación como observado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I y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s órganos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NG, organizaciones indígenas, expertos en cuestione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06200"/>
          </a:xfrm>
          <a:prstGeom prst="rect">
            <a:avLst/>
          </a:prstGeom>
          <a:noFill/>
          <a:ln w="0">
            <a:noFill/>
          </a:ln>
        </p:spPr>
        <p:txBody>
          <a:bodyPr tIns="14760" bIns="60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LATOR ESPECIAL PUEBLOS INDIGE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ES ANUALES TEMA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ISITAS A PA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CACIONES (CARTAS DE ALEGACIONES-LLAMAMIENTOS UR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VIDADES ACADE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Investigaciones temát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066320"/>
            <a:ext cx="811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tuación de los pueblos indígenas (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ru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roblemas y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acto de proyectos de desarrollo en DH  de PI.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Justicia y derechos indígenas (2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scriminación en el sistema de justi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minalización de prot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educativos y PI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eso a la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lidad y apropiación 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ticipación y sistemas educativos pro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lementación de normas relativas a derechos de PI (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vances y obstácu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ndencias y desafíos 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érdida continuada de los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blos de los bosques, pueblos en aislamiento volu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breza indí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rechos de las mujere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47:50Z</dcterms:created>
  <dc:creator>Margarita Uprimny</dc:creator>
  <dc:description/>
  <dc:language>en-US</dc:language>
  <cp:lastModifiedBy>Margarita Uprimny</cp:lastModifiedBy>
  <dcterms:modified xsi:type="dcterms:W3CDTF">2008-11-17T14:42:48Z</dcterms:modified>
  <cp:revision>20</cp:revision>
  <dc:subject/>
  <dc:title>Slide 1</dc:title>
</cp:coreProperties>
</file>