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AEE15-BAE5-407A-B7E7-04F041D61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6A441-73FC-4936-B1CD-7448E9B27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23AD4-6F2C-4C01-965C-37B8801E9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B65BE-0DE1-49B3-A959-6D3E632E8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5B0DF-9FEE-4575-8AB5-69FCF9449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10768-ECA5-44EF-96F6-27AAECFD4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AFE5D-5CD6-4932-B891-1D99ED771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E925D-6DD2-478A-9591-11E12C4AC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87657-ECA5-4385-AD0C-B8E0B2BDD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51022-AE88-4B97-B1F5-DE07B4CA3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52CC8-2FD7-40C6-97F1-49AF0C2D8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4448D-C9E5-4742-8831-037823600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0F187-A1C3-463D-807F-234B18689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215CD-0629-4E81-86D6-69492070D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135EB-D3E5-4714-B48C-EAD6CBE77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485D3-F3D5-4A62-B787-C19B9BBD9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DBEBA-9BF5-4A40-94E3-8E49B79E1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117D4-796A-42A1-8A8C-D0E0A7C90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C03FA-36C0-4AAD-BB75-7CA945B58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7D018-F726-46EB-8FC7-68F74C663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D9442-FB93-4A67-B102-2F3B7249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8ADA2-B942-4FB1-86B0-28C042AA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44A8D-97B4-498A-AE90-5F842EF5F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1088D-ED50-4E7D-ADDC-BAFD97968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F72D-C46B-409A-8CCC-40FFF2AA1F1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290B-BC5B-4D47-BB15-14CE76580E7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ceso de Integración de Centro América</a:t>
            </a:r>
            <a:endParaRPr b="0" lang="en-US" sz="4000" spc="-1" strike="noStrike">
              <a:solidFill>
                <a:srgbClr val="ffcc66"/>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ntecedentes Históricos:</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u aporte ala integración educativa, cultural y a la dimensión social del proceso.</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rte de Justicia Centroamericana, 1907.</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tado de Confraternidad Centroamericana, 1934</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La unión política de Centro América es la suprema aspiración de sus puebl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33360"/>
            <a:ext cx="777240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pósitos del SICA</a:t>
            </a:r>
            <a:endParaRPr b="0" lang="en-US" sz="4000" spc="-1" strike="noStrike">
              <a:solidFill>
                <a:srgbClr val="ffcc66"/>
              </a:solidFill>
              <a:latin typeface="Arial"/>
            </a:endParaRPr>
          </a:p>
        </p:txBody>
      </p:sp>
      <p:sp>
        <p:nvSpPr>
          <p:cNvPr id="102" name="PlaceHolder 2"/>
          <p:cNvSpPr>
            <a:spLocks noGrp="1"/>
          </p:cNvSpPr>
          <p:nvPr>
            <p:ph/>
          </p:nvPr>
        </p:nvSpPr>
        <p:spPr>
          <a:xfrm>
            <a:off x="539640" y="980640"/>
            <a:ext cx="81360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án expresados en el Protocolo de Tegucigalpa.</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Consolidar la democracia y fortalecer sus instituciones sobre la base de la existencia de Gobiernos electos por sufragio universal, libre y secreto, y del irrestricto respeto a los Derechos Hum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Concretar un nuevo modelo de seguridad regional sustentado en un balance razonable de fuerzas, el fortalecimiento del poder civil, la superación de la pobreza extrema, la promoción del desarrollo sostenido, la protección del medio ambiente, la erradicación de la violencia, la corrupción, el terrorismo, el narcotráfico y el tráfico de arma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Impulsar un régimen amplio de libertad que asegure el desarrollo pleno y armonioso del individuo y de la sociedad en su conjunt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Lograr un Sistema regional de bienestar y justicia económica y social para los pueblos Centroameric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Alcanzar una unión económica y fortalecer el Sistema financiero Centroamerican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Fortalecer la región como bloque económico para insertarlo exitosamente en la economía internacional.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Reafirmar y consolidar la autodeterminación de Centroamérica en sus relaciones externas, mediante una estrategia única que fortalezca y amplíe la participación de la región, en su conjunto, en el ámbito internacional.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Promover, en forma armónica y equilibrada, el desarrollo sostenido económico, social, cultural y político de los Estados Miembros y de la región en su conjunto.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stablecer acciones concertadas dirigidas a la preservación del medio ambiente por medio del respeto y armonía con la naturaleza, asegurando el equilibrado desarrollo y explotación racional de los recursos naturales del área, con miras al establecimiento de un Nuevo Orden Ecológico en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 Conformar el Sistema de la Integración Centroamericana sustentado en un ordenamiento institucional y jurídico, y fundamentado asimismo en el respeto mutuo entre los Estados miembros.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60280"/>
            <a:ext cx="77724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incipios del SICA</a:t>
            </a:r>
            <a:endParaRPr b="0" lang="en-US" sz="4000" spc="-1" strike="noStrike">
              <a:solidFill>
                <a:srgbClr val="ffcc66"/>
              </a:solidFill>
              <a:latin typeface="Arial"/>
            </a:endParaRPr>
          </a:p>
        </p:txBody>
      </p:sp>
      <p:sp>
        <p:nvSpPr>
          <p:cNvPr id="105" name="PlaceHolder 2"/>
          <p:cNvSpPr>
            <a:spLocks noGrp="1"/>
          </p:cNvSpPr>
          <p:nvPr>
            <p:ph/>
          </p:nvPr>
        </p:nvSpPr>
        <p:spPr>
          <a:xfrm>
            <a:off x="685800" y="1125360"/>
            <a:ext cx="8207280" cy="573264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 La tutela, respeto y promoción de los Derechos Humanos constituyen la base fundamental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Paz, Democracia, Desarrollo y Libertad, son un todo armónico e indivisible que orientará las actuaciones de los países miembros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 La identidad Centroamericana como manifestación activa de los intereses regionales y de la voluntad de participar en la consolidación de la integración de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 La solidaridad Centroamericana como expresión de su profunda interdependencia, origen y destino comú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La gradualidad, especificidad y progresividad del proceso de integración económica, sustentado en el desarrollo regional armónico y equilibrado; y el tratamiento especial a países miembros de menor desarrollo relativo; la equidad y reciprocidad; y la Cláusula Centroamericana de Excep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549000"/>
            <a:ext cx="813744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 La globalidad del proceso de integración y la participación democrática, en el mismo, de todos los sectores sociale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La seguridad jurídica de las relaciones entre los Estados Miembros y la solución Pacífica de sus controversia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La buena fe de los Estados Miembros en el cumplimiento de sus obligaciones, absteniéndose de establecer, convenir o adoptar medida alguna que sea contraria a las disposiciones de este instrumento o que obstaculice el cumplimiento de los principios fundamentales del Sistema de la Integración Centroamericana o la consecución de sus objetivo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l respeto a los principios y normas de las Cartas de la Organización de las Naciones Unidas (ONU) y de la Organización de Estados Americanos (OEA), y las Declaraciones emitidas en las Reuniones Presidenciales Centroamericanas desde mayo de 1986.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8900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Órganos del SICA</a:t>
            </a:r>
            <a:endParaRPr b="0" lang="en-US" sz="4400" spc="-1" strike="noStrike">
              <a:solidFill>
                <a:srgbClr val="ffcc66"/>
              </a:solidFill>
              <a:latin typeface="Arial"/>
            </a:endParaRPr>
          </a:p>
        </p:txBody>
      </p:sp>
      <p:sp>
        <p:nvSpPr>
          <p:cNvPr id="108" name="PlaceHolder 2"/>
          <p:cNvSpPr>
            <a:spLocks noGrp="1"/>
          </p:cNvSpPr>
          <p:nvPr>
            <p:ph/>
          </p:nvPr>
        </p:nvSpPr>
        <p:spPr>
          <a:xfrm>
            <a:off x="323640" y="1267920"/>
            <a:ext cx="8134200" cy="5589720"/>
          </a:xfrm>
          <a:prstGeom prst="rect">
            <a:avLst/>
          </a:prstGeom>
          <a:noFill/>
          <a:ln w="0">
            <a:noFill/>
          </a:ln>
        </p:spPr>
        <p:txBody>
          <a:bodyPr lIns="90000" rIns="90000" tIns="46800" bIns="46800" anchor="t">
            <a:normAutofit/>
          </a:bodyPr>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La Reunión de 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La Reunión de Vice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3.- Parlamento Centroamericano (PARLACEN)</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4.- Corte Centroamericano de Justicia (CCJ)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5.- El Consejo de Ministros de Relaciones Exterior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6.- El Comité Ejecutivo</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7.- Secretaría General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8.- Comité Consultiv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 de la SICA</a:t>
            </a:r>
            <a:endParaRPr b="0" lang="en-US" sz="4400" spc="-1" strike="noStrike">
              <a:solidFill>
                <a:srgbClr val="ffcc66"/>
              </a:solidFill>
              <a:latin typeface="Arial"/>
            </a:endParaRPr>
          </a:p>
        </p:txBody>
      </p:sp>
      <p:sp>
        <p:nvSpPr>
          <p:cNvPr id="110" name="PlaceHolder 2"/>
          <p:cNvSpPr>
            <a:spLocks noGrp="1"/>
          </p:cNvSpPr>
          <p:nvPr>
            <p:ph/>
          </p:nvPr>
        </p:nvSpPr>
        <p:spPr>
          <a:xfrm>
            <a:off x="178920" y="907920"/>
            <a:ext cx="8713800" cy="595008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Secretarías del Sistema. Están directamente relacionadas con la Secretaría General, algunas Secretarías del Sistema son:</a:t>
            </a:r>
            <a:endParaRPr b="0" lang="en-US" sz="20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Sec. Ejecutiva de la Comisión Centroamericana de Ambiente y Desarrollo;</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 Sec Ejecutiva de la Comisión Regional de Recursos Hidráulicos;</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 Sec Ejecutiva del Consejo Monetario Centroamericano; etc.</a:t>
            </a: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Banco Centroamericano de Integración Económica (BCI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Comisión Centroamericana Permanente para la Erradicación de la Producción, Tráfico, Cosumo y Uso Ilícito de Estupefacientes y Sustancias Psicotrópicas y Delitos Conexo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El Centro para la Promoción de la Micro y Pequeña Empresa en Centroamérica (CENPROMYP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Centro de Coordinación para la Prevención de Desastres Naturales en América Central (CEPREDENAC)</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Comisión Centroamericana de Transporte Marítimo (COCATRAM); et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3640" y="692280"/>
            <a:ext cx="8134200" cy="5403600"/>
          </a:xfrm>
          <a:prstGeom prst="rect">
            <a:avLst/>
          </a:prstGeom>
          <a:noFill/>
          <a:ln w="0">
            <a:noFill/>
          </a:ln>
        </p:spPr>
        <p:txBody>
          <a:bodyPr lIns="90000" rIns="90000" tIns="46800" bIns="46800" anchor="t">
            <a:normAutofit/>
          </a:bodyPr>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Dimensión Social:</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rtículo IX del Tratado:</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ificación de la enseñanza elemental, secundaria y profesional. </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ducación superior: reconocimiento a los títulos universitarios y profesionales en cada uno de los paíse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Universitario: 10 años después, Confederación de Universidades Centroamericana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Superior Universitario Centroamericano, 1948 CSUCA. Objetivo: La coordinación universitaria para mejorar la calidad de la enseñanza superior, modernizarla y unificarla.</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u labor se proyecto en el actual proceso de integración Centroamerica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de Nutrición de Centroamérica y Panamá (INCAP) 1949.</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Centro Americano de Investigación y Tecnología Industrial (ICAITI) 1955, instrumento de integración para difundir la ciencia y la tecnología industrial.</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 prestigio le ha permitido insertarse en la red cultural subregional de cooperación en América Latina.</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arta de San Salvador de 1951, sustituida en 1962 por la Carta de la Organización de Estados Centroamericanos (ODE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Mercado Común Centroamericano (MCCA)</a:t>
            </a:r>
            <a:endParaRPr b="0" lang="en-US" sz="2800" spc="-1" strike="noStrike">
              <a:solidFill>
                <a:srgbClr val="ffcc66"/>
              </a:solidFill>
              <a:latin typeface="Arial"/>
            </a:endParaRPr>
          </a:p>
        </p:txBody>
      </p:sp>
      <p:sp>
        <p:nvSpPr>
          <p:cNvPr id="92" name=""/>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ntecedent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Participación de Cepal: Raúl Prebisc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mite de Cooperación Economica del Ismo Centroamericano( C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la Organización  de Estados Centroamericanos (ODECA), 1951: reconstrruir  la unidad política  de centroamérica e incorporó la dimensión social y cultural de la integración se crea el Consejo Cultural y Educativ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Tratado General de Integración Centroamericana – Managua, Nicaragu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13 dic. 196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San Salvador de 196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íses miembr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Nicaragua , Guatemala, Honduras, El Salvad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sta Rica se incorporó en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igencia 23 de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namá se incorporó en junio de 1991</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ocesos Principales</a:t>
            </a:r>
            <a:endParaRPr b="0" lang="en-US" sz="4400" spc="-1" strike="noStrike">
              <a:solidFill>
                <a:srgbClr val="ffcc66"/>
              </a:solidFill>
              <a:latin typeface="Arial"/>
            </a:endParaRPr>
          </a:p>
        </p:txBody>
      </p:sp>
      <p:sp>
        <p:nvSpPr>
          <p:cNvPr id="94" name=""/>
          <p:cNvSpPr/>
          <p:nvPr/>
        </p:nvSpPr>
        <p:spPr>
          <a:xfrm>
            <a:off x="914400" y="1828800"/>
            <a:ext cx="7940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 La creación de una zona de libre comerci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2.- La adopción de un arancel externo común (unión adua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3.- El establecimiento de un esquema compensador para facilitar  los pagos entre los países</a:t>
            </a:r>
            <a:endParaRPr b="0" lang="en-US" sz="2400" spc="-1" strike="noStrike">
              <a:solidFill>
                <a:srgbClr val="ffffff"/>
              </a:solidFill>
              <a:latin typeface="Times New Roman"/>
            </a:endParaRPr>
          </a:p>
        </p:txBody>
      </p:sp>
      <p:sp>
        <p:nvSpPr>
          <p:cNvPr id="95" name=""/>
          <p:cNvSpPr/>
          <p:nvPr/>
        </p:nvSpPr>
        <p:spPr>
          <a:xfrm>
            <a:off x="3794040" y="4232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a:t>
            </a:r>
            <a:endParaRPr b="0" lang="en-US" sz="4400" spc="-1" strike="noStrike">
              <a:solidFill>
                <a:srgbClr val="ffcc66"/>
              </a:solidFill>
              <a:latin typeface="Arial"/>
            </a:endParaRPr>
          </a:p>
        </p:txBody>
      </p:sp>
      <p:sp>
        <p:nvSpPr>
          <p:cNvPr id="97" name=""/>
          <p:cNvSpPr/>
          <p:nvPr/>
        </p:nvSpPr>
        <p:spPr>
          <a:xfrm>
            <a:off x="912960" y="1600200"/>
            <a:ext cx="68389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jecutiv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Banco Centroamericano de Integración Económ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conómico Centroamerican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cretaría permanete del órganismo ( la SIE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441360" y="304920"/>
            <a:ext cx="870264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Conflictos fronterizos entre Honduras y  El Salvador 1969 . Se frena el proceso de integración. </a:t>
            </a:r>
            <a:br>
              <a:rPr sz="1700"/>
            </a:br>
            <a:r>
              <a:rPr b="1" lang="es-ES_tradnl" sz="1700" spc="-1" strike="noStrike">
                <a:solidFill>
                  <a:srgbClr val="ffffff"/>
                </a:solidFill>
                <a:latin typeface="Arial"/>
              </a:rPr>
              <a:t>Nace el Grupo de Contadora y el Grupo de Apoyo de Contadora antecedentes del Grupo de Rio</a:t>
            </a:r>
            <a:br>
              <a:rPr sz="1700"/>
            </a:br>
            <a:br>
              <a:rPr sz="1700"/>
            </a:br>
            <a:r>
              <a:rPr b="1" lang="es-ES_tradnl" sz="1700" spc="-1" strike="noStrike">
                <a:solidFill>
                  <a:srgbClr val="ffffff"/>
                </a:solidFill>
                <a:latin typeface="Arial"/>
              </a:rPr>
              <a:t>Apoyo político de Europa para pacificar      =      Diálogo de San José</a:t>
            </a:r>
            <a:br>
              <a:rPr sz="1700"/>
            </a:br>
            <a:r>
              <a:rPr b="1" lang="es-ES_tradnl" sz="1700" spc="-1" strike="noStrike">
                <a:solidFill>
                  <a:srgbClr val="ffffff"/>
                </a:solidFill>
                <a:latin typeface="Arial"/>
              </a:rPr>
              <a:t>la región centroaméricana</a:t>
            </a:r>
            <a:br>
              <a:rPr sz="1700"/>
            </a:br>
            <a:r>
              <a:rPr b="1" lang="es-ES_tradnl" sz="1700" spc="-1" strike="noStrike">
                <a:solidFill>
                  <a:srgbClr val="ffffff"/>
                </a:solidFill>
                <a:latin typeface="Arial"/>
              </a:rPr>
              <a:t> </a:t>
            </a:r>
            <a:br>
              <a:rPr sz="1700"/>
            </a:br>
            <a:r>
              <a:rPr b="1" lang="es-ES_tradnl" sz="1700" spc="-1" strike="noStrike">
                <a:solidFill>
                  <a:srgbClr val="ffffff"/>
                </a:solidFill>
                <a:latin typeface="Arial"/>
              </a:rPr>
              <a:t>Reuniónes de Estipulas:   “no es posible alcanzar paz sin desarrollo”</a:t>
            </a:r>
            <a:br>
              <a:rPr sz="1700"/>
            </a:br>
            <a:r>
              <a:rPr b="1" lang="es-ES_tradnl" sz="1700" spc="-1" strike="noStrike">
                <a:solidFill>
                  <a:srgbClr val="ffffff"/>
                </a:solidFill>
                <a:latin typeface="Arial"/>
              </a:rPr>
              <a:t>Declaración de Antiguas (Guatemala,17 de junio de 1990)</a:t>
            </a:r>
            <a:br>
              <a:rPr sz="1700"/>
            </a:br>
            <a:r>
              <a:rPr b="1" lang="es-ES_tradnl" sz="1700" spc="-1" strike="noStrike">
                <a:solidFill>
                  <a:srgbClr val="ffffff"/>
                </a:solidFill>
                <a:latin typeface="Arial"/>
              </a:rPr>
              <a:t>Y el Plan de Acción Económico de Centroamërica, participan los Presidentes de Costa Rica, El Salvador , Guatemala, Honduras y Nicaragua, y como observador invitado el Presidente de Panamá</a:t>
            </a:r>
            <a:br>
              <a:rPr sz="1700"/>
            </a:br>
            <a:r>
              <a:rPr b="1" lang="es-ES_tradnl" sz="1700" spc="-1" strike="noStrike">
                <a:solidFill>
                  <a:srgbClr val="ffffff"/>
                </a:solidFill>
                <a:latin typeface="Arial"/>
              </a:rPr>
              <a:t>Se reafirma el respeto irrestricto y la plena vigencia de los derechos humanos, base  fundamental de los sistemas democráticos con el propósito de fortalecer y ampliar los alcances del proceso pacificador regional.</a:t>
            </a:r>
            <a:br>
              <a:rPr sz="1700"/>
            </a:br>
            <a:r>
              <a:rPr b="1" lang="es-ES_tradnl" sz="1700" spc="-1" strike="noStrike">
                <a:solidFill>
                  <a:srgbClr val="ffffff"/>
                </a:solidFill>
                <a:latin typeface="Arial"/>
              </a:rPr>
              <a:t>Se crea la Comisión Centroamericana de Ambiente y Desarrollo  y se promueve un nuevo orden ecológico internacional (antecedentes de la Alianza Centroaméricana para el Desarrollo Sostenible – ALIDES, 1994)</a:t>
            </a:r>
            <a:br>
              <a:rPr sz="1700"/>
            </a:br>
            <a:r>
              <a:rPr b="1" lang="es-ES_tradnl" sz="1700" spc="-1" strike="noStrike">
                <a:solidFill>
                  <a:srgbClr val="ffffff"/>
                </a:solidFill>
                <a:latin typeface="Arial"/>
              </a:rPr>
              <a:t>Declaración de Punta Arenas, Costa Rica 17 de Diciembre de 1990 los Presidentes de Costa Rica, El salvador, Guatemala, Honduras y Nicaragua,  observador invitado el Presidente de Panamá “declaran a Centroamérica como Región de Paz, Libertad, Democracia  y Desarrollo”.</a:t>
            </a:r>
            <a:br>
              <a:rPr sz="1700"/>
            </a:br>
            <a:r>
              <a:rPr b="1" lang="es-ES_tradnl" sz="1700" spc="-1" strike="noStrike">
                <a:solidFill>
                  <a:srgbClr val="ffffff"/>
                </a:solidFill>
                <a:latin typeface="Arial"/>
              </a:rPr>
              <a:t>Deciden medidas concretas de preservación del medio ambi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304920"/>
            <a:ext cx="9144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claración de San Salvador X Cumbre: 15-17 de julio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 incorporó Panamá como miembro pleno al proceso de integr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íses invitados Chile y Venezuel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tocolo de Tegucicalpa, 13 de diciembre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ustituye la Organización de Estados Centroamericanos (ODECA) y crea el Sistema de Integracion Centroamericana(S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Declaración de Panamá diciembre de 1992  ratifica el SICA y constituye el actual marco institucional de la integración centroamerican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bjetivo fundamental: realizar la integración de América Central, para constituirla como region de paz, libertad, democracia y desarrol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á integrado por Costa Rica, El Salvador, Guatemala, Honduras, Belice, Nicaragua y Panamá como estados Miembros, y República Dominicana como Estado Asociado. Tiene su sede en San Salvador, El Salvad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0" y="365040"/>
            <a:ext cx="91724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Panamá de 11 de diciembre de 1992 se puso en funcionamiento el SICA a contar del 01 de febrero de 199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cuerdo de Managua 22 de abril de 1993, se acordó una zona de libre comercio subregion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Conjunta de San Salvador 26 de agosto de 1993( Grupo Centroaméricano Cuatro) formado por los presidentes de El Salvador , Guatemala, Honduras y Nicaragua, a fin de consolidar una unión aduanera (Costa Rica no participa y rechazó la supresión de aduana, la suya le proporciona el 50% de sus ingresos fiscal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temala, XIV Reunión Cumbre de Presidentes, 29 de octubre de1993, en Guatemala. Se suscribieron varios convenios entre otros uno para la prevención de desastres naturales en América Cent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cimo, Limón, Costa Rica, XV Reunión Cumbre de Presidentes de América Central 18 al 20 de agosto de 1994.</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 un modelo de sustitución de importaciones “hacia adentro” se pasa al modelo de desarrollo “hacia afuera”  el nuevo modelo de integració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0:12:24Z</dcterms:created>
  <dc:creator>Iris Vittini</dc:creator>
  <dc:description/>
  <dc:language>en-US</dc:language>
  <cp:lastModifiedBy>Judith Baeza</cp:lastModifiedBy>
  <dcterms:modified xsi:type="dcterms:W3CDTF">2008-04-02T21:37:27Z</dcterms:modified>
  <cp:revision>12</cp:revision>
  <dc:subject/>
  <dc:title>Mercado Común Centroamericano (MCCA)</dc:title>
</cp:coreProperties>
</file>