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5EE0F-D3B1-43DC-B7DF-6F6CB8701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93B14-1CC2-4F32-8D34-6E2700E21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7529A-E18F-45FB-BFD9-211AEE61A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BA797-D414-4E1F-8315-693673B7A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937D-B601-4D92-A707-2FED71F28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C52DC-67AF-4034-8BDE-1EA554C37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08133-1C68-48F5-9913-ECA615024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5119F-5692-44B2-8064-ACF186222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AD8EA-B38F-4653-824F-307A2EEF3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D2745-F446-4F2F-9221-77286A7B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B2F29-BC5E-4039-8F68-F0C00A836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13DB4-682D-4382-857A-A7697D967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E69D-4B6A-473A-80E0-386E278A5EC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571320"/>
            <a:ext cx="7815240" cy="30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APUNTES  RESUMIDOS  DEL  CURSO DE DERECHO  DE  LA       .               UNION        EUROPEA                                                                           </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PROFESOR.  Alberto  Rioseco  V</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Con la colaboración de la Prof. Gilda Cicci 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Santiago, Marzo, 2008</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428760"/>
            <a:ext cx="8229600" cy="5697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l Derecho de la Integr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nuestra opinión el Derecho de la Integración es la rama del Derecho que estudia el conjunto de principios,  instituciones y normas que rigen la constitución y funcionamiento de procesos de integración  constituidos por Estados que se asocian con una finalidad común,  pero que conservan su individualidad  y su personalidad jurídica internacional.  Procesos que, por lo general  tienen en su comienzo carácter exclusivamente económico, pero que la dinámica los lleva incluir elementos políticos, sociales, culturales, et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uropa en que el proceso de integración ha adquirido u mayor desarrollo, se le denomina Derecho Comunitario (Derecho de la Unión Europea) y tiene tres aspectos fundament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1.- Derecho Comunitario General o Institucional, cuyos grandes capítulos 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objetivos, propósitos y fines, la estructura institucional; las fuentes de ese derecho; los aspectos jurisdiccionales,  y las relaciones entre ese derecho y los derechos nacionales, 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recho Comunitario  Especial, constituido por las diversas ramas del  Derecho Comunitario General,  entre ellas el comercial comunitario, el de la competencia, el social, el financiero y monetario, el de la política agrícola,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Derecho Especial no puede estudiarse, en forma útil, si no se conocen los principios y normas del Derecho General o Institu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Derecho Comunitario Europeo, que como decíamos es el más avanzado, tiene características de supranacionalidad, en que hay atribución de competencias a órganos comunes, adopción de resoluciones vinculantes por mayorías, normas que tienen aplicabilidad directa y primacía sobre el derecho na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América Latina, los procesos más avanzados, aunque a distancia del europeo, son el MERSOSUR  Y  LA  COMUNIDAD  ANDINA  DE  NACIONES (CAN) , aunque no hay en ellos propiamente cesiones de soberaní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60"/>
            <a:ext cx="8229600" cy="6126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II.-    TENDENCIA  A  LA  COOPERACION  E  INTEGRACION  REGION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Esta tendencia se ha manifestado en forma acentuada después de la segunda guerra mundi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1.-    EL REGIONALISMO ABIERT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s una de las manifestaciones del regionalismo y consiste en que " los grupos regionales eliminen obstáculos internos al comercio y reduzcan al mismo tiempo los obstáculos aplicados a terceros" Renato Ruggiero[1].</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2.-    LOS BLOQUES.ECONOMICOS DOMINA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Unión Europea ( 27 país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b)       Acuerdo de libre Comercio de América del Norte (NAFTA), Estados Unidos de América, Canadá y Méx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      Japón y países que constituyen una "integración de hecho".  Según Gert Rosenthal[2] " Si se pretende describir los esquemas de integración, cabe preguntase primero de que tipo de integración se trata. Las experiencias en el mundo desarrollado son muy variadas. Así, por ejemplo las características de los amplios acuerdos de la Comunidad Europea, tendientes a configurar una economía de dimensión regional, distan mucho de las del tratado de Libre Comercio entre Canadá, Estado Unidos y México.  En el Este asiático, donde no existen acuerdos formales de integración, se esta produciendo sin embargo, una profundización del comercio reciproco sustentado en la apertura comercial y la cercanía geográfica, y consolidado por inversiones reciprocas. En este último esquema, la cercanía geográfica y los menores costos de transacción son los factores que determinan implícitamente las preferencias entre los países de la región, y que contribuyen a la formación de otro bloque de países independi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puede decir que el poder mundial está representado, por el grupo G 7 formado por dos países del NAFTA ( Estados Unidos de América y Canadá) y por cuatro naciones de la Unión Europea ( Reino Unido, Francia, Alemania e Italia) y Japón.  A los cuales se ha agregado últimamente la Federación de Rusia formando el G 8.  En la última reunión celebrada en San Petersburgo Julio 2006,  el ex - primer ministro británico Tony Blair, propuso la sustitución del G 8 por uno nuevo G 13 que incluiría a México, Brasil, China, India y Sudáfrica.  Proposición que no fue aceptada en esta oportunidad, pero que en nuestro concepto corresponde a la realidad act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I   LA COOPERACION INTERNACIONAL Y LA  ON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a cooperación figura en el artículo 1ª párrafo 3 de los Propósitos de las Naciones Unidas que dice: " Realizar la cooperación internacional en la solución de problemas internacionales de carácter económico, social, cultural o humanitario", con este objeto se creó  el Consejo Económico y Social, como órgano principal de la ONU.( ECOS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357120"/>
            <a:ext cx="8229600" cy="6215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IV   ORGANIZACION MUNDIAL DEL COMERCIO. (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reada por  el tratado de Marrakech, de 1994 tiene como antecedentes el Acuerdo General sobre Aranceles Aduaneros y Comercio ( GATT ) de Ginebra 194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Tres son las bases de la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El GATT ( sobre comercio de bien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El GATS  ( sobre comercio y servici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      El  ADIPIC  o  TRIPS  (acuerdos sobre cuestiones relativas al comercio de derechos de propiedad intelectual, incluyendo mercadería falsifica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demás, establece un sistema común de solución de controversias y un mecanismo de examen de políticas comerci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us principios, s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La no discriminación consagrado en el art. 1° del GATT incorporado a la OMC, que consiste en que  " cualquier ventaja, favor, privilegio o inmunidad concedido por una parte contratante a un producto originario de otro país o destinado a él, será concedido inmediata e incondicionalmente a todo producto similar originario de los territorios de las demás partes contratantes o a ellos destinado". ( clausula de la nación más favorecida art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Trato nacional: Es el principio de no discriminación en materia comercial, en virtud de la cual los bienes y servicios importados  desde otro país miembro de la OMC deben recibir igual trato que los bienes similares o directamente competitivos nacion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  ZONA O AREA PREFERENCI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 técnicamente un proceso de cooperación y consiste en un acuerdo entre dos o más  Estados que se otorgan un tratamiento arancelario más favorable que el que conceden a terceros países.  La diferencia entre el arancel que se aplica en la zona y el que se cobra a terceros países se denomina margen de preferenci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Acuerdo General sobre  Aranceles Aduaneros y Comercio ( 1947, hoy parte de la OMC) prohíbe establecer nuevos regímenes preferenciales a través de la cláusula de la nación más favorecida que, según el artículo 1º de ese ordenamiento: cualquier ventaja, favor, privilegio o inmunidad concedido por una parte contratante a un producto originario de otro país o destinado a él, será concedido inmediata e incondicionalmente a todo producto similar originario de los territorios de todas las demás partes contratantes o a ellos destinado".  Hacen excepción a esta cláusula las zonas de libre comercio y los acuerdos de unión aduanera, que cumplan los requisitos establecidos en el GATT y que deben ser examinados por el Consejo de Comercio, de Mercaderías de la OMC.  Existe también como excepción el sistema generalizado de preferencia SGP, que establece preferencias verticales de países desarrollados a países en desarrollo, ejemplo: los acuerdos de Estados Unidos con Colombia y Perú;  y preferencias horizontales entre países en desarrollo.   Aplicación de la clausula de Habilitación. (Ronda de Toki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l artículo 5 del GATS, parte de la OMC  establece también excepciones respecto de los servicios,  en los procesos de integració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 CONCEPTOS BASIC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este  curso  destacaremos   dos  tendencias  del  mundo actual:       LA   GLOBALIZACION  y  LA   INTEGRACION   Regional.  Nuestro tema  principal es el  estudio del  más  avanzado  de los  procesos de integración region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se  trata      DE LA  UNION EUROPEA,  SUS ANTECEDENTES,  SU  CREACION,   SU DERECHO E  INSTITUCIONES,SU  PROFUNDIZACION  Y  AMPLIAC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   TIPOS DE INTEGRACION ECONOMICA INTERNACION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Tradicionalmente se distinguen cinco grados de integración según la intensidad del proceso ( Bela Balassa).  Debe considerarse que no son progresivos ni excluyentes, o sea no constituyen un orden que deba necesariamente seguirs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1.- Zona de libre comercio: "Acuerdo entre dos o más países que se comprometen a eliminar los gravámenes y restricciones de todo orden que inciden en la importación de productos originarios de cualquiera de las otras partes contratan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Hoy se incluyen los servicios y capitales, en algunos procesos como el Nafta y los TLC celebrados por Chile.  Las partes quedan en libertad de fijar el arancel respecto de terceros países. De manera que no hay  política comercial comú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2.-Union Aduanera: Acuerdo en que, además de la liberación del comercio, se establece un arancel externo común.[3]  Las partes  se obligan a un tipo de arancel igual para todos los terceros países, de manera que unifican su política comercial, en cuanto a arance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3.- Mercado Común de  bienes, servicios y factores de la producción: Este mercado común comprende además de la unión aduanera las llamadas cuatro libertades: de circulación; de bienes; de servicios; de capitales y de personas, y el derecho de establecimiento.  A ello se agrega la aproximación de las políticas macroeconómicas y la legislación pertin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4.- Unión Económica: Agrega a lo anterior políticas unificadas (comunes), especialmente la económica y la monetar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5.- Integración económica total: significa la unificación de las políticas económicas de los Estados Par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           DIVERSAS CONCEPCIONES SOBRE ESTRATEGIA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utores consideran que existen dos tipos principales de estrategia, basado en lo ocurrido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strategia funcionalista: Esta contenida en la Declaración Schuman, que decía " Europa no se hará de una vez, ni en una construcción global sino mediante realizaciones concretas, creando ante todo una solidaridad de hecho. Se trata de una integración progresiva de sectores económicos que debía abarcar finalmente a toda la economía, para, a partir de ahí, saltar a la integración de otros sectores y abarcar la larga marcha con la unificación política (Remiro Bret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Concepción constitucionalista: Que preconizaba la construcción sin demora de una organización política de tipo federal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estrategia funcionalista fue la que predominó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I.-    PRINCIPALES MODALIDADES ACTUALE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Sistemas Preferenciales: Que contemplan como finalidad última un proceso de integración. Ejemplo el Tratado de Montevideo de 1980 que creó la Asociación Latinoamericana de Integración (ALADI) cuyo objetivo a largo plazo es el establecimiento de un Mercado Común Latinoamerica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Sistemas que establecen una Zona de Libre Comercio: En América  hay dos modalida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Acuerdos de Complementación Económica ACE, en que hay liberación parcial de la importación de bienes. Ejemplo ACE Chile- Venezuel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Acuerdos de liberación prácticamente total de importación de bienes que puede también extenderse  a servicios y capitales. Ejemplo TLC de las Américas NAFTA, también TLC Chile- Unión Europea (que es un acuerdo de asociación). TLC Chile - Per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Sistemas que establecen uniones aduaneras y mercados comunes. Ejemplos la Comunidad Andina de Naciones (CAN) y el Mercado Común del Sur  (MERCOSUR).  Aunque  por el momento son uniones aduaneras imperfectas, pero aspiran a constituir mercad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Sistemas más avanzados de integración. Además, de constituir mercados comunes comprende determinadas políticas unificadas (como la monetaria) y actividades no económicas (política exterior seguridad como políticas sociales, científicas, tecnológicas etc.). Esta situación sólo se presenta en la Unión Europe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Caso especial en que hay una integración de hecho no basada en instrumento jurídico. Dice Gert Rosenthal refiriéndose a la verdadera integración de hecho que tiene como base el Japón: " en el este asiático donde no existen acuerdos formales de integración, se esta produciendo , sin embargo, una profundización del comercio recíproco sustentado en la apertura comercial y la cercanía geográfica, consolidado por inversiones recíprocas" y agrega " la cercanía geográfica y los menores costos de transacción son os factores que determinan las preferencias entre los países de la regió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IX.-      LA SUPRANACIONALIDA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oncepto: Para el jurista  Pierre Pescatore, los rasgos que constituyen lo esencial de la supranacionalidad son: un poder real y autónomo puesto al servicio de objetivos comunes.  Estos objetivos implican la existencia de valores e interese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Por nuestra parte, estimamos que una organización internacional tiene el carácter de supranacional o por lo menos elementos de supranacionalidad, cuando se reúnen los siguientes requisit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que exista una atribución de competencias a órgan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que posea uno o mas órganos con facultad de dictar resoluciones que sean vinculantes  aún para los estados que se hayan opuesto a ella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inmediatez: que las resoluciones se incorporen en forma inmediata a la normativa de los países miembros sin necesidad de una norma inter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d) primacía: que la norma  adoptada tenga prioridad sobre la legislación nacional aun sobre la Constitu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 para que el concepto sea más completo  creemos que sea necesario que exista a lo menos un órgano comunitario cuyos integrantes, aunque nombrados por los respectivos Estados nacionales, no representen a dichos Estados, sino al conjunto de las naciones integradas; que exista un Parlamento que represente a los pueblos, y que  se cree un tribunal que resuelva las contiendas sobre la legalidad de los actos de los órganos comunitarios y permita una interpretación uniforme de las fuentes de derecho comunitari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X.- ORGANIZACIONES DE COOPERAC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caracterizan porque no existen órganos supranacionales. Y, según el profesor Ettienne Cerexhe “son organizaciones fundadas en el respeto de las soberanías nacionales”. Y, que “implican al nivel institucional la regla de la unanimidad en la toma de decisiones”, o sea unanimidad o consenso para adoptar resoluciones vinculantes.  Ejemplo: OCDE Organización de Cooperación y Desarrollo Económico; OSCE Organización de Seguridad y  Cooperación Europe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  CAUSAS  DE  LA  TENDENCIA A LA COPERACION E  INTEGRACION  REG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vances de la Ciencia y la tecnología   el  auge  de  los transportes y de las  comunicaciones han conducido  a un fenómeno que se  conoce con el nombre de GLOBALIZACION.  En el  mundo globalizado  existe una neta  superioridad    para los países  que por  sí  mismos  constituyen un  amplio espacio  geográfico, e económico  y humano.  Actualmente esa  ventaja existe  para los Estados  Unidos  de América, con 300 millones de habitantes: China con  1.300 millones de habitantes y la India con 1.100 millones), y también  son favorecidos  los  países  que  han creado un  proceso de integración avanzado como la Unión Europea   que tiene  27 Estados  miembros con un total de   393 millones de  habitantes.  Con razón se ha dicho que en  la actualidad  no hay lugar  para pequeños  o  medianos países  aisl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e  fenómeno es  mundial, pero para estudiar las  causas de la tendencia a la integraciones  necesario distinguir  las  causas  generales y las especi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Causas  especiales: Estas  causas  específicas  son diferentes  según  sean las  circunstancias  históricas, geográficas, políticas, económicas, culturales o de otro orden que aconsejen  realizar un proces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n Europa fue  un elemento principal para  su integración, la  circunstancia de que  los países que participaron en la Segunda Guerra Mundial  quedaron muy debilitados frente a las dos superpotencias de la época (EEUU y URSS) y  con  dimensiones  de mercado que  no eran las adecuadas para  constituir,  separadamente, una potencia mundial.  En el caso de América Latina, además de origen,  costumbres, , lengua, religión y la realidad  geográfica,  Se estimó que la integración  era un factor  fundamental  para acelerar su desarrollo económico y social  y para  afrontar con éxito  los  desafíos de la globaliz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28584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a:t>
            </a:r>
            <a:r>
              <a:rPr b="0" lang="es-ES_tradnl" sz="3200" spc="-1" strike="noStrike">
                <a:solidFill>
                  <a:srgbClr val="000000"/>
                </a:solidFill>
                <a:latin typeface="Calibri"/>
              </a:rPr>
              <a:t>    GLOBALIZACION: Síntesis de la tendencia que esta conduciendo a una interpenetración de las naciones.  El comercio se hace ya virtualmente sin fronteras en el espacio planetario, sin solución de continuidad (Ramón Tamames).  El fenómeno afecta hoy prácticamente todas las actividades humanas, economía, derecho, cultura etc.   e   involucra a los Estados, a las empresas y a las personas; y se debe fundamentalmente a los efectos del progreso técnico, tecnológico, computación, transporte,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Causas  gener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Ventajas  de  contar con  mercados  mas amplios y  de  libre acces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mplitud  del mercado.  Que es uno de los efectos de la integración, permite a las  empresas  de  las  naciones que la constituyen, operar en condiciones más favorables  y obtener  economías especialmente en sus  producciones  industriales, entre éstas las de bienes de consumo duradero,  bienes de capital, productos  intermedios, y en general  las actividades económicas  intensivas en capital..  Son las llamadas economías de escala,  que  operan tanto en la producción, como en la adquisición de insumos,  comercialización de los  productos,  obtención de créditos, et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ntegración estimula  la  competencia,  elimina las llamadas  rentas  monopólicas,  fomenta la especialización y la inversión y  permite sustituir determinadas importac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sarrollo y  aplicación de la  ciencia  y la  tecnología avanzad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ocido es el hecho de que las grandes  potencias  como los Estados Unidos, Japón, los países de la Unión Europea )  considerada como una  sola entidad),   gastan cuantiosas  sumas  en investigaciones  científicas  y tecnológicas,  lo que  coloca a los países  pequeños  y aun los  medianos  ante  problemas  que sólo pueden  tener solución satisfactoria  mediante  la  puesta es común de sus recursos  y dándoles en empleo más  racional. Así, podrían estos  países superar su atraso científico y tecnológico.  Cuya brecha se acrecienta cada dí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unto es tan importante en la actualidad  que se afirma, con razón, que  el fundamento del poder y la riqueza  de las naciones  no se encuentra en la posesión de  recursos  materiales,  sino en el dominio del conocimien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Creación de un solo centro de decisiones  políticas, económicas, sociales, comerciales, financieras, monetarias, etc. o por lo menos  una adecuada coordinación de ésta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mejor ejemplo de política unificada en un proceso de integración, es la  unión monetaria de la Unión Europea, con un Banco Central Europeo y una  moneda única (a la que se irán incorporando, esperamos, los 27 país,  por el momento  está en funciones en 15 de los países de la Unión Europ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 Mayor poder de negociación frente a los Estados,  las empresas  transnacionales y las Organizacione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o es especialmente importante en el mundo  globalizado en que las organizaciones internacionales  y las empresas  transnacionales han adquirido un gran poder.  Las principales empresas bancarias, industriales, comerciales  tienen frecuentemente un poder  de  negociación que supera a países medianos muy pequeños en que oper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5.-  Ventajas derivadas de la pertenencia a un grupo organizado de naciones que tienen la solidaridad como principio recto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j., la cohesión económica,  social y territorial que ha favorecido a los países de menor ingreso de la Unión Europea,  especialmente Grecia, España, y Portugal  e Irlanda, país este último que tiene en la actualidad uno de los productos per cápita mas altos de la Unión Europ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6.-  La integración es un factor de paz y amistad entre los puebl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dea básica propuesta por Jean Monnet para propiciar la creación  de la Comunidad Económica del Carbón y del Acero (CECA)  fue: “el carbón y el acero han sido motivo de  varias guerras entre Francia y Alemania.  ¿Porque no administrar en conjunto estos recurso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fectivamente,  la integración europea  ha sido un factor de paz y amistad para los países miembros por más de medio sigl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7.-  La integración avanzada es un factor de seguridad jurídica para las relaciones económica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sí,  la Europa comunitaria y otros procesos de integración como la Comunidad Andina de Naciones (CAN) poseen tribunales de justicia destinados a resolver las controversias derivadas de la interpretación y aplicación de los tratados de integración y de las resoluciones vinculantes de sus órganos,  de la violación de esos tratados y resoluciones para dar una interpretación uniforme a esas normas y para controlar la legalidad de los actos de los órganos comunitari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I.-  PROBLEMAS QUE  PRESENTAN LOS PROCESO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La desviación de Comerci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uando un país tiene un acuerdo de asociación de libre comercio con otro y que antes adquiría un producto en un tercer país, pasa a comprarlo al país asociado, dado que no se paga derecho de aduana aunque el precio sea inferior en el tercer país, pero que al aumentarse este precio con el derecho de aduana, ya no puede competir con un país asocia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i la desviación del comercio es superior a la creación de  comercio no convendría ingresar a ese proceso de integra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creación de comercio consiste en un traslado de producción nacional de alto costo que está protegida por aranceles hacia la producción de bajo costo de un país asociado. Igualmente la creación de comercio se manifiesta en la posibilidad de instalar nuevas industrias que sean económicamente viab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356760"/>
            <a:ext cx="8229600" cy="576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Proliferación de los Acuerdos de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 Posible creación de bloques económicos rivales, que conduzcan a una guerra económica.</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B.- Si un país está ligado a diferentes acuerdos de integración pueden presentarse problemas como ocurrió en el caso del Acuerdo de Chile con Canadá y con el MERCOSUR, en la que se presentaron dificultades que fueron solucionada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Problemas de la repartición de los beneficios de la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roblema se produce especialmente en procesos de integración en que existe una asimetría importante. Ejemplos: en la ALALC los beneficios se centraron en los países mayor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éxico, Argentina y Brasil, con perjuicio para los países de mediano y menor desarrollo relativo. Un problema similar se ha presentado en el MERCOSUR, así Uruguay y Paraguay  se sienten perjudicados en relación con Brasil y Argentina y han insistido en reclamar condiciones más equitativas, lo que manifestaron en la XXX Cumbre del MERCOSUR, Córdoba, Julio 2006.</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roblemas respecto a la soberanía.[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s integraciones avanzadas se otorgan competencias a órganos comunes las que antes eran exclusivas del Estado. Ejemplo: la soberanía monetaria que es una competencia exclusiva de la Unión Europea, de manera que ha dejado de ser ejercida por el Estado; se habla de cesión de parte de la soberanía aunque preferimos el termino atribución de competenc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Unión Europea hay países que son contrarios a los excesos en materia  de cesión de competencia, como el Reino Uni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5.- Tendencias de los órganos burocráticos a atribuirse más funciones de las que le corresponden, según los tratados que crearon la Unión Europea. Para evitar este problema el Tratado de Maastricht que creó la Unión Europea consagró el principio de subsidiarieda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artículo 3 B de ese tratado dice: que: “ en los ámbitos que no sea de su competencia exclusiva la comunidad intervendrá conforme al principio de subsidiariedad solo en la medida en que los objetivos de la acción pretendida no puedan ser alcanzados de manera suficiente por los Estados miembros y,  puedan lograrse mejor, debido a la  dimensión o a los efectos de la acción contemplada, a nivel comunitario”.  Y agrega: “ ninguna acción de la comunidad excederá de lo necesario para alcanzar los objetivos del presente  trata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x director general de la OM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La integración regional en los años  noventa, Revista de la CEPAL, Nº 50 Agosto 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3] La exigencia de productos originarios impide la " triangulación de comercio, que se produciría mediante el ingreso de productos de fuera de la zona, a través del país que cobre los aranceles más bajos. Lo que se evita mediante las llamadas "cláusulas de orig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rancel: En general, es  cualquier impuesto o cargo de cualquier tipo aplicado en relación a importación de bienes. Puede ser ad - valorem (un porcentaje del valor) o específicos (una suma fija por cada produc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a:t>
            </a:r>
            <a:r>
              <a:rPr b="0" lang="es-CL" sz="2200" spc="-1" strike="noStrike">
                <a:solidFill>
                  <a:srgbClr val="000000"/>
                </a:solidFill>
                <a:latin typeface="Calibri"/>
              </a:rPr>
              <a:t> </a:t>
            </a:r>
            <a:r>
              <a:rPr b="0" lang="es-ES_tradnl" sz="2200" spc="-1" strike="noStrike">
                <a:solidFill>
                  <a:srgbClr val="000000"/>
                </a:solidFill>
                <a:latin typeface="Calibri"/>
              </a:rPr>
              <a:t>Para nosotros el concepto de soberanía, en términos generales, se puede expresar diciendo que es un poder supremo que no está limitado por otro poder y que es autónomo al interior del Estado e independiente en sus relaciones con otros Estados, y que solo se inclina ante el derecho internacional (normas internacionales y compromisos contraídos por un Estado en virtud de su propia soberaní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 globalización ha traído grandes beneficios en cuanto al crecimiento de la economía mundial, al desarrollo del comercio, de la ciencia y la tecnología, pero es evidente que ha acarreado problemas a las economías mas débiles, como ser un aumento de la brecha entre los países ricos y los mas pobres, de manera que el progreso económico, se ha distribuido en forma poco equitativa, además de una desnacionalización de las empresas de los países grandes y pequeños; un principio de perdida de su identidad cultural, y tal vez ha influido en los altos niveles de desempleo. Creemos que: frente a estos problemas los países  pueden contrarrestar los aspectos negativos de la globalización a través de un proceso de integración que afirme la personalidad de  sus pueblos que les dé un poder de negociación que les permita defender su personalidad e individualidad, su economía, su comercio y su cultu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   CONCEPTO  DE  INTEGRAC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endencia a organizar grandes espacios geográfico, económico, humano.  El concepto de integración varía según lo consideremos en una u otra rama de las ciencias; en esta oportunidad la estudiaremos en relación con las ciencias sociales, pero aun en este caso habrá un concepto sociológico, uno político, uno económico y uno juríd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demás cuando se habla de integración hay que distinguir la integración interna y la que se efectúa en el campo internacional entre dos o más país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r otra parte hay diversos grados de integración; que serán considerados más adelan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Según el profesor Bela Balassa, Integración es el acuerdo entre dos o más Estados que suprimen discriminaciones entre unidades económicas nacion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diccionario de la Real Academia Española, dice que: " Integración es la acción o efecto de integrar". , y que esta expresión significa " completar u todo con las partes que falt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Según Tamames " desde el punto de vista económico, la integración es un proceso. A través de él, dos o más mercados nacionales previamente separados y de dimensiones unitarias estimadas poco adecuadas, se unen para formar un solo mercado (mercado común) de una dimensión más idón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Para Ernst  Haas, la integración regional es un proceso que tiene lugar entre dos o más Estados en una escala geográficamente limitada y en un plano inferior al de la integración glob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l primer proceso interestatal de integración en el ámbito económico- comercial, fue el establecido en la primera mitad del siglo XIX, con el nombre de Zollverein que significa unión aduanera, por los diversos Estados alemanes. Esta experiencia exitosa, condujo a la unión política en 187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n esta oportunidad dejaremos fuera de este estudio la integración política en que los Estados que se integran pierden su personalidad jurídica internacional, como es el caso de los Estados Unidos de América. Dejamos también la integración económica interna, que según ODEPLAN es " la incorporación de toda la población del país a un mercado amplio y único, donde se opere con los medios modernos de intercambio y donde exista una retribución equivalente de los factores de la producción en todo el territorio na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285840"/>
            <a:ext cx="8229600" cy="6215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 pueden considerar dos conceptos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gún un concepto amplio de integración: es el proceso por el cual, una agrupación de Estados se asocian con el objeto de alcanzar un nivel superior de desarrollo y bienestar conservando su individualidad y personalidad jurídica internacion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restringido de integración. Según el profesor Cerexhe, la expresión integración en derecho, so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en la Unión Europea. Este es para Cerexhe el verdadero concept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Las integraciones en la actualidad se caracterizan porque se crean por tratados, celebrados por Estados soberanos que voluntariamente acuerdan su asociación, inicialmente en el campo económico, pero que se extiende a aspectos financieros, sociales, de infraestructura, de  educación, investigación y  otros, y que se rigen por instituciones y normas jurídicas.  Son Integraciones de Derecho ( haciendo un símil con el Estado de Derec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de cooperación: 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olo tiene órganos intergubernamentales que aprueban resoluciones por  unanimidad  o consens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7:07:16Z</dcterms:created>
  <dc:creator>Alberto Rioseco</dc:creator>
  <dc:description/>
  <dc:language>en-US</dc:language>
  <cp:lastModifiedBy>Judith María Baeza Henríquez</cp:lastModifiedBy>
  <dcterms:modified xsi:type="dcterms:W3CDTF">2008-03-20T03:33:08Z</dcterms:modified>
  <cp:revision>40</cp:revision>
  <dc:subject/>
  <dc:title>APUNTES  RESUMIDOS  DEL  CURSO DE DERECHO  DE  LA       .               UNION        EUROPEA</dc:title>
</cp:coreProperties>
</file>