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9586-9E56-4C7B-9074-A60A329A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04D6-31A8-4E00-A056-643CC7A8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51F9-8C2D-41BA-9CF6-156BE3E9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89E0-8BED-47A7-8533-67FB975D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1B81-BD7D-4037-9946-D0CB252D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BA9B-A86F-4FC7-898E-3A017B2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86FD-9533-400E-B026-676BD5DC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46B4-7FF4-4C1E-9D46-1405C342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45D2-64BD-4698-B647-AD51F600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C9C1-0791-49EB-A19A-194B54A6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E5D4-A708-47F4-8B88-48B0D08F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C284-9FAD-47E4-B646-8B26A5FF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5DEE-91F4-4435-9CCC-A636B174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CD46-0C47-459C-9C81-90213A13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4E88-CBFE-429E-8CF2-670F56B8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E57F-A475-46EE-8DA4-C141B87B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DE51-B697-469D-9518-045B6824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5CD5-093D-4E5E-A5D7-4A399D1C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283C-56EC-4DC4-A4D9-E777DE04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C443-F484-4AD4-9173-FC78853F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ACD6-FBC5-4E35-954A-E056B007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68CF-89E3-43AB-A88A-BD612CDB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D1F5-4FB1-494B-BEFD-C7BD095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09D04-A275-4364-8612-453B582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9A2-4AB8-43C4-91DE-7018D6565569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B7C8-F4EC-4AAC-8AC3-FC3E00513C2B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 u="sng">
                <a:solidFill>
                  <a:srgbClr val="e5e5ff"/>
                </a:solidFill>
                <a:uFillTx/>
                <a:latin typeface="Garamond"/>
              </a:rPr>
              <a:t>ALA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ociació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tinoameric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f. Iris Vittini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º Semestre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67344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DDC6-A2DB-4936-B0FF-C2F37067FD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osibilita distintas formas de concertación entre los países miembros – Instrumentos comer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rmonía con los objetivos y funciones del proceso de integr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namizar y ampliar merc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5E2F-547E-4297-B9A0-1EC0DD8685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ecanismo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LADI propicia la creación de un área de preferencias económicas en la región, con el objetivo final de lograr un mercado común latinoamericano, mediante tres mecanismo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ferencia arancelaria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8DFC-4D77-4694-8528-8A80C400EC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eferencia arancelaria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rt. 5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s países mienbros se otorgarán recíprocamente una preferencia arancelaria regional, que se aplicará con referencia al nivel que rija para terceros países y se sujetará a la regalementación correspondient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aplica a productos originarios de países miembros frente a los aranceles vigentes para terceros paí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7E92-FB3A-4AF9-8E90-DBCF4530B5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ellos en que participa la totalidad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celebrarán en el marco de los objetivos y disposiciones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drán referirse a las materias e instrumentos previstos para los acuerdos de alcance parcial. (art. 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9BFD-D049-4F69-B736-13491C5B59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parc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ticipación de dos má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penden a profundizar el proceso de integración regional mediante su progresiva multilateraliz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derechos y obligaciones que de ellos emanan regirán exclusivamente para los países miembros que los suscriban o se adhie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BD8F-5ADE-474A-8B92-C3C6CC1E8E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Clasificación de los acuer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merciales. (Art. 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complementación económica. (Art. 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ropecuarios. (Art. 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ción del comercio. (Art. 1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emás los países miembros … “podrán establecer, mediante la reglamentaciones correspondientes, normas específicas para la concertación de otras modalidades de acuerdo de alcance parcial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Art. 1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87E9-8407-4627-B67D-7A6E9CAAF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que rigen a los acuerdos (Art. 9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ben estar abiertos a la adhesión de los demá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áusulas de convergencia – beneeficios alcancen a todos lo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endrá tratamientos diferenciales en función a las tres categorías de países reconocidas por el Tratado de Montevide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desgravación podrá efectuarse sobre la base de una rebaja porcentual respecto de los gravámenes  aplicados a la importación originaria de los países no participa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zo mínimo de duración 1 añ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ueden contener normas específicas sobre ciertas mate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C9F6-6028-48B3-83B7-A68D88697D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rganis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s polític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nsej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Confer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mit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 técn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Secretaría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A374-F566-4641-9EB9-C6A29453FA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SEJO DE MINISTROS DE RELACIONES EXTERIOR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-  Órgano supremo de la Asoci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o por los Ministros de RR.EE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ducción política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sionará con la totalidad de su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3182-D3EB-4A63-AB8C-21628153F2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FERENCIA DE EVALUACIÓN Y 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a por plenipotenciar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cada tres años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ara toma de decisiones se requiere la presencia de todos lo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3DDC-6A0F-4628-B611-9478F33156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ratado Montevideo, 198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ayor grupo latinoamericano de integ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iembro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Argentin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Boliv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Federativa del Brasil.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olombia.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hil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uba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Ecu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Estados Unidos Mexican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aragua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er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Oriental del 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Venezue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38E8-9EBC-45DD-9A59-0F6999641E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MITÉ DE REPRESENTA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Representantes  Permanentes de cada país miembro con derecho a un vo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Quorum de dos tercios de los países miembros para poder sesion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Atribuciones art. 3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C0C5-66CF-440E-8E88-95F9BBF1C4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Toma de decisi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os tres órganos políticos adoptarán sus decisiones con el voto afirmativo de dos terc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exceptúan las materias dispuestas en el artículo 43. – lista no es taxativa, el Consejo puede eliminar temas con dos tercios de votos afirmativos y sin que hay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bstención no signific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AA5E-5E13-408C-BCCC-1D9A1AF14E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CRETARÍA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rigida por un Secretario General, designado por el Consej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sonal técnico y administrativo, los que en el desempeño de sus funciones no solicitarán ni recibirán instrucciones de los gobiernos ni de entidades nacionales o internacion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8.</a:t>
            </a:r>
            <a:fld id="{B269A0A2-74F7-4E2D-83C8-7E37A0E09719}" type="slidenum">
              <a:rPr b="0" lang="es-CL" sz="3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6305-8BEF-4C8F-9923-379D96CBEA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jetivo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talecer los lazos de amistad entre los pueblos de América Lat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enerar y acelerar la integración económica regional – a objeto de mejorar el nivel de vida de los pueb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ver el desarrollo económico-social, armónico y equilibrado de la región. (Art.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ablecer en forma gradual y progresiva,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A932-1C06-4C01-A2CD-388EC7AF5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arrollo de funciones básicas a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romoción y regulación del comerc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cípro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La complementación económ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cciones de cooperación a fin de ampliar l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rc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D01A-C400-49F7-9282-1C213E1EC4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ncipios rectores de la ALAD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encuentran consignados en el Art. 3 Tratado de Montevide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FB80-891F-47F0-BC33-2EBBA0AF88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Sustentado en la voluntad de los países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barca materias tanto políticas com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024A-7354-4DD1-8CE3-1803647527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Es el de mayor importa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Multilateralización progresiva de los acuerdos de          alcance parcial – hacia la formación de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 Negociaciones periódicas entr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4012-6294-4358-9681-7DF42584A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elebración de 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gulado de manera compatible con el principio de convergencia y el fortalecimiento de los vínculos de 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9FD2E-A739-4714-BB99-683EFA31A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determina en cada ca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anto mecanismos de alcance parcial como reg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bre base de desarrollo de los países miembros- será más favorable a los países de menor desarrollo rel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D085-4C1C-4C84-B644-B64FA934B0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0:26:11Z</dcterms:created>
  <dc:creator>Sebastian Quiroz</dc:creator>
  <dc:description/>
  <dc:language>en-US</dc:language>
  <cp:lastModifiedBy>Judith Baeza</cp:lastModifiedBy>
  <dcterms:modified xsi:type="dcterms:W3CDTF">2008-04-02T21:36:07Z</dcterms:modified>
  <cp:revision>5</cp:revision>
  <dc:subject/>
  <dc:title>   ALADI</dc:title>
</cp:coreProperties>
</file>