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CECB-EA42-4ADB-8190-1F12D3F2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D1C69-D9CB-42D4-BEFB-076DB319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E5E6F-0E16-4C33-8C3D-24EEE2F9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698A-7526-45F5-BBE0-91EA3165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1A46-AB07-47A9-988F-2178BDAE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8386-58EC-4E26-8028-38BE42A9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BEA3-8BB2-4885-8AFB-441819E0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4F19-27F3-492A-BFB6-5A888044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EF8F-4C9F-47E1-B7E5-E2A9229C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0D37-A77F-44C3-A1CB-89288076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AE1D-FE87-4E9B-9950-57AD3D85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FE6A-AED1-4A6C-94B3-5A27C1BC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C565-C8F8-463B-BC8C-9543FA44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AA5E-BF87-4AE3-876B-B8FEFAB2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D0EE-0C03-43FA-8B1C-FE7A18C5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C6F2-C2F4-40B8-B5C0-EB2A411C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3BE7-8EC6-4D32-999E-E24DB279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CF349-552E-47AE-8A4A-A6F9CE48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A82D-CA3D-41E2-A3CD-2FF9656D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C449B-C620-45C1-B5C8-B28233B7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7D7F1-15F0-4ACD-BD4D-673EE7CF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2AB86-D598-4246-A6F0-2AD3B892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0002-2222-410B-A157-4C8E7B20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EABDB-00EF-4715-B80C-899C9EE5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7249-55A6-4510-9324-0BF2E2C2E4CA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1462-8C4E-4372-86B7-DBE91CE7B8D9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 u="sng">
                <a:solidFill>
                  <a:srgbClr val="e5e5ff"/>
                </a:solidFill>
                <a:uFillTx/>
                <a:latin typeface="Garamond"/>
              </a:rPr>
              <a:t>ALAD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sociació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tinoamerica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teg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of. Iris Vittini 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2º Semestre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673440" cy="54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D05A-829E-4315-892A-D35FBBB63ED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ltiplic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Posibilita distintas formas de concertación entre los países miembros – Instrumentos comerci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armonía con los objetivos y funciones del proceso de integr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inamizar y ampliar merca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43D15-8504-445E-B5EC-9705CC1E92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Mecanismo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ALADI propicia la creación de un área de preferencias económicas en la región, con el objetivo final de lograr un mercado común latinoamericano, mediante tres mecanismo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eferencia arancelaria reg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uerdos de alcance reg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uerdos de alcance parci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4110D-FB94-48D4-9E07-A519E28107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eferencia arancelaria region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rt. 5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“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os países mienbros se otorgarán recíprocamente una preferencia arancelaria regional, que se aplicará con referencia al nivel que rija para terceros países y se sujetará a la regalementación correspondiente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aplica a productos originarios de países miembros frente a los aranceles vigentes para terceros paí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D0E5-8528-4F3E-B735-8A98B00E0E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cuerdos de alcance region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quellos en que participa la totalidad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celebrarán en el marco de los objetivos y disposiciones de la ALAD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odrán referirse a las materias e instrumentos previstos para los acuerdos de alcance parcial. (art. 6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AE21-BC5D-41F4-A632-80C5EA039E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cuerdos de alcance parci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articipación de dos má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penden a profundizar el proceso de integración regional mediante su progresiva multilateraliz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derechos y obligaciones que de ellos emanan regirán exclusivamente para los países miembros que los suscriban o se adhier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EF4AB-3EA8-4A9A-B625-56A18C614A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Clasificación de los acuerd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merciales. (Art. 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complementación económica. (Art. 1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gropecuarios. (Art. 1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moción del comercio. (Art. 1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demás los países miembros … “podrán establecer, mediante la reglamentaciones correspondientes, normas específicas para la concertación de otras modalidades de acuerdo de alcance parcial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Art. 14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D9D5D-5333-43C5-B69C-62255C1997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rmas que rigen a los acuerdos (Art. 9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ben estar abiertos a la adhesión de los demás países miembr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láusulas de convergencia – beneeficios alcancen a todos los países miembr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tendrá tratamientos diferenciales en función a las tres categorías de países reconocidas por el Tratado de Montevide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desgravación podrá efectuarse sobre la base de una rebaja porcentual respecto de los gravámenes  aplicados a la importación originaria de los países no participa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lazo mínimo de duración 1 añ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ueden contener normas específicas sobre ciertas mater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E552C-350C-4E17-973F-19BBBA937A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rganism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Órganos político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l Consej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a Conferenc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l Comit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Órgano técnic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a Secretaría Gener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52908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C219-02A9-4E82-95A1-8F6EA827BB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SEJO DE MINISTROS DE RELACIONES EXTERIOR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-  Órgano supremo de la Asoci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grado por los Ministros de RR.EE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ducción política de la ALAD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reúne por convocatoria del Comit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sionará con la totalidad de su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21EE-C74A-4AC6-AB08-6B8A4CC360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FERENCIA DE EVALUACIÓN Y CONVERG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grada por plenipotenciarios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reúne cada tres años por convocatoria del Comit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ara toma de decisiones se requiere la presencia de todos lo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5D86-94DD-4B3C-96BE-5825139CCE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Tratado Montevideo, 198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Mayor grupo latinoamericano de integra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Miembro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Argentin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Bolivi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Federativa del Brasil.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olombia.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hil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uba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Ecuad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Estados Unidos Mexican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l Paragua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l Per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Oriental del Urugu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Venezuel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2CFA3-8218-4F3B-BC43-F3ACBD7A95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MITÉ DE REPRESENTA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Representantes  Permanentes de cada país miembro con derecho a un vot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Quorum de dos tercios de los países miembros para poder sesion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Atribuciones art. 3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2960-5F3B-4AB4-8F55-3E6ECB2371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Toma de decision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os tres órganos políticos adoptarán sus decisiones con el voto afirmativo de dos tercios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exceptúan las materias dispuestas en el artículo 43. – lista no es taxativa, el Consejo puede eliminar temas con dos tercios de votos afirmativos y sin que haya voto neg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abstención no significa voto neg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51FD0-49F5-4749-8D84-5CCFD30AD2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CRETARÍA GENER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irigida por un Secretario General, designado por el Consej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ersonal técnico y administrativo, los que en el desempeño de sus funciones no solicitarán ni recibirán instrucciones de los gobiernos ni de entidades nacionales o internacion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8.</a:t>
            </a:r>
            <a:fld id="{E8893D9A-0458-46E7-8782-AB2E1927511C}" type="slidenum">
              <a:rPr b="0" lang="es-CL" sz="3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A174-123B-47DC-9273-2F37371CFC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bjetivo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rtalecer los lazos de amistad entre los pueblos de América Latin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Generar y acelerar la integración económica regional – a objeto de mejorar el nivel de vida de los puebl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mover el desarrollo económico-social, armónico y equilibrado de la región. (Art. 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ablecer en forma gradual y progresiva, un mercado común latinoameric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273CA-82BB-4ED3-8E4B-A88174C678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arrollo de funciones básicas a sab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Promoción y regulación del comerc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cíproc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La complementación económ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Acciones de cooperación a fin de ampliar l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erc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12B9D-58F6-48B1-A5D4-B34C8DA8B3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incipios rectores de la ALADI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encuentran consignados en el Art. 3 Tratado de Montevide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luralism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verg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lexibil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tamiento diferenci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ltiplic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F4A6-C3AF-4F0D-A4BC-D61B83E731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luralism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Sustentado en la voluntad de los países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Abarca materias tanto políticas como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conóm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A6A8F-D560-4E48-BBDC-A34BE98F7C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verg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Es el de mayor importa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Multilateralización progresiva de los acuerdos de          alcance parcial – hacia la formación de un mercado común latinoameric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 Negociaciones periódicas entr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77B1B-5FF9-4BC0-A0EE-A0EE77721D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lexibil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ermite celebración de acuerdos de alcance parci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gulado de manera compatible con el principio de convergencia y el fortalecimiento de los vínculos de integ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772D-2570-470D-B376-1332AC7A8B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tamiento diferenci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determina en cada cas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anto mecanismos de alcance parcial como reg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obre base de desarrollo de los países miembros- será más favorable a los países de menor desarrollo rel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AFF90-E30C-46B2-AB8C-22EFC8BE86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20:26:11Z</dcterms:created>
  <dc:creator>Sebastian Quiroz</dc:creator>
  <dc:description/>
  <dc:language>en-US</dc:language>
  <cp:lastModifiedBy>Judith Baeza</cp:lastModifiedBy>
  <dcterms:modified xsi:type="dcterms:W3CDTF">2008-04-02T21:36:07Z</dcterms:modified>
  <cp:revision>5</cp:revision>
  <dc:subject/>
  <dc:title>   ALADI</dc:title>
</cp:coreProperties>
</file>