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2266A-098A-4963-8DDB-30EE6BFD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1DA8-21FB-491E-88D9-4CDB7FC4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C500B-34A2-4C4A-9CD1-DB6107DB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0F7C7-9377-4F2E-A8BA-CDC860A8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06A1-6E6C-484E-8717-96412E404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5301-2371-4224-8889-AA2099DB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1BAEF-3F60-433C-AF4D-3FBFF3F7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58F9C-A634-4743-9BFE-8EA451D3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F203B-6508-47DB-BE99-FA4499DC6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5599-46A9-4408-B9BD-6D324AD9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2FB5-CF37-402A-9E28-76B0F752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A496F-17D2-4710-9E48-F80389807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30C3A-98F1-44A4-A4EF-DBA7CD71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7C53D-9F86-4212-B7AA-90A06196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42C-7084-4A5D-92E8-AEA76F1C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8485-5965-4E86-9229-5530E727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C048-9183-4112-BBC1-AF4DA5FCE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E6CF3-3EE9-446B-9D94-791AEA3A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A18E2-32BA-411D-BA96-65C2F397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1A4FC-F989-4CA3-A798-1445B888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45022-FE12-4C79-9839-8778A942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53EAE-CD20-4B40-9B1C-20BC2F33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F36AB-3D11-4E6B-B760-504AC5E5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D7902-555F-4A5D-916E-1DAD6BB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D3FC-7BEB-42DE-93D0-0B2DC4888E85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5908-1FDD-469C-94F3-21DA67424B7D}" type="slidenum">
              <a:rPr b="0" lang="es-C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	</a:t>
            </a:r>
            <a:r>
              <a:rPr b="1" lang="es-ES" sz="4400" spc="-1" strike="noStrike" u="sng">
                <a:solidFill>
                  <a:srgbClr val="e5e5ff"/>
                </a:solidFill>
                <a:uFillTx/>
                <a:latin typeface="Garamond"/>
              </a:rPr>
              <a:t>ALADI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sociación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atinoamerica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of. Iris Vittini 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                           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2º Semestre 200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3673440" cy="540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48A62-B744-44C8-9154-BE624A88425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osibilita distintas formas de concertación entre los países miembros – Instrumentos comerci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armonía con los objetivos y funciones del proceso de integr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namizar y ampliar mercad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4AC95-5923-4B17-AA29-2FFE9CE2B4E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Mecanismos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LADI propicia la creación de un área de preferencias económicas en la región, con el objetivo final de lograr un mercado común latinoamericano, mediante tres mecanismos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ferencia arancelaria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region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0520" indent="-56052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8D30C-F2C5-4A04-98FC-DE0EC1A21D7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Preferencia arancelaria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rt. 5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“ 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Los países mienbros se otorgarán recíprocamente una preferencia arancelaria regional, que se aplicará con referencia al nivel que rija para terceros países y se sujetará a la regalementación correspondiente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-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aplica a productos originarios de países miembros frente a los aranceles vigentes para terceros país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A73D-A7D4-49BE-8674-8706109714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region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quellos en que participa la totalidad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celebrarán en el marco de los objetivos y disposiciones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odrán referirse a las materias e instrumentos previstos para los acuerdos de alcance parcial. (art. 6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50EC5-D7EF-421F-86F9-D48BE25E6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Garamond"/>
              </a:rPr>
              <a:t>Acuerdos de alcance parcia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articipación de dos má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penden a profundizar el proceso de integración regional mediante su progresiva multilateraliz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Los derechos y obligaciones que de ellos emanan regirán exclusivamente para los países miembros que los suscriban o se adhiere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FC9B7-37EA-49D3-A5FA-DFC0861DE27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ffff"/>
                </a:solidFill>
                <a:uFillTx/>
                <a:latin typeface="Garamond"/>
              </a:rPr>
              <a:t>Clasificación de los acuerd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merciales. (Art. 10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 complementación económica. (Art. 1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gropecuarios. (Art. 12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ción del comercio. (Art. 13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demás los países miembros … “podrán establecer, mediante la reglamentaciones correspondientes, normas específicas para la concertación de otras modalidades de acuerdo de alcance parcial</a:t>
            </a:r>
            <a:r>
              <a:rPr b="0" i="1" lang="es-ES" sz="3200" spc="-1" strike="noStrike">
                <a:solidFill>
                  <a:srgbClr val="ffffff"/>
                </a:solidFill>
                <a:latin typeface="Garamond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(Art. 14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0D71B-FD79-486A-B4AF-30A479066E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rmas que rigen a los acuerdos (Art. 9)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Deben estar abiertos a la adhesión de los demá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áusulas de convergencia – beneeficios alcancen a todos los países miembro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ntendrá tratamientos diferenciales en función a las tres categorías de países reconocidas por el Tratado de Montevide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La desgravación podrá efectuarse sobre la base de una rebaja porcentual respecto de los gravámenes  aplicados a la importación originaria de los países no participant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lazo mínimo de duración 1 añ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ueden contener normas específicas sobre ciertas materi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6E8D3-9B14-4417-BC4F-0AFE62C027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rganismo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s político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nsej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Conferenci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El Comité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Garamond"/>
              </a:rPr>
              <a:t>Órgano técnico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- La Secretaría Gener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52908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E0A6-DA33-4437-B140-E2B63A84BBE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SEJO DE MINISTROS DE RELACIONES EXTERIORE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-  Órgano supremo de la Asoci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o por los Ministros de RR.EE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ducción política de la ALADI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sionará con la totalidad de su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0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5EFFE-FD6F-4516-9D13-10A77FD85DA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NFERENCIA DE EVALUACIÓN Y 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Integrada por plenipotenciar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reúne cada tres años por convocatoria del Comité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ara toma de decisiones se requiere la presencia de todos lo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3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94261-7BCB-4F49-8EF8-E2B3636A828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Tratado Montevideo, 1980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ayor grupo latinoamericano de integració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Miembro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Argentina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Bolivi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Federativa del Brasil.    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olombia.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hile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Cuba.            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Ecuador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Estados Unidos Mexicanos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aragua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l Perú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Oriental del 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- República de Venezuela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7EA3-C14F-4650-94E4-E67C9A80097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OMITÉ DE REPRESENTANT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Representantes  Permanentes de cada país miembro con derecho a un vot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Quorum de dos tercios de los países miembros para poder sesion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Garamond"/>
              </a:rPr>
              <a:t>Atribuciones art. 35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18AAC-EE9D-42E7-A795-DFBBFF56CF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Toma de decision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os tres órganos políticos adoptarán sus decisiones con el voto afirmativo de dos tercios d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exceptúan las materias dispuestas en el artículo 43. – lista no es taxativa, el Consejo puede eliminar temas con dos tercios de votos afirmativos y sin que hay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abstención no significa voto neg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C90C6-6B38-407D-9773-BA3AA44FA8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CRETARÍA GENER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Dirigida por un Secretario General, designado por el Consej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ersonal técnico y administrativo, los que en el desempeño de sus funciones no solicitarán ni recibirán instrucciones de los gobiernos ni de entidades nacionales o internaciona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tribuciones art. 38.</a:t>
            </a:r>
            <a:fld id="{734B19C8-0B12-428B-94FD-874FA8333441}" type="slidenum">
              <a:rPr b="0" lang="es-CL" sz="3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A78F8-4D25-49A5-81CD-5F195318EEE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Objetivos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ortalecer los lazos de amistad entre los pueblos de América Latin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Generar y acelerar la integración económica regional – a objeto de mejorar el nivel de vida de los puebl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mover el desarrollo económico-social, armónico y equilibrado de la región. (Art. 1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stablecer en forma gradual y progresiva,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13909-0714-46DE-998C-DF9D5C179B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esarrollo de funciones básicas a sab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Promoción y regulación del comerci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cíproc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La complementación económ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cciones de cooperación a fin de ampliar los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rc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A4731-1767-428C-A40B-39974269E5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5e5ff"/>
                </a:solidFill>
                <a:latin typeface="Garamond"/>
              </a:rPr>
              <a:t>Principios rectores de la ALADI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encuentran consignados en el Art. 3 Tratado de Montevideo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ltiplic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D44ED-CFF3-4776-9FA9-2908B835F6A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luralism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Sustentado en la voluntad de los países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Abarca materias tanto políticas como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9C848-5BEF-42E7-9234-C247AA5D0F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vergenc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Es el de mayor importa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Multilateralización progresiva de los acuerdos de          alcance parcial – hacia la formación de un mercado común latinoameric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-  Negociaciones periódicas entre los países miemb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43AF4-5AA9-4860-8382-EF0CE7D1197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lexibili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ermite celebración de acuerdos de alcance parcia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egulado de manera compatible con el principio de convergencia y el fortalecimiento de los vínculos de integr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D9548-43D4-4860-A96F-1A4C254FD5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atamiento diferenci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determina en cada cas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anto mecanismos de alcance parcial como region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obre base de desarrollo de los países miembros- será más favorable a los países de menor desarrollo relativ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1131E-481E-459D-A57B-D14B39243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1T20:26:11Z</dcterms:created>
  <dc:creator>Sebastian Quiroz</dc:creator>
  <dc:description/>
  <dc:language>en-US</dc:language>
  <cp:lastModifiedBy>Judith Baeza</cp:lastModifiedBy>
  <dcterms:modified xsi:type="dcterms:W3CDTF">2008-04-02T21:36:07Z</dcterms:modified>
  <cp:revision>5</cp:revision>
  <dc:subject/>
  <dc:title>   ALADI</dc:title>
</cp:coreProperties>
</file>