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DC15-E511-4C22-AF8E-9116F4DE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7E106-EB39-4EEB-AE3E-A50D5CB6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A2F3-5985-4B68-964D-588C7509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3181-605A-4509-A636-48453C55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4CCF-65BA-4087-A41E-99417F4F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A00E-442A-4D26-BBD8-02B0D5B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8185-3621-4DB7-9457-0D427C4F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8AEA-8233-4983-B608-595D828C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BE3C-5AC0-4997-AA0E-4D5C4789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1D0A-E668-4534-BAEF-88507428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400F-E5A8-488A-A37D-45B368B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1ADF-343E-4B0C-98B6-1AF7471D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C7D7-21EB-4CAB-A0CF-8BA7A167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A0DC-6BEB-4B1C-92C8-29F8E83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77F8-370D-42DA-B363-CFFD1F90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1FFC-85E7-4F91-A808-3F59424B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4DC6-A893-46E7-84E5-81BFCA19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AE12-1896-40E9-A57B-8D68A0FF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72C9-DEFC-46CB-8654-5598E745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27A87-F515-493E-952D-A2970971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5B5E-A036-4A63-8AC8-FC875554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826D3-FC7B-4F2B-9088-0514B3E7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120F-1174-4D51-97C7-6279E14A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3FDF6-654C-4C31-BA5C-41A6CB3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CFBF-0B0D-472B-8370-E4B9BECC1DD3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7BBD-5B0B-43EC-B4FE-6392A570297D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 u="sng">
                <a:solidFill>
                  <a:srgbClr val="e5e5ff"/>
                </a:solidFill>
                <a:uFillTx/>
                <a:latin typeface="Garamond"/>
              </a:rPr>
              <a:t>ALA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ociació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tinoameric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f. Iris Vittini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º Semestre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67344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EF0A-0218-4DD6-B895-B4284FAA93C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osibilita distintas formas de concertación entre los países miembros – Instrumentos comer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rmonía con los objetivos y funciones del proceso de integr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namizar y ampliar merc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95C6-51EA-4182-81B9-B2B2E1674D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ecanismo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LADI propicia la creación de un área de preferencias económicas en la región, con el objetivo final de lograr un mercado común latinoamericano, mediante tres mecanismo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ferencia arancelaria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0F69-9BAE-46F0-9893-B061D5F5A1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eferencia arancelaria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rt. 5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s países mienbros se otorgarán recíprocamente una preferencia arancelaria regional, que se aplicará con referencia al nivel que rija para terceros países y se sujetará a la regalementación correspondient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aplica a productos originarios de países miembros frente a los aranceles vigentes para terceros paí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CEDF-4DAF-4D63-BB8F-ABB3302024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ellos en que participa la totalidad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celebrarán en el marco de los objetivos y disposiciones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drán referirse a las materias e instrumentos previstos para los acuerdos de alcance parcial. (art. 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8EF94-C286-4CF0-96FD-D312CCA32C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parc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ticipación de dos má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penden a profundizar el proceso de integración regional mediante su progresiva multilateraliz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derechos y obligaciones que de ellos emanan regirán exclusivamente para los países miembros que los suscriban o se adhie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6544-C730-4144-B42A-D5DD9A50A8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Clasificación de los acuer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merciales. (Art. 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complementación económica. (Art. 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ropecuarios. (Art. 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ción del comercio. (Art. 1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emás los países miembros … “podrán establecer, mediante la reglamentaciones correspondientes, normas específicas para la concertación de otras modalidades de acuerdo de alcance parcial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Art. 1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7D0F-C3F1-474F-9A5A-1A509D2243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que rigen a los acuerdos (Art. 9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ben estar abiertos a la adhesión de los demá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áusulas de convergencia – beneeficios alcancen a todos lo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endrá tratamientos diferenciales en función a las tres categorías de países reconocidas por el Tratado de Montevide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desgravación podrá efectuarse sobre la base de una rebaja porcentual respecto de los gravámenes  aplicados a la importación originaria de los países no participa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zo mínimo de duración 1 añ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ueden contener normas específicas sobre ciertas mate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38FD3-3A63-43C5-8BB3-167D9B5D50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rganis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s polític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nsej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Confer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mit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 técn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Secretaría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2AE0C-9950-451C-A450-D8FAD298FB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SEJO DE MINISTROS DE RELACIONES EXTERIOR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-  Órgano supremo de la Asoci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o por los Ministros de RR.EE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ducción política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sionará con la totalidad de su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0CF05-94E9-452D-8274-CF93EAC1B2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FERENCIA DE EVALUACIÓN Y 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a por plenipotenciar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cada tres años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ara toma de decisiones se requiere la presencia de todos lo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F6F1-289A-43B9-AADA-71769A95B8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ratado Montevideo, 198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ayor grupo latinoamericano de integ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iembro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Argentin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Boliv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Federativa del Brasil.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olombia.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hil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uba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Ecu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Estados Unidos Mexican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aragua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er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Oriental del 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Venezue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8DD0-5CD7-4942-8DE4-F68C693EEB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MITÉ DE REPRESENTA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Representantes  Permanentes de cada país miembro con derecho a un vo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Quorum de dos tercios de los países miembros para poder sesion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Atribuciones art. 3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0CE95-2AA7-4472-A306-803732AF15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Toma de decisi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os tres órganos políticos adoptarán sus decisiones con el voto afirmativo de dos terc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exceptúan las materias dispuestas en el artículo 43. – lista no es taxativa, el Consejo puede eliminar temas con dos tercios de votos afirmativos y sin que hay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bstención no signific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36F2-A2B7-4CB8-B956-3EABB498BD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CRETARÍA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rigida por un Secretario General, designado por el Consej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sonal técnico y administrativo, los que en el desempeño de sus funciones no solicitarán ni recibirán instrucciones de los gobiernos ni de entidades nacionales o internacion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8.</a:t>
            </a:r>
            <a:fld id="{95F5FE7A-A0F6-4F42-B73D-FBA3381B3BFE}" type="slidenum">
              <a:rPr b="0" lang="es-CL" sz="3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13D1-4AF5-40D9-9A97-F4DE9028D2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jetivo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talecer los lazos de amistad entre los pueblos de América Lat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enerar y acelerar la integración económica regional – a objeto de mejorar el nivel de vida de los pueb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ver el desarrollo económico-social, armónico y equilibrado de la región. (Art.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ablecer en forma gradual y progresiva,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32A6-3237-4EE6-BE1D-6958FEC41D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arrollo de funciones básicas a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romoción y regulación del comerc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cípro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La complementación económ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cciones de cooperación a fin de ampliar l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rc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3508-C881-434A-9FA8-7E956B9831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ncipios rectores de la ALAD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encuentran consignados en el Art. 3 Tratado de Montevide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93F9-A6C1-4D28-9F7B-C80A7047F2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Sustentado en la voluntad de los países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barca materias tanto políticas com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2A88-F278-43E3-8A35-D994FCBE4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Es el de mayor importa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Multilateralización progresiva de los acuerdos de          alcance parcial – hacia la formación de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 Negociaciones periódicas entr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BE9C-CBFE-4EC3-9556-15615179E0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elebración de 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gulado de manera compatible con el principio de convergencia y el fortalecimiento de los vínculos de 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0592-6EF0-425C-84D4-E3F0E0BD0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determina en cada ca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anto mecanismos de alcance parcial como reg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bre base de desarrollo de los países miembros- será más favorable a los países de menor desarrollo rel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48FC-803C-480D-9AC3-222F5E625D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0:26:11Z</dcterms:created>
  <dc:creator>Sebastian Quiroz</dc:creator>
  <dc:description/>
  <dc:language>en-US</dc:language>
  <cp:lastModifiedBy>Judith Baeza</cp:lastModifiedBy>
  <dcterms:modified xsi:type="dcterms:W3CDTF">2008-04-02T21:36:07Z</dcterms:modified>
  <cp:revision>5</cp:revision>
  <dc:subject/>
  <dc:title>   ALADI</dc:title>
</cp:coreProperties>
</file>