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963-87D0-4E14-8BB8-E8F9C237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AD7-FBD3-4880-84DB-9CCF5EA7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972-394D-4313-AA77-9C14C8C4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F68D-E3E2-4FD4-9CFF-041D10F6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EA6E-B6DF-4A0A-92AB-C358829B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B09D-FCE0-427E-98C2-F998780A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22FD-A0B9-4F9B-8BE2-F4008C3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3D1D-CE0E-47DD-9DD4-0F6AC892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C4D7-8F34-4CB6-A60C-E98E04A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C130-9382-4285-B575-D219037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D951-FD0D-4BCF-94A2-833FCC59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8AD-F4EF-4A2E-8370-DD8CFDB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F4CA-6817-4C94-B598-AD1C7BD3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4950-D73F-415B-BEED-3A7AF00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CF3D-DA78-48CC-9244-DE51361A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3ED4-D3A9-4599-A120-43833E7C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FF69-D943-4A47-8D6A-553D68D3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A71-5D7E-421A-ABD4-ECB70C9C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8F0-B60E-43CF-8936-0AE402C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7FC-3F99-45B5-9A21-3DA2ACE1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951-2DA0-4C98-9D16-83844D96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EEF-BCC7-482E-8869-504AEB34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DABF-059C-47F8-8FF7-C9BC632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D7A-2D84-4CD1-B5A5-B508B0A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D45-9BA9-47B3-88AE-424D84FB268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6EAA-E182-47EA-85DC-8A168D2BC68C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1640" y="1066320"/>
            <a:ext cx="776916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6600"/>
                </a:solidFill>
                <a:latin typeface="Times New Roman"/>
                <a:ea typeface="Times New Roman"/>
              </a:rPr>
              <a:t>LOS PRINCIPIOS GENERALES DEL DERECHO RECONOCIDOS POR LAS NACIONES CIVILIZ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218960"/>
            <a:ext cx="776916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y, por consiguiente,insta a todos los Estados a que se guien por esos  principios en su comportamiento internacional y a que desarrollen  sus relaciones mutuas sobre la base del estricto cumplimiento de esos principio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 fuente principal de D.Int.P.(en el hecho es fuente subsidiaria:normalmente se acudira a ella cuando no se encuentren normas en tratados o costumbres, aplicables a un caso determin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ONCEP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.son" principios que existe y estan establecidos en el derecho interno de los estados"(Quoc Dinh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o de "cierto numero de principios que constituyen el fondo comun de todos los sistemas juridicos"(Paul Reut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CARACTERISTIC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. Es una fuente primaria y autonoma de D.Int.P.; tiene una existencia independiente de los tratados y la costum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u objetivo es dar normas juridicas que solucionen los casos no contemplados en dichas fu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 se trata de una aplicacion completa y exacta de normas de diferentes ordenamientos juridicos, sino de retener su espiritu comun,sus aspectos esenciales y razonar por analog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82400"/>
                </a:solidFill>
                <a:latin typeface="Arial"/>
              </a:rPr>
              <a:t>SITUACION ACTUAL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Hoy han perdido importancia como fuente ya que gran parte de ellos se encuentran incorporados en el derecho internacional convencional o consuetudinario (entre otros, la buena fe,lo pactado obliga,la autoridad de cosa juzgada,nadie puede ser juez y par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142640"/>
            <a:ext cx="776916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el caso Barcelona  Traction, a falta de  norma convencional o consuetudinaria, se acudio a los principios generales, y se distinguio entre sociedad y accionistas, y se concluyo que la demanda debia ser dirigida a la sociedad  y no a cada uno de  los soci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4824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380880"/>
            <a:ext cx="83059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DEBEN CONFUNDIRSE CON LOS PRINCIPÌO GENERALES DEL DERECHO INTERNACIONAL PUBLIC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stos son aquellos principios generales establecidos o que se deducen de las costumbres y convenciones en vigor. De manera que son normas que estan en vigencia internacional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761760"/>
            <a:ext cx="77691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amos a  estudiarlos..en su oportunidad y  se encuentran, principalmente, en la resolucion  N· 2625. De 24 de Octubre de 1970 y se titula "DECLARACION SOBRE LOS PRINCIPIO DE DERECHO INTERNACIONAL REFERENTES A LAS RELACIONES DE AMISTAD Y A LA COOPERACION ENTRE LOS ESTADOS DE CONFORMIDAD CON LA CARTA DE LAS NACIONES UNIDAS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1640" y="914400"/>
            <a:ext cx="776916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En su parte final esta Declaracion dice: " Los  principios de la Carta incorporados a la presente Declaracion costituyen principios basicos de derecho inter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1:44:15Z</dcterms:created>
  <dc:creator>GILDA CICCI SALAZAR</dc:creator>
  <dc:description/>
  <dc:language>en-US</dc:language>
  <cp:lastModifiedBy>GILDA CICCI SALAZAR</cp:lastModifiedBy>
  <dcterms:modified xsi:type="dcterms:W3CDTF">2007-11-15T02:56:34Z</dcterms:modified>
  <cp:revision>17</cp:revision>
  <dc:subject/>
  <dc:title>    LOS PRINCIPIOS GENERALES DEL DERECHO RECONOCIDOS POR LAS NACIONES CIVILIZADAS   </dc:title>
</cp:coreProperties>
</file>