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E3A-A1B0-481A-B930-58E88B0E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505-131C-4D7D-9C90-980B6D3A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9A9-E74F-4B27-9616-1F4F2AD6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EFB-1B00-4CD3-AC83-802AECC9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F2A9-E60C-4B19-ADC0-21F3BBF2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37BF-F330-4479-9E9D-728B65DB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812-EB9C-47E3-A1C3-DE8EEDDB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15BF-95C6-4645-8EF5-3318AD3F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7CAB-DBD6-467B-AD02-F5F107B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77ED-1812-4BC5-803C-BC4221B8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6096-45FE-4655-BA53-B9B9EB0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B3B-0835-4582-80E8-A92E9A18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7A51-9A61-4210-B3F0-FF9390E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983E-0366-4794-A8CA-81710D88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57F1-AEE4-49F4-959F-BA628E2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980F-FF5F-4407-A84C-DE2A7436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BBC-094D-4B00-A35C-0EA8B937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A37-CBBB-4C76-A947-DA887569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3A4-382B-44F4-B443-A173A650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266-B51C-4C4F-8F52-AF85415F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B73-10C2-472C-A57E-14CD780B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B19-A990-4D68-BE70-ADA751C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420-8B61-410A-AAE2-651D536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DF2-A0D6-4C60-B7BB-3074E8F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BE27-0DCA-4E6D-A321-F0407E5448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A27-05C9-49A2-9851-52FAAAFC85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Fuentes del Derecho Internacional Públic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60000" y="42552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entre normas jurídicas inter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144440"/>
            <a:ext cx="8101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hay jerarquía entre tratados y costum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isten principios que se deben aplicar en caso de conflictos entre normas jurídicas internaciona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º Normas de IUS COGENS: Normas Imperativas de Dº Internacional General (ver artículo 53 convención de Viena sobre Dº de los Tratados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º no tratándose de normas de Ius Cogens se acude a los siguientes princip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1.- Ley Especial Deroga a la Ley Gene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2.- Ley Posterior Deroga a la Ley Anteri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* Tratados y Costumbres pueden derogarse recípro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Generalidades.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03480" y="1447920"/>
            <a:ext cx="794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de los cuales emanan los principios y normas d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MATERI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lementos históricos, políticos, económicos, sociales,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ológicos y otros que han ido determinand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ido de las normas del D.I.P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FORMALES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Procedimientos, medios, o actos a través de los cuales s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n, modifican, o extinguen las normas del D.I.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AS FUENTES FORM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7160" y="669960"/>
            <a:ext cx="8016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EN EL AMBITO INTERNO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Las normas l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 el Poder Legislativo en su sistem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cional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EN EL AMBITO DE LA COMUNIDAD INTERNACIONAL: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Dado su carácter desentralizado no hay un poder legislativ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CLASIFICACION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FUENTES CONVENCIONAL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RATADOS)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FUENTES EXPONTANEA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STUMBRE Y PRINCIPIOS GENERAL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 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FUENTES AUTORIT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SON UNA EXEPC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distinguir:  LA FUENTE (Procedimiento por el cual se crea la norm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  LA NORMA MISMA ( Substancia de la reg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da).  Asi los TRATADOS da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en a las NORMAS CONVENCIONALES, y la COSTUMBRE, a las NORM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UETUDIN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LASIFICACION DE LAS NORMAS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50840" y="1905120"/>
            <a:ext cx="8093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- DE CARACTER GENERAL ,ABSTRACTO Y PERMAN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todas las situaciones concretas qu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n presentarse en el futuro. (Normas Consuetudinari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es, ejemplo responsabilidad internacional por hech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ícito, y principios generales de derecho).  Hay también normas convencionales de carácter general y abstracto, ejemplo l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ción de ONU  sobre el Derecho del Mar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DE CARACTER PARTICUL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Estan destinadas a regir situaciones determinadas, ejemplo el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 de Paz y Amistad de Chile y Argent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ANALISIS DEL ARTICULO 38 DE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ESTATUTO DE  LA CORTE INTERNACIONAL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DE </a:t>
            </a:r>
            <a:r>
              <a:rPr b="1" lang="es-ES_tradn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JUSTICI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3080" y="1557360"/>
            <a:ext cx="825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o actualmente vigente, tomado del estatuto de la corte permanente d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 internacional de 1920, que, aunque no lo dice expresamente se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iere a fuentes formales de derecho internacional Públic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exto del artículo 38 es el siguiente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1.- LaCorte cuya función es decidir conforme a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las controversias que le sean sometidas, deberá aplicar: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Convenciones Internacionales, sean generales 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a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cen reglas expresamente reconocidas por l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dos litig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- La Costumbre internacional como prueba de una practica ge-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ralmente aceptada como derech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ff"/>
                </a:solidFill>
                <a:latin typeface="Times New Roman"/>
              </a:rPr>
              <a:t>Continuación...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1233360"/>
            <a:ext cx="8093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-  Los principios generales de derecho reconocidos por la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es Civilizadas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- Las Deciciones Judiciales y las Doctrinas de los publicistas de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or competencia de las distintas naciones, como medi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xiliar para la determinación de las reglas de derecho si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juicio de lo dispuesto en el arti. 59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La presente disposición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nge la facultad de la Corte para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dir un letigio ex aequo et bono, si las partes así lo convinier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CTERISTIC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parrafo 1º del art. 38 , nos revela que se esta refiriendo a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ntes de D.I.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IMPORTANCI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762120"/>
            <a:ext cx="7924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universalidad, porque es norma vigente para los 191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dos miembro de la ONU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Es la unica norma vigente sobre esta materia, además se alude a ella en la Convención del Derecho del Mar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Y es aplicada por Tribunales y Tratadista.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ctos que comprende 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a.- Las verdaderas fuentes formales (Tratados, costumbre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 generales del derecho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b.- los medios auxiliares para la determinación del derecho</a:t>
            </a: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urisprudencia y Doctrina)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c.-- La opción de solicitar se falle e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quidad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Parrafo   2º del art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).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la mayoria opina que la equidad no es una fuente  de D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CRITICA</a:t>
            </a:r>
            <a:r>
              <a:rPr b="1" lang="es-ES" sz="36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19320"/>
            <a:ext cx="775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No incluye todas las fuentes de DIP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2.- No contempl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rqui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fuentes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ARA NOSOTROS   ES MAS UNA VIRTUD QUE UN DEFECTO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3.- Coloca en un mismo parrafos fuentes y medios auxiliares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4.- Parece dar la misma importancia a doctrina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.;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tante el destacado papel de esta última.</a:t>
            </a:r>
            <a:br>
              <a:rPr sz="2000"/>
            </a:br>
            <a:br>
              <a:rPr sz="2000"/>
            </a:br>
            <a:r>
              <a:rPr b="1" lang="he-I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5.- Emplea una expresión ya superada como es Naciones Civilizada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83480" y="49212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Times New Roman"/>
              </a:rPr>
              <a:t>JERARQUÍA DE LAS FUE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155412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l artículo 38 del Estatuto se abstuvo de establecer una jerarquía entre las Fuentes formales princip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) En el proyecto de la convención se establecía que la aplicación de estas fuentes había de hacerse “por orden suscesivo”, la Asamblea General decidío suprimir dicho inciso por considerarlo inneces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) Usa letras para design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) Solo establece un orden sucesivo de consideración (es un método operativo, no indica jerarquía, el tribunal puede aplicar varias fuentes en un mismo cas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23:54:51Z</dcterms:created>
  <dc:creator>Héctor Escobar</dc:creator>
  <dc:description/>
  <dc:language>en-US</dc:language>
  <cp:lastModifiedBy>Andres</cp:lastModifiedBy>
  <dcterms:modified xsi:type="dcterms:W3CDTF">2005-07-07T20:30:17Z</dcterms:modified>
  <cp:revision>16</cp:revision>
  <dc:subject/>
  <dc:title>Fuentes del Derecho Internacional Público</dc:title>
</cp:coreProperties>
</file>