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470-F713-413C-9152-D387B650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2A5-5B22-4602-8B6C-D9359949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518-8883-4715-82C8-0A954B89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CEC-86DF-4652-8409-CCD28E1E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A573-FB7F-4533-A018-783A9989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8312-3F9C-4D89-8A75-B6885A54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A90E-3AE0-4702-AA8F-B66EBD47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9366-B706-4B82-9269-0D9419D6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E301-30B9-4915-8F16-28333C19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CCD0-7AC8-432A-A374-C5BF8E9F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3621-788B-44DA-B978-5C4DC54C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DD3-219A-46D3-B812-7550580C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82F1-7DBA-4A2D-898A-1F533214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6D7A-194C-4E49-88C9-7A013488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6E4F-8935-417B-8451-DF953B27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F1D3-F5E2-466B-BDD7-1593D5D9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4CE3-C789-49BD-8FDE-E8AE6212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461-BA73-4D83-961A-48B2761E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3D0-5D09-44EF-BD84-EF5FBA9E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C8C4-F2D2-43EC-AB64-1E0C850C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B83-421F-46E2-B2A6-FF4B4A54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351-4461-4A3E-80C5-2CDDD517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969-962C-4DD9-B850-9F6F8B7F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20E-CDF2-4993-8511-161E3968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66EF-AC66-4BA0-B158-A99A7DE39A4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1E69-7246-4A6A-A893-600F805A61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MX" sz="3600" spc="-1" strike="noStrike" u="sng">
                <a:solidFill>
                  <a:srgbClr val="ffcc66"/>
                </a:solidFill>
                <a:uFillTx/>
                <a:latin typeface="Book Antiqua"/>
              </a:rPr>
              <a:t>G</a:t>
            </a:r>
            <a:r>
              <a:rPr b="1" lang="es-ES" sz="3600" spc="-1" strike="noStrike" u="sng">
                <a:solidFill>
                  <a:srgbClr val="ffcc66"/>
                </a:solidFill>
                <a:uFillTx/>
                <a:latin typeface="Book Antiqua"/>
              </a:rPr>
              <a:t>RAFICO  RELACIONES  ENTRE EL DIP Y EL DERECHO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 PROBLEM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RELACIONES ENTRE EL DIP  Y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ON OBJETO DE UN DEB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NFRENTÓ A  DOS  ESCU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UA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EL 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UALISMO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        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Y  EL  MONISMO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TA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 UNA EXPL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S CONFLICTOS  Y REL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EL  DIP  Y  EL  DERECHO  INTER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IP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MONISTA NI DUAL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ESTADOS LOS QUE OP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ORMA COMO LOS ESTADOS INCORPORAN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TEMA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ORÍA  DUALISTA  SOSTEN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L DIP  Y E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N DOS SISTEMAS  JURÍD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PA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INDEPEND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1.-  CON SUJETOS 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-DIP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OS-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2.-    CON FUENTES DISTINT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-ART 38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O-LEY-CONSTITUCION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APLICA A LAS RELACIONES ENTRE LOS ESTA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Y EL DERECHO INTERN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ON SISTEMAS JURÍDICOS DIFEREN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E SUPERPON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MBOS  OBLIGAN DENTRO DEL ORDEN JURÍDICO AL QUE PERTENEC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PUEDE HABER CONFLICTO ENTRE AMBOS DEREC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SUPERPONIAN  POR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IMPLICA LA ACTIVIDAD DE DOS O 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L DERECHO INTERNO IMP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ACTIVIDAD DE UN SOLO SU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LA  CONSTITUCIÓN—LA LEY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S SUJETOS A LOS QUE SE DIRIGE EL DIP SON LO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RECHO INTERNO SE DIRIGE A LO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CONSECUENCI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 PRODUCEN CONFLICTOS  EN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-PARA QUE UNA NORMA DEL DIP SE APLIQUE EN E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A EXISTIR UN PROCESO DE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INTERNACIONAL DE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R TRANSFORMADA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SU RE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 REGLAMENTO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 CONTRARIO NO PODIA SER APLICAD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IBUNALES INTERNOS A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 TANTO SOLO EL DERECHO INTERN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QUE APLICAN LA NORMA INTERNACIONAL SI HA SIDO TRANSFORMADA PREVIAMENTE EN NORMA INTER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1.-  COMO  SE INCORPORA  EN EL ORDEN INTERNO</a:t>
            </a:r>
            <a:br>
              <a:rPr sz="36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   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  TRATADOS  O DERECHO CONVENCIONAL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  O DERECHO CONSUETUDINARI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REALIDAD NO ES ASI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UNA NORMA INTERNACIONAL SE APLIC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ANDO UN ACTO DE RECEPCIÓN COMO ES EL CASO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ORDENA  CUMPLIR 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LEY DE LA REPU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E INCORPORA EL TRATAD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TRANSFORMA EN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UE SIENDO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HA TRANSFOR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L TRATADO 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IGUE  SIENDO 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 PARA  MODIFIC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DEBE CONTAR CON EL ACUER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LOS DE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PARA TERMIN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DEBE SO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 LAS DISPOSICIONES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LO QUE NO OCURRI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-SI SE TRANSFORMA EN  NORMA  INTERN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Arial"/>
              </a:rPr>
              <a:t>MON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PRIMACÍA DEL DERECHO INTERNACIONAL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KELSEN ELABORA TEORIA MONISTA PRESIDIDA POR EL DERECHO INTERNA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GÚN TEORIA MONIS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NORMA DE DERECHO INTERNACIONAL ES APLICABLE  EN FORMA AUTOMÁTICA 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 SER PREVIAMENTE TRANSFORMADA EN NORMA INTER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L MONISMO  POSTULABA QUE EXISTÍ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OLO GRAN SISTEMA JURÍDICO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TRO DEL CUAL SE DABAN DOS SUB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USBSISTE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UBSISTEMAS 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S RELACIONES ENTRE AM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GULABAN POR UNA DETERMINACIÓN DE JERARQU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DENTRO DEL MONISM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NDENCIA PREDOMIN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DABA PREEMINENCIA AL DIP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EL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SUPERIOR ERA L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DEMAS SE CONFORMABAN A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cc66"/>
                </a:solidFill>
                <a:latin typeface="Arial"/>
              </a:rPr>
              <a:t>MONISMO CON PRIMACÍA DEL DI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O  DERIVA D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ES CONCEBIDO COMO UN ORDEN JURÍDICO JERÁRQUICAMENTE SUPERI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N 2 ORDENAMIENTOS  JURÍDICOS, UNO EL DIP ES SUPERIOR Y EL OTROELDERECHO INTERNO SE SUBORDINA  AL PRIME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CASO DE CHI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-ANALIZAREMOS    DOS  PROBLEMAS FUNDAMEN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 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OS TRATAD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ONSTITUCIÓN NO HAY NINGUNA NORMA QUE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EN EL ORDEN INTERNO CHIL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N LOS TRATADO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ONS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PRUDENCIA Y LA PRACTICA   AFIR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TRATADOS SE INCORPORAN 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RANGO DE 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INCORPORAN POR UN ACTO DE RECEPCIÓN FORMAL    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 QUE DICTA EL PRESIDENTE DE LA REPU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NO  SE TRANSFORMA   L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NORMA INTER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E ORDENA PUBLI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RATAD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ARIO   O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SEGÚN LA LEY 18.15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ERMITE HACER UNA PUBLICACIÓN ULTRA FI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ON TRATADOS DE GRAN EXTEN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POSITA UNA COPIA AUTENTICADA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ANCILLE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OTRA EN LA CONTRALO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-68616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2.-  CON QUE JERARQUÍA SE INCORPORAN   A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LOS TRATA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STUMBR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T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ROCEDIMIENTO DE INCORPORACIÓN DE LOS TRATADOS AL DERECHO INTERNO NO SE  REGULA EN UN TEXTO LEGAL SINO 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ÁCTICA CONSTITUCIONAL Y LEGAL Y LA JURISPRUDENCIA DE LOS TRIBUNALES ASIMIL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 EL TRATADO A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Y SE APLICABAN LOS ARTÍCULOS 6° Y 7° DEL CÓDIGO CIVIL( PROMULGACIÓN Y PUBLICACIÓN  LEY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UN ACTO FORMAL  DE  INCORPO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IGUE  EL CRITERIO DUALISTA DE LA TRANS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TAMPOCO  SIGUE AL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ECTO A QUE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PUEDE APLICAR AUTOMÁTIC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VEZ QUE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   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UEDE SER APLICADO  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OS ORGANOS DEL ESTADO - TRIBU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Y PUEDE SER INVO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OR LOS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NO SE PUEDE  APLICAR  NI INVO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JEMPLO-CASTILLO  VELASC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PROMULGADO EN 1976,  Y PUBLICADO  EN  ABRIL DE 19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J  CASO  EXPULSIÓN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JAIME CASTILLO VELASCO  EN 19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VOCAN EN UN RECURSO DE AMPA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 DE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RTE DE APELACIONES DE STGO SEÑA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I  BIEN ESTE PACTO OBLIGA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HABIA SIDO RATIFICADO GOB PRESIDENTE ALLE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TRÓ EN VIGENCIA EN  GOBIERNO MILI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CTO OBLIGA 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O NO ESTA INCORPÓRADO  EN EL ORDEN 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NO HABIS SIDO  PROMULGADO --- NI PUBL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 LO TANTO  NO LO AP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BLEMA DE LA INCORPORACIÓN DEL D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ESTADO QUE NO INCORPORA  EL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 NO LO PUE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INCURRIENDO EN UN HECHO ILICITO ART 27  C DE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 SE PUEDE INVOCAR  UNA SITUACIÓN DE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DEJAR DE CUMPLIR UN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TA  TAMBIEN PRESENTE EL PRINCIPIO DE LA BUENA FE ART 26 C DE  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IMPLICA LA OBL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ADOPTAR TODAS  LAS NORMAS INTERNAS NECESA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EL PLENO Y CABAL CUMPLIMIENTO DE UN TRATADO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MULGADOS Y PUBLICADOS, FORMAN PARTE DEL ORDEN JURÍDICO INTERNO Y PRIMAN SOBRE LAS LE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CONVENCIÓN DE VIENA  DERECHO DE LOS TRATADOS EN SU ART 27 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ABLE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IMAC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 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SOBRE EL ORDENAMIENTO INTERNO ART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UNA PARTE NO PODRÁ INVOCAR LAS DISPOSICIONES DE SU DERECHO INTERNO COMO JUSTIFICACIÓN DEL INCUMPLIMIENTO DE UN TRATADO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RATADO PREVAL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BRE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PUEDE SER DEROGADO POR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FORMA CONSTITUCIONAL  2005 ART 54:ART 54   INC 5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   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S DISPOSICIONES DE UN TRATADO SÓLO PODRÁN SER DEROGADAS, MODIFICADAS O SUSPENDIDAS EN LA FORMA PREVISTA EN LOS PROPIOS TRATADOS O DE ACUERDO A LAS NORMAS GENERALES DE DERECHO INTERNACIONAL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 TRATADO SÓLO PUEDE DEROGA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ÚN LO FORMA PREVISTO EN EL PROPIO TRATADO;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UN LAS NORMAS GENERALES DE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JURISPRUDENCIA Y LA PRA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ERMITEN AFIR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E LOS TRATADOS SE INCORPO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CON RANGO DE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PERJUICIO DE LOS TRATADOS QUE SE REFIEREN A DDHH  EN  ART 5º  DE LA CONSTITUCIÓN INCISO  2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REFORMADO  AÑO  1989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 EFICACIA  DEL  DI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E  DE LA FORMA COMO  LOS 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EN  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 APLIQUEN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66"/>
                </a:solidFill>
                <a:latin typeface="Arial"/>
              </a:rPr>
              <a:t>TRATADOS DERECHOS HUMAN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°  CONSTITUCION OTORG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ANGO CONSTITUCIONAL A LOS TRATADOS  DE DERECHOS HUM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º INCISO 2º  CONSTITUCIÓN POLÍTICA  1980: “EL EJERCICIO DE LA SOBERANÍA RECONOCE COMO LIMITACIÓN EL RESPETO A LOS DERECHOS ESENCIALES QUE EMANAN DE LA NATURALEZA HUMANA. ES DEBER DE LOS ÓRGANOS DEL ESTADO RESPETAR Y PROMOVER TALES DERECHOS GARANTIZADOS POR ESTA CONSTITUCIÓN, ASÍ COMO POR LOS TRATADOS INTERNACIONALES RATIFICADOS POR CHILE Y QUE SE ENCUENTREN VIGEN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LIC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ERARQUÍA SOBRE LOS DEMÁS TRATADO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CORPORACIÓN DEL DERECHO CONSUETUDI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HILE NO TIENE UNA NORMA CONSTITU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A INCORPORACION DE LA COSTUMRE  EN EL DERECHO INTERNO 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UNA NORMA QUE SE INTENTÓ INCLU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LAS  REFORMAS CONSTITUCIONALES  DE 1989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EL DERECHO CONSUETUDINARIO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ENTIENDE  INCORPORADO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AUTOMATICA Y GLOB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EL DERECHO INTERNO 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NORMA DE ESTE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CONTIENE EN LA CON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LA EX REPUBLICA  ALEMAN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ERECHO INTERNACIONAL GENERAL SE ENTEN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GLOBAL Y AUTOMÁTICAMENTE  INCORPO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DERECHO FEDERAL ALE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 MISMO  TIENEN LAS CONSTIT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LOS PAISES BAJOS—ITALIA—GRE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HILE NO TIENE  UNA NORMA DE ESTA NATURAL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TO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OMO SE PUEDE APLI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OBLIGA A CHILE EN EL ORDEN INTERN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 HAY UNA NORMA QUE SEÑA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L DERECHO CONSUETUDINARIO SE ENTIE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GLOBAL Y AUTOMÁTICAMENTE INCORPO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ET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HAY VARIAS MODALIDADES  EN EL SISTEMA 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VIRTUD DE LAS CUALES UN JUEZ PU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.--PRIMERA MOD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L CASO EN QUE UNA LEY INTERNA SE REM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A UNA NORMA DE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CUANDO UNA LEY INTERNA  SEÑALA AL JU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PUEDE APLICAR EL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  ART 1.- CPP  QUE EXPRES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TRIBUNALES DE LA RE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ERCEN JURISDICCIÓN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HILENOS Y SOBRE LOS EXTRANJ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 JUZGAR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SE COMETE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ASOS EXCEPTUADO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POR LEYES ESPE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TRATADOS  O CONV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QUE CHILE ES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 POR LAS REGLAS GENERALMENTE RECONOCIDAS DEL DERECHO INTER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SE ES EL DERECHO CONSUETUDINARIO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EXISTE 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REMITE  AL JUEZ  AL DERECHO CONSUETUDINARIO 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CONSECUENCIA LOS TRIBUNALES CHIL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HAN TENIDO NINGUNA DIFICULT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APLICAR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ANDO LA LEY LOS HA REMIT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ESTE DERECHO CONSUETUDINARIO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.-  SEGUNDA HIPÓTESIS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PASA CUANDO  EL 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UEDE RESOLVER  UNA CONTROV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NDO UNA NORMA DE DERECHO INTERNACIONAL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NO HAY NING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LO REMITA COMO CAS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ACTICA DOMINANTE INDICA QUE EL JUEZ HA APLICADO-EN LA PRACTICA EL DERECHO INTERNACIONAL GENER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GUNOS   HAN SOSTENIDO EN SENTENCIAS AIS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NO HABIENDO UNA REMISIÓN DE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JUEZ NO PODRÍA APLICAR UNA NORMA CONSUETUDINARI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EDOMINA LA JURISPRUDENCIA EN EL SENTIDO O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 QUE EL JUEZ PUEDE APLICAR UNA NORMA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ÚN A FALTA  DE MANDATO LEG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 NO TIENE ORGANOS PROPI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           QUE VELEN POR EL CUMPLIMIENTO  D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ES DAN CUMPLIMIENTO A 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3.-SE PLANTEA UNA TERCERA HIPÓT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UANDO EXISTE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BLE  A  UN  CA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ERO EXISTE TAMBIEN AL MISMO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LEGAL INTERNA  CONTR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CONTENIDO DE LA NORMA 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LOS TRIBUNALES MAYORITARIAMENTE HAN OP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OR  LA  LEY 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JANDO DE APLICAR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JUECES SON CONSIDERADOS ORGANOS D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DEBEN RESPO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 LA JERARQUÍ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Y ESTRUCTURA DE 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ORDENAMIENTO EST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ER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L   PROCEDER DE ESA MAN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OS JUECES ESTAN HACIENDO INCURRIR 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RESPONSABILIDAD  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ORQUE HAN PREFER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 LA LEY POR SOBRE UN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ISTE UN PRINCIPIO BA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OST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NINGUN ESTADO PUEDE INVO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RMA ALGUNA DE SU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 PARA DEJAR 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OBLIGACIÓN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O CUALQUIER NORMA INTERNACIONAL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QUÍ  SE PRODUCE EL CASO DEL CAPITULO DE LA RESPONSABILIDAD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IRTUD DEL CUAL UN ACTO PERFEC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JUSTADO A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UEDE SER PERFECTAMENTE ILIC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DE EL PUNTO DE VISTA DEL DERECHO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LA RESPONSABILIDAD INTERNACIONAL SE MIDE COTEJ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COMPORTAMIENTOS FRENTE AL D 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NO FRENTE A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CORPORACION COSTUMB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 EXISTE EN NUESTRA CONSTITUCION UNA NORMA 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INCORPORACION DE LA COSTUMBRE EN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MO EXISTE EN OTRAS  CONSTITU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INCORPORACIÓN GLOBAL Y AUTOMÁTICA DEL DERECHO INTERNACIONAL COMÚN O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.- UNA LEY INTERNA SE REMITE A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2.- ANTE SILENCIO LEY JUEZ OPTA POR APLICAR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PRIMERA MODALIDAD: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 SE REMITE A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LEY INTERNA SEÑ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EL JU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 APLICAR    EL DERECHO INTERNACIONAL 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J ART 1.- DEL CP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IBUNALES     EJERCEN JURISDICCION 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CHILENOS Y EXTRANJEROS PARA JUZGAR 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COMETA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CÓDIGO DE PROCEDIMIENTO PE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T. 1º : "LOS TRIBUNALES DE LA REPÚBLICA EJERCEN JURISDICCIÓN SOBRE LOS CHILENOS Y SOBRE LOS EXTRANJEROS PARA EL EFECTO DE JUZGAR LOS DELITOS QUE SE COMETEN EN SU TERRITORIO, SALVO LOS CASOS EXCEPTUADOS POR LAS LEYES GENERALMENTE RECONOCIDAS DEL DERECHO INTERNACIONA1.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SALVO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LOS CASOS EXCEPTUADO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EYES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O CONV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OR LAS REGLAS  GENER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NOCIDAS DEL - 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IENES CUMP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ON LOS ORGANOS DEL ESTA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DER JUDICIAL- PODER LEGISLATIVO- PODER EJECU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CONSECUENCIA PAR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S IMPORTANTE COMO SE CUMPLE Y SE APLIC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  EL DERECHO CONSUETUDINARIO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ORDEN INTERNO CHILE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NO TIENE UNA NORMA CO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NTIENDE  AUTOMATICA Y GLOB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ADO EN EL DERECHO INTERNO CHILEN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ESTADOS LEGISLAN EN EL PLANO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TRAVES DE TRATADOS—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MISMO TIEMPO LOS ESTADOS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EGIS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 TRAVES DE SU PODER LEGISL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SUS MECANISMOS DE CREACIÓN DE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S  COMO  ESTA LEGISLACIÓN PARAL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DIP  Y EL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COMO SE VINCU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QUE OCURRE CUANDO HAY CONFLICTO EN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ON QUE JERARQUÍ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APLICA  EL D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N EL ORDEN INTERNO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5:19:24Z</dcterms:created>
  <dc:creator>GILDA CICCI SALAZAR</dc:creator>
  <dc:description/>
  <dc:language>en-US</dc:language>
  <cp:lastModifiedBy>Gilda</cp:lastModifiedBy>
  <dcterms:modified xsi:type="dcterms:W3CDTF">2008-07-01T02:11:43Z</dcterms:modified>
  <cp:revision>132</cp:revision>
  <dc:subject/>
  <dc:title> GRAFICO  RELACIONES  ENTRE EL DIP Y EL DERECHO INTERNO </dc:title>
</cp:coreProperties>
</file>