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2110-B995-4018-82E8-0EDB8F231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CF6B-EFE9-467E-B253-F51C1FC1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80A8-AE6B-4283-8546-5B99BCD4D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F3AD-9102-4A94-8063-CCDEE251C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7D27-2BAD-40DD-BAA9-037EDE8F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6A56-38F4-4F61-811B-E7071A09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51AA-DEE7-43C1-A8E9-2E675C9C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1D77-F5F8-453A-A34A-72FEE084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FEF3-2217-4AFA-83B7-7AF6A6D7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DFB6-E31F-47DE-8EE5-12F54983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41C5-923F-4D2A-BFE2-5AC9DD9F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E7DF-37BC-4585-BD3D-4F0A6C35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F591-186C-42C5-842F-82FD570B53DB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000000"/>
                </a:solidFill>
                <a:latin typeface="Calibri"/>
              </a:rPr>
              <a:t>Los tratados y los terceros Estado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alibri"/>
              </a:rPr>
              <a:t>Regla General: Efecto relativo de los tratados</a:t>
            </a:r>
            <a:br>
              <a:rPr sz="2900"/>
            </a:br>
            <a:r>
              <a:rPr b="0" lang="es-CL" sz="2900" spc="-1" strike="noStrike">
                <a:solidFill>
                  <a:srgbClr val="000000"/>
                </a:solidFill>
                <a:latin typeface="Calibri"/>
              </a:rPr>
              <a:t>solo crean derechos y obligaciones entre las partes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Art. 34. Norma general concerniente a terceros Estados.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Un tratado no crea obligaciones ni derechos para un tercer Estado sin su consentimient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Caso de tratados que prevén obligaciones para terceros Estad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35. Tratados en que se prevén obligaciones para terceros Estados.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Una disposición de un tratado dará origen a una obligación para un tercer Estado si las partes en el tratado tienen la intención de que tal disposición sea el medio de crear la obligación y si el tercer Estado acepta expresamente por escrito esa oblig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Requisi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1.-Intencion partes del trat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2.- consentimiento escrito y por expreso del terce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Se forma un acuerdo colate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a obligación  para el tercero- nace del acuerdo colater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Que es un tratado bilateral que se forma p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Intención partes tratado 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onsentimiento del terce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Caso de los derech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700" spc="-1" strike="noStrike">
                <a:solidFill>
                  <a:srgbClr val="000000"/>
                </a:solidFill>
                <a:latin typeface="Calibri"/>
              </a:rPr>
              <a:t>Art.-36. Tratados en que se prevén derechos para terceros Estados.</a:t>
            </a:r>
            <a:r>
              <a:rPr b="0" lang="es-CL" sz="2700" spc="-1" strike="noStrike">
                <a:solidFill>
                  <a:srgbClr val="000000"/>
                </a:solidFill>
                <a:latin typeface="Calibri"/>
              </a:rPr>
              <a:t> 1. Una disposición de un tratado dará origen a un derecho para un tercer Estado si con ella las partes en el tratado tienen la intención de conferir ese derecho al tercer Estado o a un grupo de Estados al cual pertenezca, o bien a todos los Estados y si el tercer Estado asiente a ello. Su asentimiento se presumirá mientras no haya indicación en contrario, salvo que el tratado disponga otra cosa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alibri"/>
              </a:rPr>
              <a:t>2. Un Estado que ejerza un derecho con arreglo al párrafo I deberá cumplir las condiciones que para su ejercicio estén prescritas en el tratado o se establezcan conforme a ést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78552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Requisi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1,. Intención partes conferir a un tercero- un grupo de terceros o a todos los terceros Esta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2.- Asentimiento del tercer Est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j. Tratado bilateral Chile Argentina 1881 en su art 5° establece un derecho para todos los terceros Estad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ibertad de navegación para los barcos de todos los terceros Estados por el Estrecho de Magall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Revocación o modificación de obligaciones o de derechos de terceros Estado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876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Art 37--1. Cuando de conformidad con el artículo 35 se haya originado una obligación para un tercer Estado, tal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obligación no podrá ser revocada ni modificada 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sino con el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consentimiento de las partes en el tratado y del tercer Estado, 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a menos que conste que habían convenido otra cosa al respect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2. Cuando de conformidad con el artículo 36 se haya originado un derecho para un tercer Estado, tal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derecho no podrá ser revocado ni modificado por las partes 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si consta que se tuvo la intención de que el derecho no fuera revocable ni modificable sin el consentimiento del tercer Estado 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Relación: tratado  costumb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fecto generador- desarrollo progresivo del D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Misión: Asamblea general ONU Art 13Carta O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odificar y desarrollar progresivamente el DIP por CDI Comisión Derecho Interna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Art.  38.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Normas de un tratado que lleguen a ser obligatorias para terceros Estados en virtud de una costumbre internacional. 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o dispuesto en los artículos 34 a 37 no impedirá que una norma enunciada en un tratado llegue a ser obligatoria para un tercer Estado como norma consuetudinaria de derecho internacional reconocida como t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3:45:37Z</dcterms:created>
  <dc:creator>Gilda</dc:creator>
  <dc:description/>
  <dc:language>en-US</dc:language>
  <cp:lastModifiedBy>Gilda</cp:lastModifiedBy>
  <dcterms:modified xsi:type="dcterms:W3CDTF">2008-07-01T19:39:06Z</dcterms:modified>
  <cp:revision>12</cp:revision>
  <dc:subject/>
  <dc:title>Los tratados y los terceros Estados.</dc:title>
</cp:coreProperties>
</file>