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364-7DDD-4F20-8883-93A8FFA7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3AA-08C0-47D3-A9A0-29844FA6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B10B-A96B-4A27-A86D-7636E3F0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3C3-D2F5-4240-A3F1-533A6110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FA31-60C6-4696-A1C2-0BD0CD33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BF1-950A-48D8-8C00-B1736010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EE8-0383-4805-8421-1EC5C1AF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EE0-1BA2-4ABB-9118-067CC22E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4895-0CDE-4A54-82F7-AD03CF8A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901-5468-4224-941C-6BF92C9D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2096-B0E9-42CD-A774-B95EF9C5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65E5-17E7-4645-B97A-2F2BDB05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A17F-1D07-4442-9928-78D4B9C94B47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000000"/>
                </a:solidFill>
                <a:latin typeface="Calibri"/>
              </a:rPr>
              <a:t>Los tratados y los terceros Estad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alibri"/>
              </a:rPr>
              <a:t>Regla General: Efecto relativo de los tratados</a:t>
            </a:r>
            <a:br>
              <a:rPr sz="2900"/>
            </a:br>
            <a:r>
              <a:rPr b="0" lang="es-CL" sz="2900" spc="-1" strike="noStrike">
                <a:solidFill>
                  <a:srgbClr val="000000"/>
                </a:solidFill>
                <a:latin typeface="Calibri"/>
              </a:rPr>
              <a:t>solo crean derechos y obligaciones entre las parte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Art. 34. Norma general concerniente a terceros Estados.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Un tratado no crea obligaciones ni derechos para un tercer Estado sin su consentimient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Caso de tratados que prevén obligaciones para terceros Estad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35. Tratados en que se prevén obligaciones para terceros Estados.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Una disposición de un tratado dará origen a una obligación para un tercer Estado si las partes en el tratado tienen la intención de que tal disposición sea el medio de crear la obligación y si el tercer Estado acepta expresamente por escrito esa oblig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.-Intencion partes del tra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.- consentimiento escrito y por expreso del ter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e forma un acuerdo colat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obligación  para el tercero- nace del acuerdo colate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Que es un tratado bilateral que se forma p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Intención partes tratado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nsentimiento del ter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aso de los derech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Calibri"/>
              </a:rPr>
              <a:t>Art.-36. Tratados en que se prevén derechos para terceros Estados.</a:t>
            </a: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 1. Una disposición de un tratado dará origen a un derecho para un tercer Estado si con ella las partes en el tratado tienen la intención de conferir ese derecho al tercer Estado o a un grupo de Estados al cual pertenezca, o bien a todos los Estados y si el tercer Estado asiente a ello. Su asentimiento se presumirá mientras no haya indicación en contrario, salvo que el tratado disponga otra cos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2. Un Estado que ejerza un derecho con arreglo al párrafo I deberá cumplir las condiciones que para su ejercicio estén prescritas en el tratado o se establezcan conforme a ést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,. Intención partes conferir a un tercero- un grupo de terceros o a todos los terceros Est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.- Asentimiento del tercer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j. Tratado bilateral Chile Argentina 1881 en su art 5° establece un derecho para todos los terceros Estad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ibertad de navegación para los barcos de todos los terceros Estados por el Estrecho de Magal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Revocación o modificación de obligaciones o de derechos de terceros Estad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rt 37--1. Cuando de conformidad con el artículo 35 se haya originado una obligación para un tercer Estado, ta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obligación no podrá ser revocada ni modificada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sino con e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consentimiento de las partes en el tratado y del tercer Estado,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 menos que conste que habían convenido otra cosa al respec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2. Cuando de conformidad con el artículo 36 se haya originado un derecho para un tercer Estado, ta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derecho no podrá ser revocado ni modificado por las partes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si consta que se tuvo la intención de que el derecho no fuera revocable ni modificable sin el consentimiento del tercer Estado 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lación: tratado  costum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fecto generador- desarrollo progresivo del D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isión: Asamblea general ONU Art 13Carta 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dificar y desarrollar progresivamente el DIP por CDI Comisión Derecho Inter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rt.  38.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rmas de un tratado que lleguen a ser obligatorias para terceros Estados en virtud de una costumbre internacional.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o dispuesto en los artículos 34 a 37 no impedirá que una norma enunciada en un tratado llegue a ser obligatoria para un tercer Estado como norma consuetudinaria de derecho internacional reconocida como t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3:45:37Z</dcterms:created>
  <dc:creator>Gilda</dc:creator>
  <dc:description/>
  <dc:language>en-US</dc:language>
  <cp:lastModifiedBy>Gilda</cp:lastModifiedBy>
  <dcterms:modified xsi:type="dcterms:W3CDTF">2008-07-01T19:39:06Z</dcterms:modified>
  <cp:revision>12</cp:revision>
  <dc:subject/>
  <dc:title>Los tratados y los terceros Estados.</dc:title>
</cp:coreProperties>
</file>