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FF6C4-89E6-49E9-BFE5-36E3499E1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A0CB8-3446-4A19-A2D6-22D4B0125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88C6A-3E48-423C-89D5-C98E7C6F2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E3250-232F-496B-B18D-605E84C59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796A0-897F-4086-AE49-FA9746E7D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B58D9-49C7-41EF-9B3B-B12FE0016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C35DD-C280-4CB9-849A-7765037E6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7DF7A-3921-4ABB-BB3D-E10B0EC45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E9869-7F5D-4C7A-A1A5-31CC9B7B2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59005-46FD-41F9-AEF0-963E72488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4128E-A462-4D51-9809-B89AB7E31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57DE4-00BA-4718-B594-C92A77215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24CD6-1A8D-4174-8882-4AC9AEE33DF4}"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FORMA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285840"/>
            <a:ext cx="8229600" cy="65721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Derogación, modificación o suspensión de tratados. </a:t>
            </a:r>
            <a:br>
              <a:rPr sz="2500"/>
            </a:br>
            <a:br>
              <a:rPr sz="2500"/>
            </a:br>
            <a:r>
              <a:rPr b="0" lang="es-ES" sz="2500" spc="-1" strike="noStrike">
                <a:solidFill>
                  <a:srgbClr val="000000"/>
                </a:solidFill>
                <a:latin typeface="Calibri"/>
              </a:rPr>
              <a:t>La reforma introduce  norma : las disposiciones de un tratado solo podrán ser derogadas, modificadas o suspendidas en la forma prevista en los propios tratados o de acuerdo a las normas generales de Derecho internacional&gt; </a:t>
            </a:r>
            <a:br>
              <a:rPr sz="2500"/>
            </a:br>
            <a:r>
              <a:rPr b="0" lang="es-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Señala el profesor Santiago Benadava, &lt;&lt;es un principio fundamental de derecho internacional que un tratado en vigor es obligatorio para las partes contratantes y debe ser cumplido por ellas de buena fe. El principio pacta sunt servanda (lo pactado obliga) es la norma más importante del derecho internacional&gt;&gt;. Agrega que &lt;&lt;un Estado no puede invocar su legislación ni las deficiencias de ella para dejar de cumplir las obligaciones que le impone un tratado. Es el orden jurídico interno el que debe adaptarse el tratado y no el tratado al orden jurídico interno&gt;&gt; (31). </a:t>
            </a:r>
            <a:br>
              <a:rPr sz="2500"/>
            </a:br>
            <a:br>
              <a:rPr sz="2500"/>
            </a:br>
            <a:r>
              <a:rPr b="0" lang="es-E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Denuncia o retiro de un tratado. </a:t>
            </a:r>
            <a:br>
              <a:rPr sz="2700"/>
            </a:br>
            <a:br>
              <a:rPr sz="2700"/>
            </a:br>
            <a:r>
              <a:rPr b="0" lang="es-ES" sz="2700" spc="-1" strike="noStrike">
                <a:solidFill>
                  <a:srgbClr val="000000"/>
                </a:solidFill>
                <a:latin typeface="Calibri"/>
              </a:rPr>
              <a:t>reforma: </a:t>
            </a:r>
            <a:br>
              <a:rPr sz="2700"/>
            </a:br>
            <a:br>
              <a:rPr sz="2700"/>
            </a:br>
            <a:r>
              <a:rPr b="0" lang="es-ES" sz="2700" spc="-1" strike="noStrike">
                <a:solidFill>
                  <a:srgbClr val="000000"/>
                </a:solidFill>
                <a:latin typeface="Calibri"/>
              </a:rPr>
              <a:t>a) El Presidente de la República tiene la facultad exclusiva para denunciar un tratado o retirarse de él, para lo cual debe pedir la opinión de ambas Cámaras del Congreso, en el caso de tratados aprobados por éste (que no sean acuerdos de forma simplificada como lo aclaró el veto presidencial). Materializada la denuncia o el retiro deberá informar de ello al Congreso dentro de un plazo de quince días</a:t>
            </a:r>
            <a:br>
              <a:rPr sz="2700"/>
            </a:br>
            <a:r>
              <a:rPr b="0" lang="es-ES" sz="2700" spc="-1" strike="noStrike">
                <a:solidFill>
                  <a:srgbClr val="000000"/>
                </a:solidFill>
                <a:latin typeface="Calibri"/>
              </a:rPr>
              <a:t>b) Una vez que la denuncia o el retiro produzcan sus efectos de conformidad con lo establecido en el tratado internacional, este dejará de tener efecto en el orden jurídico chileno</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edir la mera &lt;&lt;opinión&gt;&gt; de ambas Cámaras del Congreso --sin carácter vinculante-- produce una disparidad en la intervención de este órgano en la aprobación y en la denuncia o retiro del tratado, respectivam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ublicidad de hechos relativos a tratados. </a:t>
            </a:r>
            <a:br>
              <a:rPr sz="2200"/>
            </a:br>
            <a:br>
              <a:rPr sz="2200"/>
            </a:br>
            <a:r>
              <a:rPr b="0" lang="es-ES" sz="2200" spc="-1" strike="noStrike">
                <a:solidFill>
                  <a:srgbClr val="000000"/>
                </a:solidFill>
                <a:latin typeface="Calibri"/>
              </a:rPr>
              <a:t>Esta modificación salva la falta de certeza  ya que se dispone que &lt;&lt;de conformidad a lo establecido en la ley, deberá darse debida publicidad a hechos que digan relación con el tratado internacional, tales como su entrada en vigor, la formulación y retiro de reservas, las declaraciones interpretativas, las objeciones a una reserva y su retiro, la denuncia del tratado, el retiro, la suspensión, la terminación y la nulidad del mismo&gt;&gt; </a:t>
            </a:r>
            <a:br>
              <a:rPr sz="2200"/>
            </a:br>
            <a:r>
              <a:rPr b="0" lang="es-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disposición interesante, si se considera que son distintos los tiempos y procedimientos que marcan la entrada en vigor de un tratado en el plano internacional y en el plano interno, respectivamente. </a:t>
            </a:r>
            <a:br>
              <a:rPr sz="2200"/>
            </a:br>
            <a:r>
              <a:rPr b="0" lang="es-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la plena aplicabilidad de esta disposición queda supeditada a la dictación de la ley simple que regulará en detalle lo dispuesto por la reforma constitucional. </a:t>
            </a:r>
            <a:br>
              <a:rPr sz="2200"/>
            </a:br>
            <a:br>
              <a:rPr sz="2200"/>
            </a:br>
            <a:r>
              <a:rPr b="0" lang="es-E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ontrol preventivo obligatorio de constitucionalidad de los tratados internacionales. </a:t>
            </a:r>
            <a:br>
              <a:rPr sz="2700"/>
            </a:br>
            <a:br>
              <a:rPr sz="2700"/>
            </a:br>
            <a:r>
              <a:rPr b="0" lang="es-ES" sz="2700" spc="-1" strike="noStrike">
                <a:solidFill>
                  <a:srgbClr val="000000"/>
                </a:solidFill>
                <a:latin typeface="Calibri"/>
              </a:rPr>
              <a:t>La reforma incorpora el control preventivo obligatorio de la constitucionalidad de los tratados internacionales que versen sobre materias de ley orgánica constitucional (Art. 82 No 1). </a:t>
            </a:r>
            <a:br>
              <a:rPr sz="2700"/>
            </a:br>
            <a:br>
              <a:rPr sz="2700"/>
            </a:br>
            <a:r>
              <a:rPr b="0" lang="es-ES" sz="2700" spc="-1" strike="noStrike">
                <a:solidFill>
                  <a:srgbClr val="000000"/>
                </a:solidFill>
                <a:latin typeface="Calibri"/>
              </a:rPr>
              <a:t>Esta modificación es coherente con la que se introduce al Art. 50 No 1 en materia de quórum de aprobación de los tratados y deja a salvo la posibilidad de que tratándose de tratados que no versen sobre materias de ley orgánica constitucional pueda deducirse --- una &lt;&lt;cuestión de constitucionalidad&gt;&gt; (Art. 82 No 2 que pasa a ser No 3 con la reforma), mientras el tratado se encuentra sometido a la aprobación del Congreso, como lo  precisa el Tribunal Constituciona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doctrina ha admitido la viabilidad del control preventivo de constitucionalidad de los tratados internacionales por dos razones: a) preservar la supremacía constitucional y b) evitar la impugnación de los tratados una vez comprometida la voluntad del Estado, lo que puede implicar su responsabilidad internacio</a:t>
            </a:r>
            <a:r>
              <a:rPr b="0" i="1" lang="es-ES" sz="3200" spc="-1" strike="noStrike">
                <a:solidFill>
                  <a:srgbClr val="000000"/>
                </a:solidFill>
                <a:latin typeface="Calibri"/>
              </a:rPr>
              <a:t>nal según  Art. 27 de la Convención de Viena, tal como lo hizo  presente el Tribunal </a:t>
            </a:r>
            <a:r>
              <a:rPr b="0" lang="es-ES" sz="3200" spc="-1" strike="noStrike">
                <a:solidFill>
                  <a:srgbClr val="000000"/>
                </a:solidFill>
                <a:latin typeface="Calibri"/>
              </a:rPr>
              <a:t>Constitucion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l referido control preventivo apunta, por un lado, a evitar que el Estado se comprometa internacionalmente en forma incompatible con su Constitución y, por otro, a posibilitar la reforma constitucional previa que permita la ratificación del tra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ENDIENTE</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ontemplar alguna disposición constitucional similar a las que existen en el derecho comparado, según las cuales la celebración de un tratado internacional incompatible con la Constitución exigirá previa reforma de est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La conclusión del Tribunal Constitucional, al examinar la constitucionalidad del Tratado de Roma --que dio origen a la Corte Penal Internacional– fue la de efectuar una reforma constitucional previa que permitiese ratificar el tratado, la que hasta la fecha se encuentra pendiente. </a:t>
            </a:r>
            <a:br>
              <a:rPr sz="2700"/>
            </a:br>
            <a:r>
              <a:rPr b="0" lang="es-E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clarar el tema del rango normativo de los tratados internacionales sobre derechos humanos que ya ha sido zanjado por la mayoría de las Constituciones de última generación (Argentina (Art. 75 No 22), Colombia (Art. 93), Ecuador (Art. 163) y Guatemala (Art. 46). </a:t>
            </a:r>
            <a:br>
              <a:rPr sz="3200"/>
            </a:b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8"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17 de Agosto de 2005, se dio término a la tramitación parlamentaria de la reforma constitucional examen de la reforma constitucional del 2005, en materia de tratados internacionales  normativa original de la Constitución de 1980 . </a:t>
            </a:r>
            <a:br>
              <a:rPr sz="2200"/>
            </a:br>
            <a:br>
              <a:rPr sz="2200"/>
            </a:br>
            <a:r>
              <a:rPr b="0" lang="es-ES" sz="2200" spc="-1" strike="noStrike">
                <a:solidFill>
                  <a:srgbClr val="000000"/>
                </a:solidFill>
                <a:latin typeface="Calibri"/>
              </a:rPr>
              <a:t> texto Constitución de 1980 respecto de los tratados internacionales </a:t>
            </a:r>
            <a:br>
              <a:rPr sz="2200"/>
            </a:br>
            <a:r>
              <a:rPr b="0" lang="es-ES" sz="2200" spc="-1" strike="noStrike">
                <a:solidFill>
                  <a:srgbClr val="000000"/>
                </a:solidFill>
                <a:latin typeface="Calibri"/>
              </a:rPr>
              <a:t>un tratado internacional es &lt;&lt;un acuerdo internacional celebrado por escrito entre Estados y regido por el derecho internacional, ya conste en un instrumento único o en dos o más instrumentos conexos y cualquiera que sea su denominación particular&gt;&gt; (3), el texto original de la Constitución Política, disponía: </a:t>
            </a:r>
            <a:br>
              <a:rPr sz="2200"/>
            </a:br>
            <a:br>
              <a:rPr sz="2200"/>
            </a:br>
            <a:r>
              <a:rPr b="0" lang="es-ES" sz="2200" spc="-1" strike="noStrike">
                <a:solidFill>
                  <a:srgbClr val="000000"/>
                </a:solidFill>
                <a:latin typeface="Calibri"/>
              </a:rPr>
              <a:t>1. La obligación de todos los órganos del Estado de respetar y promover los derechos esenciales de la persona consagrados tanto en la Constitución Política como en los tratados internacionales ratificados por Chile y que se encuentren vigentes (Art. 50 inciso 20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Modificaciones  a la normativa constitucional tratados internacionales: </a:t>
            </a:r>
            <a:br>
              <a:rPr sz="2500"/>
            </a:br>
            <a:br>
              <a:rPr sz="2500"/>
            </a:br>
            <a:r>
              <a:rPr b="0" lang="es-ES" sz="2500" spc="-1" strike="noStrike">
                <a:solidFill>
                  <a:srgbClr val="000000"/>
                </a:solidFill>
                <a:latin typeface="Calibri"/>
              </a:rPr>
              <a:t>1. La reforma: la aprobación de un tratado requerirá, en cada Cámara, de los quórum que corresponda, de conformidad con el Art. 63 de la Constitución y que se someterá, en lo pertinente, a los trámites de una ley (Art. 50 No 1 inciso 10).</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disposición transitoria, se declara que los tratados aprobados por el Congreso con anterioridad a la entrada en vigor de la reforma que versen sobre ese tipo de materias, han cumplido el respectivo requisito de quórum, tal como lo precisó el veto presidencial (Disp. Trans. 44a). </a:t>
            </a:r>
            <a:br>
              <a:rPr sz="2500"/>
            </a:br>
            <a:r>
              <a:rPr b="0" lang="es-ES" sz="2500" spc="-1" strike="noStrike">
                <a:solidFill>
                  <a:srgbClr val="000000"/>
                </a:solidFill>
                <a:latin typeface="Calibri"/>
              </a:rPr>
              <a:t> en esta materia  </a:t>
            </a:r>
            <a:br>
              <a:rPr sz="2500"/>
            </a:br>
            <a:r>
              <a:rPr b="0" lang="es-ES" sz="2500" spc="-1" strike="noStrike">
                <a:solidFill>
                  <a:srgbClr val="000000"/>
                </a:solidFill>
                <a:latin typeface="Calibri"/>
              </a:rPr>
              <a:t>distinguir entre los diversos órdenes de materias contenidos en un tratado internacional para aprobarlas de conformidad con los quórum que la Constitución Política exige en cada caso.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E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forma  preciso que &lt;&lt;en lo pertinente&gt;&gt; los tratados se someterán a los trámites de una ley, hay formalidades aplicables al proceso de formación de estas que no caben respecto de los tratado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omo ocurre con la formación de comisiones mixtas, el régimen de insistencias y los vetos</a:t>
            </a:r>
            <a:br>
              <a:rPr sz="3200"/>
            </a:b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0" y="285840"/>
            <a:ext cx="9144000" cy="65721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Se incorporan disposiciones referidas a reservas: </a:t>
            </a:r>
            <a:br>
              <a:rPr sz="1500"/>
            </a:br>
            <a:br>
              <a:rPr sz="1500"/>
            </a:br>
            <a:r>
              <a:rPr b="0" lang="es-ES" sz="1500" spc="-1" strike="noStrike">
                <a:solidFill>
                  <a:srgbClr val="000000"/>
                </a:solidFill>
                <a:latin typeface="Calibri"/>
              </a:rPr>
              <a:t>De conformidad con la Convención de Viena sobre el Derecho de los Tratados, de 1969, una reserva es &lt;&lt;una declaración unilateral, cualquiera que sea su enunciado o denominación, hecha por un Estado al firmar, ratificar, aceptar o aprobar un tratado o al adherirse a él, con objeto de excluir o modificar los efectos jurídicos de ciertas disposiciones del tratado en su aplicación a ese Estado&gt;&gt; (Art. 2.1 letra d)). </a:t>
            </a:r>
            <a:br>
              <a:rPr sz="1500"/>
            </a:br>
            <a:br>
              <a:rPr sz="1500"/>
            </a:br>
            <a:r>
              <a:rPr b="0" lang="es-ES" sz="1500" spc="-1" strike="noStrike">
                <a:solidFill>
                  <a:srgbClr val="000000"/>
                </a:solidFill>
                <a:latin typeface="Calibri"/>
              </a:rPr>
              <a:t>Las modificaciones introducidas por la reforma e son las siguientes: </a:t>
            </a:r>
            <a:br>
              <a:rPr sz="1500"/>
            </a:br>
            <a:br>
              <a:rPr sz="1500"/>
            </a:br>
            <a:r>
              <a:rPr b="0" lang="es-ES" sz="1500" spc="-1" strike="noStrike">
                <a:solidFill>
                  <a:srgbClr val="000000"/>
                </a:solidFill>
                <a:latin typeface="Calibri"/>
              </a:rPr>
              <a:t>a) El presidente debe informar al Congreso sobre el contenido y alcances del tratado, así como de las reservas que pretenda confirmar o formularle (Art. 50 No inciso 20). </a:t>
            </a:r>
            <a:br>
              <a:rPr sz="1500"/>
            </a:br>
            <a:br>
              <a:rPr sz="1500"/>
            </a:br>
            <a:r>
              <a:rPr b="0" lang="es-ES" sz="1500" spc="-1" strike="noStrike">
                <a:solidFill>
                  <a:srgbClr val="000000"/>
                </a:solidFill>
                <a:latin typeface="Calibri"/>
              </a:rPr>
              <a:t>b) Se faculta al Congreso para sugerir la formulación de reservas y declaraciones interpretativas a un tratado internacional en el curso del trámite de su aprobación, siempre que ellas procedan de conformidad con lo previsto en el propio tratado o en las normas generales de derecho internacional (Art. 50 No 1 inciso 30). </a:t>
            </a:r>
            <a:br>
              <a:rPr sz="1500"/>
            </a:br>
            <a:br>
              <a:rPr sz="1500"/>
            </a:br>
            <a:r>
              <a:rPr b="0" lang="es-ES" sz="1500" spc="-1" strike="noStrike">
                <a:solidFill>
                  <a:srgbClr val="000000"/>
                </a:solidFill>
                <a:latin typeface="Calibri"/>
              </a:rPr>
              <a:t>c) El retiro de una reserva que haya formulado el presidente de la República y que tuvo en consideración el Congreso Nacional al momento de aprobar el tratado requerirá previo acuerdo de este, de conformidad con lo establecido en la ley orgánica constitucional respectiva. Para estos efectos, el Congreso dispone de un plazo de 30 días para pronunciarse, al cabo del cual, si no hay pronunciamiento, se entenderá aprobado el retiro de la reserva (Art. 50 No 1 inciso 80). </a:t>
            </a:r>
            <a:br>
              <a:rPr sz="1500"/>
            </a:br>
            <a:br>
              <a:rPr sz="1500"/>
            </a:br>
            <a:r>
              <a:rPr b="0" lang="es-ES" sz="1500" spc="-1" strike="noStrike">
                <a:solidFill>
                  <a:srgbClr val="000000"/>
                </a:solidFill>
                <a:latin typeface="Calibri"/>
              </a:rPr>
              <a:t>Es sabido que la participación del Congreso en la dinámica de las reservas a un tratado enfrenta dos tipos de posiciones: a) La aristocrática, identificada con la libertad absoluta del Gobierno en este sentido y b) la democrática, que posibilita la participación de las Cámaras legislativas (28). El Reglamento del Congreso Español, por ejemplo, se inclina por esta última posición. </a:t>
            </a:r>
            <a:br>
              <a:rPr sz="1500"/>
            </a:br>
            <a:r>
              <a:rPr b="0" lang="es-ES" sz="1500" spc="-1" strike="noStrike">
                <a:solidFill>
                  <a:srgbClr val="000000"/>
                </a:solidFill>
                <a:latin typeface="Calibri"/>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mantienen casi inalteradas las fuertes facultades presidenciales en esta materia y solo se faculta al Congreso para entregar su acuerdo sobre el retiro de reservas que haya tenido en consideración al aprobar el tra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3. Celebración de tratados en el solo ejercicio de la potestad reglamentaria del presidente de la República. </a:t>
            </a:r>
            <a:br>
              <a:rPr sz="2700"/>
            </a:br>
            <a:br>
              <a:rPr sz="2700"/>
            </a:br>
            <a:r>
              <a:rPr b="0" lang="es-ES" sz="2700" spc="-1" strike="noStrike">
                <a:solidFill>
                  <a:srgbClr val="000000"/>
                </a:solidFill>
                <a:latin typeface="Calibri"/>
              </a:rPr>
              <a:t>En esta materia, la reforma mantiene la frase según la cual &lt;&lt;las medidas que el Presidente de la República adopte o los acuerdos que celebre para el cumplimiento de un tratado en vigor, no requerirán de nueva aprobación del Congreso, a menos que se trate de materias propias de leyes&gt;&gt;.  agrega: &lt;&lt;No requerirán de aprobación del Congreso los tratados celebrados por el Presidente de la República en el ejercicio de su potestad reglamentaria&gt;&gt; </a:t>
            </a:r>
            <a:br>
              <a:rPr sz="2700"/>
            </a:br>
            <a:r>
              <a:rPr b="0" lang="es-E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428760"/>
            <a:ext cx="8229600" cy="5697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s-ES" sz="3000" spc="-1" strike="noStrike">
                <a:solidFill>
                  <a:srgbClr val="000000"/>
                </a:solidFill>
                <a:latin typeface="Calibri"/>
              </a:rPr>
              <a:t>Se diferencia esta situación de la de aquellos tratados celebrados en ejecución de una ley o de un tratado anterior. Sobre aquellos tratados que no tengan por referencia una ley o un tratado anterior,  ha habido discrepancias entre la Cancillería y la Contraloría General de la República que estima que sí requieren aprobación del Congreso aun cuado se trate de materias de orden administrativo (aduaneras, tributarias o de transporte) que favorecen una administración más eficiente y expedit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uáles son las materias internacionales que solo deben ser reguladas a través de la potestad reglamentaria del presidente sin pasar por la aprobación del Congre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03:26:10Z</dcterms:created>
  <dc:creator>Gilda</dc:creator>
  <dc:description/>
  <dc:language>en-US</dc:language>
  <cp:lastModifiedBy>Gilda</cp:lastModifiedBy>
  <dcterms:modified xsi:type="dcterms:W3CDTF">2008-07-01T19:33:58Z</dcterms:modified>
  <cp:revision>23</cp:revision>
  <dc:subject/>
  <dc:title>Diapositiva 1</dc:title>
</cp:coreProperties>
</file>