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89C-697E-469E-9253-D3380395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452-8303-4C6E-9084-538AA9BD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BA6-3936-4498-9081-5B0E702D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99D-AD16-47D2-8592-22E540A0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8DED-B4BA-45DC-BBF4-EEA0BB8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07BA-AB20-4E2C-8ED9-0BC8EDDC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F296-CF37-44CD-9B0A-D226E99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B50-9B30-4E78-890C-44AECDC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265F-6321-4644-AD98-80FA2E6F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286C-5CA4-4F10-BEF0-0C1F6455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7C54-91C0-479C-BD8B-5F689C5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2CF-C741-4583-BB3D-04F212AE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F36-1A32-44A5-A600-EA63F82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F54E-9948-4566-BCFB-5BA0B9E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88CF-289A-462E-949F-313863EA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BA5E-4E18-4B5D-B7DB-329709DB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A17E-69F5-489B-A5FA-C294DE50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770-3D2D-4D4C-A4C4-5CCBDCC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B35-4166-4A3E-8412-B36A245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5B1-3E9F-484E-AF65-00F5037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5A3-181E-4B8D-92A3-89F7635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64A-D7C2-48E2-BE21-059187A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417-41E0-4A1A-8EA3-70F8D6E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EF5-83B7-4510-8BE7-3AD0313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AB2-CEE8-4045-BA6A-23B5AD2060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083-C269-4F46-93D9-2826FF7E5C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</cp:lastModifiedBy>
  <dcterms:modified xsi:type="dcterms:W3CDTF">2008-07-01T19:33:15Z</dcterms:modified>
  <cp:revision>47</cp:revision>
  <dc:subject/>
  <dc:title>  MEDIOS AUXILIARES PARA LA DETERMINACION DE LAS REGLAS DE DERECHO INTERNACIONAL </dc:title>
</cp:coreProperties>
</file>