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A7E5-23DA-452A-996A-AE1F2362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E61-0821-4D1A-8BC6-7A885C91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B82-772B-4798-899A-5B77CFBF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61A-0F9E-45CB-9CF5-0DAA0E24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B490-BEE9-4368-AF1B-1143A1D8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B33F-DEDE-4FEE-8F98-8DDE3E14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7D60-AB6B-4854-A695-9D35AF89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4CAA-6E42-46D9-9478-7322E3D0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643C-4334-441F-97B9-D73DA3A8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3B8D-8739-4B91-B892-9223BA2E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CE7F-CB0D-4F8B-A7D7-EAB1C2A0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B780-B2D0-48BE-A625-6301A3E1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8E72-708C-49D8-852A-6170BC2A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2FED-A784-40BA-8C78-10BFA5CF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DE8C-9FFC-4985-8461-5AB51BEE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91E8-F17F-429A-A54B-791BCAA8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382E-0884-4918-80E5-0AFF7165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3E9-2321-4A42-B0D8-F1611C01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037-D80D-46C5-9B70-514B9B84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47E3-972C-45A5-85FA-53CE9981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859-2499-4280-BC04-CBC72AAA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9B72-5644-480D-BD38-02137579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C1A1-E2D6-4356-88C2-6AED0408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53A2-DA6C-404B-86E0-0BB7F8D2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AEAA-D7F0-45A2-91A2-1349C85C555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1C34-6790-4478-BD0C-3C64251AC56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233280"/>
            <a:ext cx="77724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 </a:t>
            </a:r>
            <a:br>
              <a:rPr sz="4400"/>
            </a:br>
            <a:r>
              <a:rPr b="0" lang="es-ES_tradnl" sz="3200" spc="-1" strike="noStrike">
                <a:solidFill>
                  <a:srgbClr val="ccffff"/>
                </a:solidFill>
                <a:latin typeface="Arial Black"/>
              </a:rPr>
              <a:t>MEDIOS AUXILIARES PARA LA DETERMINACION DE LAS REGLAS DE DERECHO INTERNACIONAL</a:t>
            </a:r>
            <a:r>
              <a:rPr b="0" lang="es-E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Profesor Alberto Riose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Facultad de Derecho Universidad de Chil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Derecho Internacional Publi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7621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 Opinion Consultiva respecto de la Convencion sobre el genocidio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que establecio el principi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que solo procedi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reserva siempre que hubiere conformidad con el objeto y fin del trata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 DOCTRIN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norma del art,38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refiere a la doctrin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los publicista de mayor competenc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refiriéndose solo a individuo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pero hoy tiene especial importancia la  opinión de Asociaciones y Sociedades  especializadas en Derecho Internacional, com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l Institut de Droit International,la International Law Association,el Instituto Hispano Luso Americano de Derecho Internacional. 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Por otra parte , organizaciones internacioinales han creado organos consultivos, como en la ONU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Comision de Derecho Internacional, :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n la OEA, el Comite Juridico Interamericano. En el Consejo de Europa, el Comite Europeo de Cooperacion juridica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Tiene menor importancia que la Jurisprudencia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Sin embargo  la doctrina fue fundamental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n el desarrollo del Derecho de Gentes .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Y posteriormente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n los siglos XVIII y. , XIX, en que se citaba  frecuentemente en las sentencias arbítrales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reemos que la doctrina 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n la actualidad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ntribuye a determinar la existencia de la norma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analizarl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sistematizarla y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formular recomendaciones destinadas a mejorarl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l art.38 del Estatuto de la C.I.J.,parrafo 1,letra d) establece como medios auxiliares para determinar las normas de Derecho Internacional:  "las decisiones judiciales y las doctrinas de los poblicistas de mayor competencia 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"las decisiones judiciales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s doctrinas de los publicistas de mayor compet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  JURISPRUDENCIA.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s el conjunto de reglas jurídica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que se  desprenden d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s decisiones judiciales" (Pastor Ridruejo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No es propiamente una fuente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in embargo  tiene un papel fundamental  para demostrar la existencia de una norma, determinar su alcance y aclarar su conteni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demas la jurisprudencia cumple un papel muy importante en la formación y prueba de una norma consuetudinar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os fallos,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tanto judiciale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mo arbítrales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refieren con frecu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la jurisprudencia constant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las sentencias de la C I J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le dio un valor relativo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mo lo dice el  art, 38 del Estatuto: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decisión de la Cort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no es obligatoria sino para las partes en litigio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respecto del caso que ha sido decidido"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No se siguió el principio de "·stare decisis" de los paises del Common Law,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según el cual los fallos de los Tribunales Superiores constituyen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un precedente que tiene el valor de fuente de derech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Numerosos principios y normas de derecho internacional han recibido su consagración con motivo de fallos  judiciale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jemplos: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aso de las Pesquerías Anglo Noruegas, que estableció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l principio de las líneas de base rectas para medir la anchura del mar territorial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aso Nottebon que formulo el principio de la necesidad de un vinculo real y efectivo de nacionalidad como base para hacer efectiva la proteccion diplomatica.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21:22:34Z</dcterms:created>
  <dc:creator>profesmp</dc:creator>
  <dc:description/>
  <dc:language>en-US</dc:language>
  <cp:lastModifiedBy>Gilda</cp:lastModifiedBy>
  <dcterms:modified xsi:type="dcterms:W3CDTF">2008-07-01T19:33:15Z</dcterms:modified>
  <cp:revision>47</cp:revision>
  <dc:subject/>
  <dc:title>  MEDIOS AUXILIARES PARA LA DETERMINACION DE LAS REGLAS DE DERECHO INTERNACIONAL </dc:title>
</cp:coreProperties>
</file>