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814-B11A-46AF-9E7B-DC647C4A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C2F-99DC-4DDB-B6AD-161FD79F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1BA-F776-4229-8B16-EF161D7C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BD0-1A58-4D20-972D-254EA408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AF4A-8847-4135-A5A6-8CA632E1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8D45-7E96-49B2-B4F6-1B57305B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D2B8-09D2-4632-A791-ED5D65EA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7A4E-708D-4A45-A1A3-72752A92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55A1-FD82-45BA-9923-014B1AC5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00D1-6EE5-4911-99F8-11BEE0E3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E3C4-F6AE-482A-8A98-360EBE8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2C7-FBDF-4F05-8D2A-0724371D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77AA-20E1-48E6-993D-FA24885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A44C-A998-49FF-91E7-CF1165CE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4E7-F4F7-4257-A73D-FFEDBA7A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596D-299D-4BCF-8AEE-319A7FD2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0797-103A-4B6B-B5BF-8F4C25AA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AD1-D8B3-4015-8572-E73F1828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96D-FD40-436A-A46F-6612AF53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C87-F827-40B0-B7B5-F6CD0612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767-0371-435B-8633-7EC0D17B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761-D391-4929-87E6-04B594DF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ACF-F42C-422B-9A08-4342ED67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1D3-1166-4679-A4B7-26A4619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E199-B019-4941-AA18-D8358D56B7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A527-3737-428F-BBD5-3201FF093D0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</cp:lastModifiedBy>
  <dcterms:modified xsi:type="dcterms:W3CDTF">2008-07-01T19:33:15Z</dcterms:modified>
  <cp:revision>47</cp:revision>
  <dc:subject/>
  <dc:title>  MEDIOS AUXILIARES PARA LA DETERMINACION DE LAS REGLAS DE DERECHO INTERNACIONAL </dc:title>
</cp:coreProperties>
</file>