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2E042-8B0B-45A5-9E33-C04B68E21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E8FE9-AC92-4F0A-BD22-14EC9456B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46FF1-7B07-494C-85FC-C046B2D27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023EE-19B7-4BCD-B893-08CEDB70E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BFF79-C500-4691-B814-AA1FE2822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95BA1-E071-427C-AA8F-239995870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BCD3A-CEED-40BA-8387-CAD8200FF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E4C10-610C-4FE0-9C90-8B4DE21CB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EADBD-6A18-4E67-9756-DD052866E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0CBAF-6CAD-447D-A96A-2E3D3DBA2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E4930-1A91-46E8-9D33-A7EB7ECA7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CB750-869F-4316-AF71-F1BDF5392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7D27-6228-4A01-8D96-BF79DFEBE00F}"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incipios convención Viena derecho de los tratado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Calibri"/>
                <a:ea typeface="Times New Roman"/>
              </a:rPr>
              <a:t>-Aguas interiores</a:t>
            </a:r>
            <a:r>
              <a:rPr b="0" lang="en-GB" sz="3000" spc="-1" strike="noStrike">
                <a:solidFill>
                  <a:srgbClr val="000000"/>
                </a:solidFill>
                <a:latin typeface="Calibri"/>
                <a:ea typeface="Times New Roman"/>
              </a:rPr>
              <a:t> : </a:t>
            </a:r>
            <a:endParaRPr b="0" lang="en-US" sz="3000" spc="-1" strike="noStrike">
              <a:solidFill>
                <a:srgbClr val="000000"/>
              </a:solidFill>
              <a:latin typeface="Calibri"/>
            </a:endParaRPr>
          </a:p>
          <a:p>
            <a:pPr marL="343080" indent="-343080" algn="just">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Son aquellos espacios maritimos situados íntegramente dentro del territorio de un Estado, ( lagos, mares, ríos, bahías, puertos, radas, canales, etc ) navegables o no en donde el Estado ejerce su plena soberanía, con el mismo alcance que la ejerce sobre el espacio terrestre. Estas aguas interiores son las situadas entre la línea de base del mar territorial y el territorio de ese Estado ( Art. 5.1 Convenio de Ginebra de 1958 y Art.. 8.1 , Convenio de Montego Bay 1982 ). </a:t>
            </a:r>
            <a:endParaRPr b="0" lang="en-US" sz="30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ea typeface="Times New Roman"/>
              </a:rPr>
              <a:t>Mar territorial</a:t>
            </a:r>
            <a:r>
              <a:rPr b="0" lang="en-GB" sz="3200" spc="-1" strike="noStrike">
                <a:solidFill>
                  <a:srgbClr val="000000"/>
                </a:solidFill>
                <a:latin typeface="Calibri"/>
                <a:ea typeface="Times New Roman"/>
              </a:rPr>
              <a:t>: </a:t>
            </a:r>
            <a:endParaRPr b="0" lang="en-US" sz="32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zona de mar adyacente a las costas de un Estado, sobre el cual este ejerce su soberanía.  </a:t>
            </a:r>
            <a:endParaRPr b="0" lang="en-US" sz="32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países fueron aceptando en el campo internacional que el máximo de extensión debía ser de doce millas marin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ea typeface="Times New Roman"/>
              </a:rPr>
              <a:t>-Zona Contigua:</a:t>
            </a:r>
            <a:r>
              <a:rPr b="0" lang="en-GB" sz="2700" spc="-1" strike="noStrike">
                <a:solidFill>
                  <a:srgbClr val="000000"/>
                </a:solidFill>
                <a:latin typeface="Calibri"/>
                <a:ea typeface="Times New Roman"/>
              </a:rPr>
              <a:t> </a:t>
            </a:r>
            <a:endParaRPr b="0" lang="en-US" sz="27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        </a:t>
            </a:r>
            <a:endParaRPr b="0" lang="en-US" sz="27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   </a:t>
            </a:r>
            <a:r>
              <a:rPr b="0" lang="en-GB" sz="2700" spc="-1" strike="noStrike">
                <a:solidFill>
                  <a:srgbClr val="000000"/>
                </a:solidFill>
                <a:latin typeface="Calibri"/>
                <a:ea typeface="Times New Roman"/>
              </a:rPr>
              <a:t>A partir del limite exterior del mar territorial, Estados ribereños un espacio entre ese mar y el alta mar. no podrá extenderse mas allá de 24 millas marinas contadas desde las líneas de base a partir de las cuales se mide la anchura del mar territorial.</a:t>
            </a:r>
            <a:endParaRPr b="0" lang="en-US" sz="27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Estado ribereño facultades: para prevenir y reprimir infracciones a la leyes aduaneras,</a:t>
            </a:r>
            <a:r>
              <a:rPr b="0" lang="en-GB" sz="2700" spc="-1" strike="noStrike">
                <a:solidFill>
                  <a:srgbClr val="000000"/>
                </a:solidFill>
                <a:latin typeface="Calibri"/>
              </a:rPr>
              <a:t> </a:t>
            </a:r>
            <a:r>
              <a:rPr b="0" lang="en-GB" sz="2700" spc="-1" strike="noStrike">
                <a:solidFill>
                  <a:srgbClr val="000000"/>
                </a:solidFill>
                <a:latin typeface="Calibri"/>
                <a:ea typeface="Times New Roman"/>
              </a:rPr>
              <a:t>fiscales, de inmigración y sanitarias. (facultades fiscalizadoras, corresponden a 24 millas marinas, contadas desde la línea de ba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285480"/>
            <a:ext cx="8229600" cy="584028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Calibri"/>
                <a:ea typeface="Times New Roman"/>
              </a:rPr>
              <a:t>-Zona Económica Exclusiva ( Z.E.E.)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Z.E.E. Estado ribereño derecho de soberanía para la explotación y exploración, conservación y administración de los recurso naturales, vivos o no, de las aguas suprayacentes al lecho, el lecho y el subsuelo del mar, y con respecto a otras actividades con miras a la exploración y explotación económicas de la zona, tal como la producción de energía derivada del agua, de las corrientes y de los vientos. puede ejercer su jurisdicción en cuanto al establecimiento y utilización de islas artificiales, investigación científica marina y la protección y conservación del medio marino.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857160"/>
            <a:ext cx="8229600" cy="5268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Plataforma continent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Espacio marino: Estado ribereño ejerce una soberanía funcional :en la exploración y explotación de los recursos naturales del lecho y el subsuelo del mar. anchura 200 millas desde la costa cualquiera que sea la configuración geomórfica de los fondos marinos (coincide con los fondos marinos de la zona económica exclusiva). anchura máxima puede llegar hasta un máximo de  350 millas,  medidas  desde la cost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lta Mar</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82000"/>
          </a:bodyPr>
          <a:p>
            <a:pPr marL="281160" indent="-2811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onotype Corsiva"/>
              </a:rPr>
              <a:t>Se ubica más allá de la Zona Económica Exclusiva y es de uso común para todos los países, en donde rige la igualdad entre todos ellos. Tal uso abarca libertades tales como de navegación, sobrevuelo y pesca. No obstante tales usos debe corresponder a fines exclusivamente pacíficos y enmarcarse dentro de las normas que la comunidad internacional ha acordado para ello, sea para la proteger a las especies que allí habitan o para preservarlo libre de contaminación.</a:t>
            </a:r>
            <a:endParaRPr b="0" lang="en-US" sz="3200" spc="-1" strike="noStrike">
              <a:solidFill>
                <a:srgbClr val="000000"/>
              </a:solidFill>
              <a:latin typeface="Calibri"/>
            </a:endParaRPr>
          </a:p>
          <a:p>
            <a:pPr marL="281160" indent="-2811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356760"/>
            <a:ext cx="8229600" cy="576900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La  Zona:</a:t>
            </a:r>
            <a:endParaRPr b="0" lang="en-US" sz="27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  </a:t>
            </a:r>
            <a:r>
              <a:rPr b="0" lang="en-GB" sz="2700" spc="-1" strike="noStrike">
                <a:solidFill>
                  <a:srgbClr val="000000"/>
                </a:solidFill>
                <a:latin typeface="Calibri"/>
                <a:ea typeface="Times New Roman"/>
              </a:rPr>
              <a:t>lugar mas allá de la jurisdicción de todos Estados, es patrimonio de toda la humanidad, no podrá ser objeto de apropiación por medio de ningún Estado, ni de personas naturales o jurídicas</a:t>
            </a:r>
            <a:endParaRPr b="0" lang="en-US" sz="27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ea typeface="Times New Roman"/>
              </a:rPr>
              <a:t>La zona estará abierta a la exclusiva utilización de medios pacíficos por todos los Estados, ya sea de piases  ribereños, o sin litoral; sin discriminación</a:t>
            </a:r>
            <a:endParaRPr b="0" lang="en-US" sz="27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ea typeface="Times New Roman"/>
              </a:rPr>
              <a:t>Las partes en toda controversia  relacionada con loas actividades de la Zona y sus recursos, resolverán  dicha controversia  por los  medios del articulo 33 de la Carta de las Naciones Unidas y por los procedimientos  de arreglo de controversias que pueden convenirse en el régimen internaciona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onotype Corsiva"/>
              </a:rPr>
              <a:t>MAR PRESENCI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87000"/>
          </a:bodyPr>
          <a:p>
            <a:pPr marL="298440" indent="-298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Monotype Corsiva"/>
              </a:rPr>
              <a:t>Es un enorme espacio marítimo de forma triangular trazado entre isla de Pascua, el polo sur y el norte del país. Este espacio es de especial interés para Chile, por las actividades científicas y económicas que pueden desarrollarse allí y que benefician a la población y a la seguridad del país. Se propone con ello realizar en conjunto con otras naciones, actividades que contribuyan al desarrollo. Al mismo tiempo, Chile se ha comprometido a contribuir en ese espacio en diferentes aspectos, tales como la seguridad de la vida en el mar, la búsqueda y salvamento marítimo, el control naval, entre otros. </a:t>
            </a:r>
            <a:endParaRPr b="0" lang="en-US" sz="3000" spc="-1" strike="noStrike">
              <a:solidFill>
                <a:srgbClr val="000000"/>
              </a:solidFill>
              <a:latin typeface="Calibri"/>
            </a:endParaRPr>
          </a:p>
          <a:p>
            <a:pPr marL="298440" indent="-298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500040"/>
            <a:ext cx="8229600" cy="562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RINCIPIO </a:t>
            </a:r>
            <a:r>
              <a:rPr b="0" i="1" lang="es-ES" sz="3200" spc="-1" strike="noStrike">
                <a:solidFill>
                  <a:srgbClr val="000000"/>
                </a:solidFill>
                <a:latin typeface="Calibri"/>
              </a:rPr>
              <a:t>"PACTA SUNT SERVANDA".-</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 origen consuetudinario,  Convención de Viena 1969 en su Art. 26, afirma la obligatoriedad de los tratados, respecto a las partes,  necesidad de su cumplimiento de acuerdo con la buena f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mposibilidad de invocar el derecho interno como excusa para no aplicar un tratado, excepto cuando esa violación es manifiesta y se refiere a normas fundamentales, entre las que deberían de incluirse, en primer lugar, las de orden constitu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rt 26 pacta sunt servand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umplimiento de buena fe de un tratado vige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os aspect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1.- incorporar el tratado al orden inter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Velasco Leteli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tillo Velasc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713880"/>
            <a:ext cx="8229600" cy="5411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2.- Dictar la legislación respectiva para complementar el tratad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distingu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tratados autosuficientes que no requieren normativa interna. Se incorpora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tratados no autosuficientes. Requieren normativa interna para ser posteriormente incorporados en el derecho intern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no dictación de legislación respectiva implica responsabilidad internacional d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rt 27</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invocar disposición de derecho interno para no cumplir con un tra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un tema de responsabilidad  internacional.Ningun estado puede invocar su derecho interno para no cumplir un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rt. 28</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rretroactividad de los tratados en gen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tratados se aplican desde su entrada en vigen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lvo que las partes acuerden lo contr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art 4° de la Convención de Viena establece la irretroactividad de la Conven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rt. 29</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plicación espacial de los trat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n tratado se aplica en la totalidad del territorio de un Es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lvo que las partes acuerden una aplicación distin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j. Un tratado cuyo ámbito de aplicación es Alta Mar o la Zona económica Exclusiv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Territorio del Estado</a:t>
            </a:r>
            <a:endParaRPr b="0" lang="en-US" sz="4400" spc="-1" strike="noStrike">
              <a:solidFill>
                <a:srgbClr val="000000"/>
              </a:solidFill>
              <a:latin typeface="Calibri"/>
            </a:endParaRPr>
          </a:p>
        </p:txBody>
      </p:sp>
      <p:sp>
        <p:nvSpPr>
          <p:cNvPr id="58" name=""/>
          <p:cNvSpPr txBox="1"/>
          <p:nvPr/>
        </p:nvSpPr>
        <p:spPr>
          <a:xfrm>
            <a:off x="457200" y="1213920"/>
            <a:ext cx="8229600" cy="5286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omprend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el  territorio terrest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el espacio marítim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1.- aguas interior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2.- mar territori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3.- zona económica exclusiv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4.- zona contigu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5.- plataforma continental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6.- alta m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7.- fondos marinos u oceánicos situados mas alla de la jurisdicción nacion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Y el espacio aéreo situado sobre el territorio terrestre y el mar territori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4:00:31Z</dcterms:created>
  <dc:creator>Gilda</dc:creator>
  <dc:description/>
  <dc:language>en-US</dc:language>
  <cp:lastModifiedBy>Gilda</cp:lastModifiedBy>
  <dcterms:modified xsi:type="dcterms:W3CDTF">2008-07-01T19:58:03Z</dcterms:modified>
  <cp:revision>23</cp:revision>
  <dc:subject/>
  <dc:title>Principios convención Viena derecho de los tratados</dc:title>
</cp:coreProperties>
</file>