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875-FB01-431B-AF37-E3F46E91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527-E909-4AD4-8EFB-B317365D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F743-1A0D-46F0-A4D5-96EFB7D0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5D3-6CF0-4E59-A9DB-91683BAE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77E5-16B1-404F-A37A-1DF4EFCA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7181-D37D-450F-A483-9CF3DE6D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D7D9-2D32-40DE-BBAC-D7B346D5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3E2A-BF9A-4AE7-9B72-00D5B615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3FB5-0914-46E2-B51E-261A4E5D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4510-205E-4C59-8C6F-4C084F87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2498-4B4C-4919-99B1-D9B7FE79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383-E015-4572-9EBB-66AD0E9B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1109-F9BB-464E-A532-3DB25174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E3D9-214A-43CA-9DF1-5C62F1D9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8557-B000-4ED1-B326-D6C38A29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5B5D-9447-48C1-884A-64C2D96D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219D-E79A-473C-9877-9B51A3DC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C33-D1AF-4281-BCA5-D38E2954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C66-D852-4CB0-84CB-F57CBC5D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386-6DDF-4B9E-B549-33D9A439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AEC-A5F6-498F-9FFC-02BA0F62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547-24CF-4572-8E40-45E3B89B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238-AF0B-48E6-99FF-16A5FAAF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887-B5FF-4DEE-BD41-137B9AAA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9D97-0971-4FAA-90AE-1E9B53CBD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4E50-6052-4A55-8E30-496D1A3E2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ffff"/>
                </a:solidFill>
                <a:latin typeface="Times New Roman"/>
              </a:rPr>
              <a:t>FUENTES NO CONTENIDAS EN EL </a:t>
            </a:r>
            <a:br>
              <a:rPr sz="3600"/>
            </a:br>
            <a:r>
              <a:rPr b="0" lang="he-IL" sz="3600" spc="-1" strike="noStrike">
                <a:solidFill>
                  <a:srgbClr val="00ffff"/>
                </a:solidFill>
                <a:latin typeface="Times New Roman"/>
              </a:rPr>
              <a:t>ARTICULO 38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580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fesor: Alberto Rioseco 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50840" y="1447920"/>
            <a:ext cx="7712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s de Reconocimientos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La calidad de insurrectos, de beligerantes,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Nuevos estados y gobiernos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Derechos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Situaciones territoriale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Pretensión de un tercer estado sobre extensión del Mar territorial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ineas de base recta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Nacionalidad de una persona otorgada por otro estad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4.- La Protesta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1066680"/>
            <a:ext cx="7788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medio por el cual un Estado procura impedir que se forme un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umbre o un estado de cosas que le sea perjudicial, seacon referencia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situación determinada o a una pretensión de un tercer Estado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la contrapartida del reconocimiento; aquí no se admite o reconoce com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o un acto, pretención o situación.  Se evita que se estime que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encio implique reconocimiento.  Pese a ser un acto unilateral se dirig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otro sujeto de derecho internacional, que se ha hecho culpable de un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olación o amenaza contra el Estado autor  de la protest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e ser clara, frente a una situación bien determinada y pronta  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plazo razonable.  Es importante el elemento repetición la cual debe se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tas veces como sea necesari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el silencio puede dar lug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estoppel.  Asi Argentina protesta en forma continua de la ocupación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slas MALVINAS por Inglater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99072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 caso es el del templo de Preah Vigar en el cual el silencio de Siam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ailandia) respecto al trasado de la frontera Siam - Camboya hecho en u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a por oficiales franceses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icaba aceptación por parte de Siam pais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cho tratado.  En este caso no hubo reacción en un plazo considerabl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casos de protesta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el gobierno del Presidente Gonzalez Videla proclamó la doctrin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s 200 millas, hubo protestas de diversos Estados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e proclamó por Chile la linea de base recta hubo una protes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gentina.  (posteriormente por tratado de Paz y Amistad Argentina reconoció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cha linea de base rec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Gobierno de Chile protestó en Junio de 1989 por la resolución d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ralia de expulsar al Sr. Buchanan, en vez de cumplir el procedimient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dición pedido por Chil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5.- La Renuncia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523880"/>
            <a:ext cx="7864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la declaración unilateral mediante la cual un Estado abandona un derech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facultad, una pretensión u otra reclamación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ser abandono de derecho no se presume.  En el caso del lotus se dijo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limitaciones a la independencia no se presumian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n el tratado de Paz de 1951, Japón renunció a toda pretensión 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quier derecho sobre cualquier parte de la Antártic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renuncia puede ser expresa ( en términos explícitos o formales o táci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parece inequivocamente la intención de renunciar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derechos que pude renunciarse estan los territoriales, la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araciones, la reclamación por violación a inmunidad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lomáticas,etc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he-IL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OS ACTOS JURIDICOS INDIVIDUALES</a:t>
            </a:r>
            <a:r>
              <a:rPr b="1" lang="es-E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914400"/>
            <a:ext cx="78642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manifestaciones de voluntad que provienen de un solo sujeto de der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y que producen efectos en elorden internacion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ividen en: 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-Actos estatales 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Actos de organizaciones internacionales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a Jurídic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ueden ser considerados como fuentesde derecho internacional?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ecto de los actos estatales ¿en que medida y bajo que form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ir fuentes de derecho y producir efectos contra otros estados que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 participado ni consentido en elllos?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ecto de las organizaciones internacionales, su naturaleza de fuente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pende de los poderes que se les otorgaron en sus acto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tivos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CTOS JURIDICOS UNILATERALES DE LOS  ESTADOS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600200"/>
            <a:ext cx="7848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ser fuentes de derecho internacional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sito de estos actos para que se consideren autenticos acto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laterales y fuente de derecho internacion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) Que sean la manifestación de voluntad de un solo estado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) Que su validez sea independiente de otros actos juridicos,o sea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te de actos autónomos.  Si dependen de otro acto jurídico, ya no es 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derecho acto unilateral. Ejemplo:  La reserva, la adhesión, l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de aceptación de competencia de la CIJ, según el art. 36 de su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tuto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c) Que tengan en derecho significación de carácter internacional (cre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situación jurídica respecto de ese estado).  Esta situación está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da por el derecho internacional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219320"/>
            <a:ext cx="7711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 general son actos escritos como exepción se cita la declaración d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o de Relaciones Exteriores de Noruega Sr. IHLEN en el cas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enlandia oriental, por la que hizo saber al Ministro de Dinamarca que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bierno Noruego no pondria dificultades al arreglo del asunt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enlandia, de manera que no reclamaba territorios en esa Isla.  El cas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ayos nucleares en la atmósfera, tenia elementos verbales y escritos son: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La Notifi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La Promes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El Reconocimient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La Protest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La Renunci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1.- La Notificación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1295280"/>
            <a:ext cx="7788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 por el cual el estado comunica oficialmente a otro un hech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ón , una acción o un documento, que produce efecto de derecho y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á en consecuencia desde ese momento legalmente conocido por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inatario².H.L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:  La notificación que Chile hizo del Decreto que delimitaba sus lineas de base rect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:    Otorgar certeza leg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ción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) Facultativa, ejemplos:  Ruptura delas relaciones diplomáticas ;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de neutralidad, reconocimiento de estado y de gobierno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371600"/>
            <a:ext cx="7848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Obligatoria (aunque los ejemplosque van a continuación pueden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rse como no auténticos).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- Notificación de Minas submarinas- la Haya-1907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- Notificación de bloqueo;declaración de Londres -1909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- Notificación al Secretario General de la ONU sobr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jurisdicción voluntaria de la CIJ - art. 36 est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- Notificación de envío de expedición a la Antártica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ártico art..-7 - 1959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2.- La Promesa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19320"/>
            <a:ext cx="807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eclaración unilateral de voluntad por la cual un estado s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omet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adoptar un determinado comportamiento en el futuro HL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muy pocos los casos de promesas; por lo general los estados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siones espontaneas y gratuit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que tenga efecto jurídico es necesario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) Que se efectue publicamente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) Con la intención de obligarse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necesario que de dirijan a un estado determinado ni se requier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otro estado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295280"/>
            <a:ext cx="784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: 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aso de Groenlandia Oriental; el Ministro IHLEN declaró que su pais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lamaria territorio en Groenland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aso de los ensayos nucleares; el Presidente de Francia y su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os de Relaciones Exteriores declararon que su pais se ab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dri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r ensayos nucleares en la atmósfer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declaraciones oblig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 estado que las hizo en las condicione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das basadas en el principio de buena fé y en la obligación de respet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convicciones que se han hecho nacer por su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rtamiento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3.- El Reconocimiento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447920"/>
            <a:ext cx="7788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 mediante el cual se admite como legitimo un determinado estad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s o una determinada pretensión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acto discrecional; es el acto opuesto a al protest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ct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Otorga legitimidad a un acto o situación; éstos pasan a se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nibles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 lo reconoció.  Es efecto declarativo transforma una situación de h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situación jurídic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ción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) Expresa: Hecha en términos explícitos y formales(ej. not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lomática)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) Tácita:  Se desprende de actos o conductas inequivocas.  Ejemplo mantención  de agentes diplomáticos frente a un nuevo gobierno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2:27:32Z</dcterms:created>
  <dc:creator>Héctor Escobar</dc:creator>
  <dc:description/>
  <dc:language>en-US</dc:language>
  <cp:lastModifiedBy>Héctor Escobar</cp:lastModifiedBy>
  <dcterms:modified xsi:type="dcterms:W3CDTF">2004-03-29T12:30:37Z</dcterms:modified>
  <cp:revision>1</cp:revision>
  <dc:subject/>
  <dc:title>FUENTES NO CONTENIDAS EN EL  ARTICULO 38 </dc:title>
</cp:coreProperties>
</file>