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C82-250F-4E32-8247-5C7B6EFF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B26-F075-4DD1-B4EC-BFC09CD1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DF6-560B-4590-BA3C-9433A0C1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F240-98B2-426F-AD44-55EA2DCA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132C-E99F-4BF6-9DC8-2E6EB6F8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5F69-C771-4FC6-84B8-5ED17226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29D5-2B99-41DD-988D-1AB91B47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CA84-3D54-4788-B977-DFE42982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A1E1-3CDF-4AE2-9B55-713F519E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BEAB-85E3-48E5-A13A-5E9FBFD7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AEFD-ACC0-4AC1-836E-2CAF47B7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0F2-2A65-4079-9D1A-0D7BC330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E5F9-B909-4581-83D6-B5E6843F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E49F-A7B2-48E4-A00E-55135C5F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BD63-417B-470C-9849-B44272BA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753A-6197-4159-AB2B-1DF2B58A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1141-6932-4EBB-976D-36061B4A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3CE-1421-4B36-B088-772F3944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D5A-E6BF-492C-B682-56325F4C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1A2-5573-4F68-8318-F3C41425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455-B1EA-4906-9B44-4616B34F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4B4-D088-4B43-A95D-CAFE69E4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DA19-C937-47E1-947C-756F532C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355-9980-418B-B398-F78E426B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F6D5-8422-4325-BA6F-CD8A5DA29E6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123C-BE3C-46BE-9722-FB7023F71DD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8108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 Salaz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6480" y="0"/>
            <a:ext cx="77079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 SISTEM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O UNIVERS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O HISTORICO P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9720" y="409680"/>
            <a:ext cx="7875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 LOS PUEBL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PONER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M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EN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RO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23-   ENUNCIA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ÍT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ERI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CION   PACIFICA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A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ALIZACION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CESO  DESCOLONIZACIÓN  RESOLU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 E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LONIZACIÓ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7400" y="914400"/>
            <a:ext cx="78408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ORMAS QUE RIGEN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CION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RITÁNIC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EMI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NTHA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INTERNAT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”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POSITIV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UNI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TONOMI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89640" y="380880"/>
            <a:ext cx="726012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SERVADO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L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ESTAD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O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76400" y="1219320"/>
            <a:ext cx="7227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ACIONAL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 LIMIT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PAREC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AL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71000" y="712800"/>
            <a:ext cx="7705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INTERV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 LA SOLU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UENT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TINATARI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 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74960" y="0"/>
            <a:ext cx="818748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E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INI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LIDAD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EXIST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O FIJ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AMB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DEN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DEFIN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 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ONES D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ISTAS   FUNDAMENTAN  EL 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Z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 COR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G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FESTAD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ES O EN US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AGRADORES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XISTENCIA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ECUCIÓ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COINCIDE C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JURISPRUDENCIA INTERNACIO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ETUDINARI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C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ENER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Y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G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ESNCIA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HÍ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DICCION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LIC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BUENA F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Y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A MANERA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SUJET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</cp:lastModifiedBy>
  <dcterms:modified xsi:type="dcterms:W3CDTF">2008-07-01T19:32:20Z</dcterms:modified>
  <cp:revision>19</cp:revision>
  <dc:subject/>
  <dc:title>Derecho Internacional Público</dc:title>
</cp:coreProperties>
</file>