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3D1-E44F-4770-94F7-C5E9F57F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089-B1CD-43F0-B809-D5ECB3F3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A78-734A-4880-BC74-34422CC0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7DD-2639-4652-9AEA-5DE2A6E7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4929-35E8-4B9A-B126-5813BD57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9499-52B3-407E-B8A2-07783E4E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B644-07FB-4324-9319-F67C2436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1EE6-3E90-4F65-ABDE-CBC1784D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BFCC-2235-4C5C-944E-CAE9367C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D812-C0A7-4D13-A74F-118EB602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2064-93A0-4E60-8C05-265453D1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369-049F-45C9-B022-379FC229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A2A0-3D68-4D96-A0EA-7300AF20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5BCA-C780-49FA-BAEA-4218E2FE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3ADC-BEF8-455F-8F75-653E10A4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2112-5268-4D4F-BB64-FE722BB0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929E-AC18-4DB2-A524-CE74E97D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E68-DEDD-4159-AFE4-59A37A94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D21-0CB3-4BD4-9D93-F4F0425D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B72-ACBD-4818-A1AE-ECD9112B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D1B-3AF5-48F2-9200-B09C2D4A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BA6-0071-438E-8701-027FB5E5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D44-2971-40D5-9902-31F56B45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255-B363-4AA9-8555-3EAEA830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599F-6A24-42F9-9B08-F353E1307F8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A272-4351-408E-94FE-7BDF72FE0E8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 u="sng">
                <a:solidFill>
                  <a:srgbClr val="ffcc66"/>
                </a:solidFill>
                <a:uFillTx/>
                <a:latin typeface="Book Antiqua"/>
              </a:rPr>
              <a:t>G</a:t>
            </a:r>
            <a:r>
              <a:rPr b="1" lang="es-ES" sz="3600" spc="-1" strike="noStrike" u="sng">
                <a:solidFill>
                  <a:srgbClr val="ffcc66"/>
                </a:solidFill>
                <a:uFillTx/>
                <a:latin typeface="Book Antiqua"/>
              </a:rPr>
              <a:t>RAFICO  RELACIONES  ENTRE EL DIP Y EL DERECHO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RELACIONES ENTRE EL DIP  Y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ON OBJETO DE UN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FRENTÓ A  DOS  ESCU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U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EL 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UALISMO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        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Y  EL  MONISMO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A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 UNA EXPL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CONFLICTOS  Y 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EL  DIP  Y  EL  DERECHO  INTER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IP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MONISTA NI DUAL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ESTADOS LOS QUE OP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MA COMO LOS ESTADOS INCORPORAN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ORÍA  DUALISTA  SOSTE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DIP  Y E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N DOS SISTEMAS  JURÍD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1.-  CON SUJETOS 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-DIP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OS-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2.-    CON FUENTES DISTIN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-ART 38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O-LEY-CONSTITUCION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APLICA A LAS RELACIONES ENTRE LOS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Y EL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N SISTEMAS JURÍDICOS DIFEREN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E SUPERPON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BOS  OBLIGAN DENTRO DEL ORDEN JURÍDICO AL QUE PERTENEC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PUEDE HABER CONFLICTO ENTRE AMBOS DER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SUPERPONIAN  POR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IMPLICA LA ACTIVIDAD DE DOS O 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L DERECHO INTERNO IMP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ACTIVIDAD DE UN SOLO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LA  CONSTITUCIÓN—LA LEY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S SUJETOS A LOS QUE SE DIRIGE EL DIP SON LO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RECHO INTERNO SE DIRIGE A LO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CONSECUENC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PRODUCEN CONFLICTOS  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-PARA QUE UNA NORMA DEL DIP SE APLIQUE EN E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A EXISTIR UN PROCESO DE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INTERNACIONAL DE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R TRANSFORMADA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SU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 REGLAMENTO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 CONTRARIO NO PODIA SER APLICAD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IBUNALES INTERNOS A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 SOLO EL DERECHO INTERN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QUE APLICAN LA NORMA INTERNACIONAL SI HA SIDO TRANSFORMADA PREVIAMENTE EN NORMA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1.-  COMO  SE INCORPORA  EN EL ORDEN INTERNO</a:t>
            </a:r>
            <a:br>
              <a:rPr sz="36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 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 TRATADOS  O DERECHO CONVENCIONAL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  O DERECHO CONSUETUDINARI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REALIDAD NO ES ASI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UNA NORMA INTERNACIONAL SE APLIC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ANDO UN ACTO DE RECEPCIÓN COMO ES EL CASO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ORDENA  CUMPLIR 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LEY DE LA REPU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E INCORPORA EL TRATAD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TRANSFORMA EN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UE SIENDO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 TRANSFO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L TRATADO 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IGUE  SIENDO 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 PARA  MODIFIC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DEBE CONTAR CON EL A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LOS DE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PARA TERMIN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DEBE S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 LAS DISPOSICIONES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LO QUE NO OCURRI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-SI SE TRANSFORMA EN  NORMA  INTERN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MON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PRIMACÍA DEL DERECHO INTERNACION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ELSEN ELABORA TEORIA MONISTA PRESIDIDA POR EL DERECHO 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TEORIA MONI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NORMA DE DERECHO INTERNACIONAL ES APLICABLE  EN FORMA AUTOMÁTICA 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 SER PREVIAMENTE TRANSFORMADA EN NORMA INTER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L MONISMO  POSTULABA QUE EXISTÍ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OLO GRAN SISTEMA JURÍDICO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RO DEL CUAL SE DABAN D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USBSISTE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BSISTEMAS 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RELACIONES ENTRE AM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GULABAN POR UNA DETERMINACIÓN DE JERARQU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DENTRO DEL MONISM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NDENCIA PREDOMIN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ABA PREEMINENCIA AL DI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EL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SUPERIOR ERA L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DEMAS SE CONFORMABAN A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MONISMO CON PRIMACÍA DEL D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O  DERIVA D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ES CONCEBIDO COMO UN ORDEN JURÍDICO JERÁRQUICAMENTE SUPERI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N 2 ORDENAMIENTOS  JURÍDICOS, UNO EL DIP ES SUPERIOR Y EL OTROELDERECHO INTERNO SE SUBORDINA  AL PRIM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CASO DE CHI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-ANALIZAREMOS    DOS  PROBLEMAS FUNDA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 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OS TRATAD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NSTITUCIÓN NO HAY NINGUNA NORMA QUE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EN EL ORDEN INTERNO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N LOS TRATADO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PRUDENCIA Y LA PRACTICA   AF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TRATADOS SE INCORPORAN 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RANGO DE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INCORPORAN POR UN ACTO DE RECEPCIÓN FORMAL   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 QUE DICTA EL PRESIDENTE DE LA REPU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NO  SE TRANSFORMA   L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NORMA INTER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ORDENA PUBL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RAT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ARIO   O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SEGÚN LA LEY 18.1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ERMITE HACER UNA PUBLICACIÓN ULTRA FI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ON TRATADOS DE GRAN EX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POSITA UNA COPIA AUTENTICADA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ANCIL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OTRA EN LA CONTRAL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-6861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2.-  CON QUE JERARQUÍA SE INCORPORAN   A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LOS TRAT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UMBR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T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ROCEDIMIENTO DE INCORPORACIÓN DE LOS TRATADOS AL DERECHO INTERNO NO SE  REGULA EN UN TEXTO LEGAL SINO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ÁCTICA CONSTITUCIONAL Y LEGAL Y LA JURISPRUDENCIA DE LOS TRIBUNALES ASIMIL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 EL TRATADO A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SE APLICABAN LOS ARTÍCULOS 6° Y 7° DEL CÓDIGO CIVIL( PROMULGACIÓN Y PUBLICACIÓN  LE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UN ACTO FORMAL  DE  INCORP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IGUE  EL CRITERIO DUALISTA DE LA TRANS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TAMPOCO  SIGUE AL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ECTO A QUE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APLICAR AUTOMÁ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VEZ QUE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   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UEDE SER APLICADO 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OS ORGANOS DEL ESTADO - TRIBU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Y PUEDE SER INVO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OR LO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NO SE PUEDE  APLICAR  NI INVO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JEMPLO-CASTILLO  VELASC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PROMULGADO EN 1976,  Y PUBLICADO  EN  ABRIL DE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J  CASO  EXPULSIÓN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JAIME CASTILLO VELASCO  EN 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VOCAN EN UN RECURSO DE AMP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 DE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RTE DE APELACIONES DE STGO SEÑA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I  BIEN ESTE PACTO OBLIGA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HABIA SIDO RATIFICADO GOB PRESIDENTE ALL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Ó EN VIGENCIA EN  GOBIERNO MIL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CTO OBLIGA 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NO ESTA INCORPÓRADO  EN EL ORDEN 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NO HABIS SIDO  PROMULGADO --- NI PUBL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LO TANTO  NO LO AP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 DE LA INCORPORACIÓN DEL D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ESTADO QUE NO INCORPORA  EL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 NO LO PUE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INCURRIENDO EN UN HECHO ILICITO ART 27  C DE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 SE PUEDE INVOCAR  UNA SITUACIÓN DE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DEJAR DE CUMPLIR UN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TA  TAMBIEN PRESENTE EL PRINCIPIO DE LA BUENA FE ART 26 C DE 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IMPLICA LA OBL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ADOPTAR TODAS  LAS NORMAS INTERNAS NECES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EL PLENO Y CABAL CUMPLIMIENTO DE UN TRATADO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MULGADOS Y PUBLICADOS, FORMAN PARTE DEL ORDEN JURÍDICO INTERNO Y PRIMAN SOBRE LAS L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CONVENCIÓN DE VIENA  DERECHO DE LOS TRATADOS EN SU ART 27 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IMAC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SOBRE EL ORDENAMIENTO INTERNO ART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UNA PARTE NO PODRÁ INVOCAR LAS DISPOSICIONES DE SU DERECHO INTERNO COMO JUSTIFICACIÓN DEL INCUMPLIMIENTO DE UN TRATADO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RATADO PREVAL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BRE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PUEDE SER DEROGADO POR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FORMA CONSTITUCIONAL  2005 ART 54:ART 54   INC 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 DISPOSICIONES DE UN TRATADO SÓLO PODRÁN SER DEROGADAS, MODIFICADAS O SUSPENDIDAS EN LA FORMA PREVISTA EN LOS PROPIOS TRATADOS O DE ACUERDO A LAS NORMAS GENERALES DE DERECHO INTERNACIONAL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 TRATADO SÓLO PUEDE DEROG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ÚN LO FORMA PREVISTO EN EL PROPIO TRATADO;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UN LAS NORMAS GENERALES DE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JURISPRUDENCIA Y LA PRA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MITEN AFI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LOS TRATADOS SE INCORPO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CON RANGO DE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PERJUICIO DE LOS TRATADOS QUE SE REFIEREN A DDHH  EN  ART 5º  DE LA CONSTITUCIÓN INCISO  2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REFORMADO  AÑO  1989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 EFICACIA  DEL  DI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  DE LA FORMA COMO  LOS 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EN  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 APLIQUEN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Arial"/>
              </a:rPr>
              <a:t>TRATADOS DERECHOS HUMAN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°  CONSTITUCION OTOR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NGO CONSTITUCIONAL A LOS TRATADOS  DE DERECH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º INCISO 2º  CONSTITUCIÓN POLÍTICA  1980: “EL EJERCICIO DE LA SOBERANÍA RECONOCE COMO LIMITACIÓN EL RESPETO A LOS DERECHOS ESENCIALES QUE EMANAN DE LA NATURALEZA HUMANA. ES DEBER DE LOS ÓRGANOS DEL ESTADO RESPETAR Y PROMOVER TALES DERECHOS GARANTIZADOS POR ESTA CONSTITUCIÓN, ASÍ COMO POR LOS TRATADOS INTERNACIONALES RATIFICADOS POR CHILE Y QUE SE ENCUENTREN VIG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LIC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RARQUÍA SOBRE LOS DEMÁS TRATADO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CORPORACIÓN DEL DERECHO CONSUETUD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ILE NO TIENE UNA NORMA CONSTITU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A INCORPORACION DE LA COSTUMRE  EN EL DERECHO INTERNO 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A NORMA QUE SE INTENTÓ 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LAS  REFORMAS CONSTITUCIONALES  DE 1989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EL DERECHO CONSUETUDIN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ENTIENDE  INCORPORADO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AUTOMATICA Y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EL DERECHO INTERNO 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NORMA DE ESTE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CONTIENE EN LA CO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LA EX REPUBLICA  ALEMAN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ERECHO INTERNACIONAL GENERAL SE ENTEN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GLOBAL Y AUTOMÁTICAMENTE  INCORPO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DERECHO FEDERAL ALE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 MISMO  TIENEN LAS CONSTIT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LOS PAISES BAJOS—ITALIA—GRE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HILE NO TIENE  UNA NORMA DE ESTA NATURA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TO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OMO SE PUEDE APLI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OBLIGA A CHILE EN EL ORDEN INTERN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 HAY UNA NORMA QUE SEÑ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L DERECHO CONSUETUDINARIO SE ENTI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GLOBAL Y AUTOMÁTICAMENTE INCORPO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ET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HAY VARIAS MODALIDADES  EN EL SISTEMA 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VIRTUD DE LAS CUALES UN JUEZ PU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.--PRIMERA MOD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L CASO EN QUE UNA LEY INTERNA SE RE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A UNA NORMA DE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CUANDO UNA LEY INTERNA  SEÑALA AL JU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PUEDE APLICAR EL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  ART 1.- CPP  QUE EXPRE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TRIBUNALES DE LA RE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ERCEN JURISDICCIÓN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HILENOS Y SOBRE LOS EXTRANJ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 JUZGAR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SE COMETE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ASOS EXCEPTU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POR LEYES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TRATADOS  O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QUE CHILE ES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 POR LAS REGLAS GENERALMENTE RECONOCIDAS DEL DERECHO INTER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SE ES EL DERECHO CONSUETUDINARIO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EXISTE 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REMITE  AL JUEZ  AL DERECHO CONSUETUDINARIO 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CONSECUENCIA LOS TRIBUNALES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HAN TENIDO NINGUNA DIFICULT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APLICAR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NDO LA LEY LOS HA REMI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ESTE DERECHO CONSUETUDINARIO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-  SEGUNDA HIPÓTESIS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PASA CUANDO  EL 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UEDE RESOLVER  UNA CONTROV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NDO UNA NORMA DE DERECHO INTERNACIONAL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NO HAY NING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LO REMITA COMO CAS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ACTICA DOMINANTE INDICA QUE EL JUEZ HA APLICADO-EN LA PRACTICA EL DERECHO INTERNACIONAL GENER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GUNOS   HAN SOSTENIDO EN SENTENCIAS AIS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NO HABIENDO UNA REMISIÓN DE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JUEZ NO PODRÍA APLICAR UNA NORMA CONSUETUDINARI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DOMINA LA JURISPRUDENCIA EN EL SENTIDO O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 QUE EL JUEZ PUEDE APLICAR UNA NORMA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ÚN A FALTA  DE MANDATO LEG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 NO TIENE ORGANOS PROP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         QUE VELEN POR EL CUMPLIMIENTO  D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ES DAN CUMPLIMIENTO A 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-SE PLANTEA UNA TERCERA HIPÓT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UANDO EXISTE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BLE  A  UN  CA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ERO EXISTE TAMBIEN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LEGAL INTERNA  CONTR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CONTENIDO DE LA NORMA 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LOS TRIBUNALES MAYORITARIAMENTE HAN OP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OR  LA  LEY 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JANDO DE APLICAR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JUECES SON CONSIDERADOS ORGANO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DEBEN RESPO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 LA JERARQUÍ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Y ESTRUCTURA DE 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ORDENAMIENTO EST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ER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L   PROCEDER DE ESA MA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OS JUECES ESTAN HACIENDO INCURRIR 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RESPONSABILIDAD  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ORQUE HAN PREF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 LA LEY POR SOBRE UN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ISTE UN PRINCIPIO BA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OST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NINGUN ESTADO PUEDE INVO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RMA ALGUNA DE SU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 PARA DEJAR 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OBLIG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O CUALQUIER NORMA INTERNACIONAL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QUÍ  SE PRODUCE EL CASO DEL CAPITULO DE LA RESPONSABILIDAD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IRTUD DEL CUAL UN ACTO PERFEC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JUSTADO A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UEDE SER PERFECTAMENTE I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DE EL PUNTO DE VISTA DEL DERECHO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LA RESPONSABILIDAD INTERNACIONAL SE MIDE COTEJ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COMPORTAMIENTOS FRENTE AL D 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NO FRENTE A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CORPORACION COSTUMB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EXISTE EN NUESTRA CONSTITUCION UNA NORMA 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INCORPORACION DE LA COSTUMBRE EN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MO EXISTE EN OTRAS  CONSTITU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NCORPORACIÓN GLOBAL Y AUTOMÁTICA DEL DERECHO INTERNACIONAL COMÚN O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.- UNA LEY INTERNA SE REMITE A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2.- ANTE SILENCIO LEY JUEZ OPTA POR APLICAR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IMERA MODALIDAD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 SE REMITE A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LEY INTERNA SEÑ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EL J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 APLICAR    EL DERECHO INTERNACIONAL 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J ART 1.- DEL CP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IBUNALES     EJERCEN JURISDICCION 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CHILENOS Y EXTRANJEROS PARA JUZGAR 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COMETA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CÓDIGO DE PROCEDIMIENTO PE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1º : "LOS TRIBUNALES DE LA REPÚBLICA EJERCEN JURISDICCIÓN SOBRE LOS CHILENOS Y SOBRE LOS EXTRANJEROS PARA EL EFECTO DE JUZGAR LOS DELITOS QUE SE COMETEN EN SU TERRITORIO, SALVO LOS CASOS EXCEPTUADOS POR LAS LEYES GENERALMENTE RECONOCIDAS DEL DERECHO INTERNACIONA1.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ALVO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LOS CASOS EXCEPTUADO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EYES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O CONV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R LAS REGLAS  GENER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NOCIDAS DEL - 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IENES CUMP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ON LOS ORGANOS DEL EST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ER JUDICIAL- PODER LEGISLATIVO- PODER EJECU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CONSECUENCIA PAR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S IMPORTANTE COMO SE CUMPLE Y SE APLIC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  EL DERECHO CONSUETUDINARIO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ORDEN INTERNO CHILE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NO TIENE UNA NORMA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NTIENDE  AUTOMATICA Y GLOB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ADO EN EL DERECHO INTERNO CHILEN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ESTADOS LEGISLAN EN EL PLAN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TRAVES DE TRATADOS—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MISMO TIEMPO LOS ESTADO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GIS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 TRAVES DE SU PODER LEGISL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SUS MECANISMOS DE CREACIÓN DE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S  COMO  ESTA LEGISLACIÓN PARAL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P  Y EL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COMO SE VINCU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QUE OCURRE CUANDO HAY CONFLICTO EN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ON QUE JERARQUÍ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APLICA  EL D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N EL ORDEN INTERNO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9:24Z</dcterms:created>
  <dc:creator>GILDA CICCI SALAZAR</dc:creator>
  <dc:description/>
  <dc:language>en-US</dc:language>
  <cp:lastModifiedBy>Gilda</cp:lastModifiedBy>
  <dcterms:modified xsi:type="dcterms:W3CDTF">2008-07-01T02:11:43Z</dcterms:modified>
  <cp:revision>132</cp:revision>
  <dc:subject/>
  <dc:title> GRAFICO  RELACIONES  ENTRE EL DIP Y EL DERECHO INTERNO </dc:title>
</cp:coreProperties>
</file>