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078-45A0-457D-A64A-8416D03B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9AD-67C6-499B-A213-2B0B257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656-AC46-4D52-972E-D27F1A3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4F4-4B3A-40E0-89F7-A52FC81F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960-75A0-43B8-B87A-1D8A8488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9E7A-43DD-4705-BB99-9AF8633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1587-DEF7-4042-B463-BCB722F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7F8-B7C0-4689-ACD4-6C9DC2A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0860-1A28-44ED-80E2-7B7206D8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355-9F21-465E-BF4E-6822CF22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4F86-9A3B-4488-A0C9-9AAFB7E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049-D4C6-4706-B325-CD7331D1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6B65-5375-4CAA-A6F4-B80FA4A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4D8C-4878-4450-BC16-C740FA1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5F50-F2D9-43E9-AD6B-32F2D76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6C7E-FFF3-476F-AFAC-2AE636C7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9D4-59E5-446B-B39C-F66012B5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B84-C40C-4AE1-B7D2-F1566D4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857-9B48-4377-9F69-960DF4FD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CB9-8D8E-4AF8-A5CB-663FBC28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A65-B1B4-476A-852B-EA024C9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AA3-06FC-4C0E-805A-886B255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F01-3CC1-4A9D-8220-880363C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3CD-E1FE-4364-BE7F-BC1A67C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774-036C-47C6-A632-4AF0A36BA4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A29-20A0-4F03-B4F1-0E04962374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7-01T19:32:20Z</dcterms:modified>
  <cp:revision>19</cp:revision>
  <dc:subject/>
  <dc:title>Derecho Internacional Público</dc:title>
</cp:coreProperties>
</file>