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67B-DC2E-4F81-A56A-33D8F672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F29-DCBD-4108-B6E6-FE84622F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1A6-82F6-4451-9ADD-C0AE3F2C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8BC-7B61-4B46-ACBC-F0BAC0EA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42B3-11AF-46F5-B516-79F8C4E5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BAFA-F447-47BE-AE0F-3F7C29D3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850F-86D3-44DF-8538-44164841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576F-5038-49A3-B6D0-2B47A03D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0750-7A5B-4FF5-A149-E6D97B49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697C-C6B2-4217-8202-75134F0F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B776-A922-4B0D-B1D4-7183AEAC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5DB-CC8C-471B-82FC-57CA4D13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0401-EC88-4768-B9EB-788011D7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26A6-EC5C-4CF2-8A69-60ED0846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CA64-1811-4E4C-AB00-8EAA05ED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7DAC-6606-494A-9E6F-EE8C43FA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9460-2751-43DD-B9CF-C6AA4C10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DBD-3553-4F98-80D2-986E7E76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005-1A5E-40B8-B8F5-CCE099F3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D28-8F8C-4125-9D20-03E0A3B3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DF2-4491-4705-A8AE-2004D39F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5C9-47DE-41EE-B0FD-A2F0A1AB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F99-9F86-4883-955C-5105A98F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F35-944D-4B5C-98B5-75712ED6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37B2-8289-45E9-87AD-D4679D79E2A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E0B1-94DE-4EB0-8873-9F677A2273C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 Salaz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</cp:lastModifiedBy>
  <dcterms:modified xsi:type="dcterms:W3CDTF">2008-07-01T19:32:20Z</dcterms:modified>
  <cp:revision>19</cp:revision>
  <dc:subject/>
  <dc:title>Derecho Internacional Público</dc:title>
</cp:coreProperties>
</file>