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ADD-5945-4EAA-92C8-0C48A843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E89-C971-4A5E-8C71-41CBAFC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17D-214B-4155-BC7B-1269798E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081-40E1-492F-968D-AA108BFC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84F-5B0B-4E5B-98C4-34008B62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DE05-EC3B-4726-8C1C-5DF40A3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7B1D-F02C-4E15-AA39-253DAC44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1472-AD27-486C-95C7-BF9590C8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AA9C-C7DC-423B-8340-BF0A8CA5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AA8C-8E62-4A2C-B460-A8C4874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1307-7A50-459B-9057-F89EB41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187-BE0C-4796-99C7-90E57AE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8A82-3F33-4932-A198-FAFFA04F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1608-9EC1-4ECA-9727-7A6EDD2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1B78-778D-4628-A9E2-D49E5AF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398F-011F-45E5-9DDD-FF9A084B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98BF-4DB1-4A24-8196-D779487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5D3-9E75-44E4-8CB5-E45F6F93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3A9-DEC6-4B82-BA38-C415D688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B06-C648-4182-A24F-355B8433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D62-32AE-4EEA-BEB4-B7391445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C45-B316-4D8D-B157-A8905487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767-D7C8-4D2E-9D92-4B0341FA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4C7-DE00-4EFF-9C60-CD34EAE0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2AA7-3CB6-4034-8FBB-07D5CBF602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CD69-2C52-433E-A6EF-87578E9CF05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810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 Salaz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</cp:lastModifiedBy>
  <dcterms:modified xsi:type="dcterms:W3CDTF">2008-07-01T19:32:20Z</dcterms:modified>
  <cp:revision>19</cp:revision>
  <dc:subject/>
  <dc:title>Derecho Internacional Público</dc:title>
</cp:coreProperties>
</file>