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DE2D3-321C-4399-8E4B-5D82C8164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6FD1D-3D4A-4310-A015-A22C348C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1B6CE-0F3A-44D3-88F5-2AD160CDF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8A43B-5DE6-45BE-81B7-4A1AE64B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85461-4B91-4A1F-ACBD-5DB5B40E7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5D0E8-8DAA-4286-80FE-556542EA5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87A65-6175-42E0-B711-5C0B949F6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A4498-17E0-4171-A616-EC5C6814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95E61-FF9C-4372-A622-745FB2CDF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AE62F-82DE-45B1-8688-DF677AF2A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28409-C9FA-4403-BCFB-AE4F1B179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6CC5-53F8-43C3-B0DB-C9E20BF4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0524D-77E4-4F24-B224-E5409121F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F513F-6279-4857-997F-AFA53C2C8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00694-54E5-4DEB-AEC1-F2CC309BC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9400A-AF73-4488-A244-D60D6F232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D70ED-5BE9-4290-B715-F72358CDE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1F874-FBCD-4DDC-A318-739BECFD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E3FD6-1C1A-4A61-A65B-3F98C31E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E336-5192-4ED8-ABD2-7FF810278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39C6-1F38-4B21-982F-44117DE2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7DDD-5AEF-4E61-A663-ECE9ABC3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57D3-A27F-41B0-AF00-A4101860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F830C-57C2-4E0B-B2BD-28580CA50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BCE3-9685-49BC-B50E-1E314196D447}"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C894-62C6-46AB-B85E-833E9DB4FA5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ffffff"/>
                </a:solidFill>
                <a:latin typeface="Arial"/>
              </a:rPr>
              <a:t>NACIONES UNIDA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Expulsió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art. 6 de la carta  menciona  la expulsión que procede por la violación repetida de los principios de la carta por el Estado miembr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expulsión se realizará por la Asamblea  General, previa recomendación del Consejo de Segurida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Estado miembro ha sido expulsa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anciones:Art. 19  suspensión de los derechos de voto del  Estado. Procede  cuando un Estado miembro está en mora en el pago de sus cuo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IEMBROS</a:t>
            </a:r>
            <a:br>
              <a:rPr sz="3800"/>
            </a:br>
            <a:endParaRPr b="0" lang="en-US" sz="3800" spc="-1" strike="noStrike">
              <a:solidFill>
                <a:srgbClr val="ffffff"/>
              </a:solidFill>
              <a:latin typeface="Arial"/>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acuerdo a la Carta, pueden ser miembros de ONU todos los países amantes de la paz que acepten las obligaciones previstas en ella y que, a juicio de la Organización, sean capaces de cumplir esas obligaciones y estén dispuestos a hacerl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 Miembros Originari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n Miembros originarios de las Naciones Unidas los Estados que habiendo participado en la Conferencia de las Naciones Unidas sobre Organización Internacional celebrada en San Francisco, o que habiendo firmado previamente la Declaración de las Naciones Unidas de 1 de enero de 1942, suscriban esta Carta y la ratifiquen de conformidad con el Artículo 110.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  Miembros derivad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Podrán ser Miembros de las Naciones Unidas todos los demás Estados amantes de la paz que acepten las obligaciones consignadas en esta Carta, y que, a juicio de la Organización, estén capacitados para cumplir dichas obligaciones y se hallen dispuestos a hacerl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 admisión de tales Estados como Miembros de las Naciones Unidas se efectuará por decisión de la Asamblea General a recomendación del Consejo de Segurida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RGANOS DE NACIONES UNIDA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órganos principales de Naciones Unidas. señalados en el art.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de Segurida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ejo Económico y Soci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de administración Fiduciar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rte Internacional de Justicia.</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cretaria Gen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RGANOS</a:t>
            </a:r>
            <a:br>
              <a:rPr sz="3800"/>
            </a:b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7</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e establecen como órganos principales de las Naciones Unida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samblea Gener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Segurida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Económico y Social,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nsejo de Administración Fiduciari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Corte Internacional de Justicia y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Secretar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u="sng">
                <a:solidFill>
                  <a:srgbClr val="ffffff"/>
                </a:solidFill>
                <a:uFillTx/>
                <a:latin typeface="Arial"/>
              </a:rPr>
              <a:t>LA ASAMBLEA GENERAL</a:t>
            </a:r>
            <a:endParaRPr b="0" lang="en-US" sz="4200" spc="-1" strike="noStrike">
              <a:solidFill>
                <a:srgbClr val="ffffff"/>
              </a:solidFill>
              <a:latin typeface="Arial"/>
            </a:endParaRPr>
          </a:p>
        </p:txBody>
      </p:sp>
      <p:sp>
        <p:nvSpPr>
          <p:cNvPr id="12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erpo plenario donde están representados todos los Estados miembros  cada Estado tiene 1 voto.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órgano se reune en forma  ordinaria una vez al año y se reúne a contar de la tercera semana de septie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Arial"/>
              </a:rPr>
              <a:t>Competencia General</a:t>
            </a:r>
            <a:br>
              <a:rPr sz="3800"/>
            </a:b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88000"/>
          </a:bodyPr>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10 de la cart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En la asamblea se puede  discutir cualquier asunto o cuestión que este dentro de los límites de la carta y puede hacer recomendaciones a los Estados miembros y/o al Consejo de Seguridad. Esta facultad queda suspendida en el caso que el Consejo de Seguridad estuviere estudiando o tratando esta misma materia.</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n este caso va a ser el secretario general de Naciones Unidas el que va a informar a la Asamblea General con el consentimiento del Consejo de Seguridad sobre todo asunto que estuviere relacionado con el mantenimiento de la paz y que estuviere siendo tratado por el Consejo de Seguridad.</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     Aquellas que se refieren a principios generales de cooperación en el mantenimiento de la paz e incluso principios que se refieren al desarme, sobre esto puede hacer recomendaciones al Consejo de Seguridad o a su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    Cuestiones relativas al mantenimiento de la paz: sobre esto la Asamblea General: deberá remitirla antes o después de su discusió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   Arreglo pacífico de situaciones, esta competencia es amplísima y en virtud de ella, la Asamblea General puede llegar a hacer recomendaciones a las partes para lograr el arreglo pacífico de las controversias sea cual fuere su origen.</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    Puede promover la realización de estudios de cooperación en materia internacional en el campo político, y la promoción del derecho internacional en el campo económico, social y cultural. Aquí se incluyen los DD.HH. y las libertades fundamentale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      Dentro de esto está la facultad de admitir, expulsar y suspender a Estados miembros.</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   Elegir cuales van a ser los miembros del Consejo de Seguridad que no son permanentes, del Consejo Económico y Social,  del Consejo de Administración fiduciaria y de la Corte Internacional de Justicia. </a:t>
            </a:r>
            <a:endParaRPr b="0" lang="en-US" sz="1400" spc="-1" strike="noStrike">
              <a:solidFill>
                <a:srgbClr val="000000"/>
              </a:solidFill>
              <a:latin typeface="Arial"/>
            </a:endParaRPr>
          </a:p>
          <a:p>
            <a:pPr marL="536040" indent="-5360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    Recibir informes de los consejos, del Secretario General y de otros organismos</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210520" cy="14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US" sz="2400" spc="-1" strike="noStrike">
                <a:solidFill>
                  <a:srgbClr val="ffffff"/>
                </a:solidFill>
                <a:latin typeface="Arial"/>
              </a:rPr>
              <a:t>LA ASAMBLEA GENERAL  Composición</a:t>
            </a:r>
            <a:br>
              <a:rPr sz="3800"/>
            </a:br>
            <a:br>
              <a:rPr sz="3800"/>
            </a:br>
            <a:endParaRPr b="0" lang="en-US" sz="2400" spc="-1" strike="noStrike">
              <a:solidFill>
                <a:srgbClr val="ffffff"/>
              </a:solidFill>
              <a:latin typeface="Arial"/>
            </a:endParaRPr>
          </a:p>
        </p:txBody>
      </p:sp>
      <p:sp>
        <p:nvSpPr>
          <p:cNvPr id="125" name="PlaceHolder 2"/>
          <p:cNvSpPr>
            <a:spLocks noGrp="1"/>
          </p:cNvSpPr>
          <p:nvPr>
            <p:ph/>
          </p:nvPr>
        </p:nvSpPr>
        <p:spPr>
          <a:xfrm>
            <a:off x="610920" y="2133360"/>
            <a:ext cx="79246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9</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a Asamblea General estará integrada por todos los Miembros de las Naciones Unid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ingún Miembro podrá tener más de cinco representantes en la Asamblea General.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unciones y Poder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0</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samblea General podrá discutir cualesquier asuntos o cuestiones dentro de los límites de esta Carta o que se refieran a los poderes y funciones de cualquiera de los órganos creados por esta Carta, y salvo lo dispuesto en el Artículo 12 podrá hacer recomendaciones sobre tales asuntos o cuestiones a los Miembros de las Naciones Unidas o al Consejo de Seguridad o a éste y a aqué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OTO ASAMBLEA GENERA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l art. 18 de la carta de Naciones Unidas señala  que la Asamblea General deliberará por mayoría de votos y esta 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mayoría simple: que es la mitad más uno de los miembros presentes en la sesión. (Esto para los asuntos no importante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os asuntos  importantes se requerirá del voto de los 2/3  de los miembros presentes en la s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9" name="PlaceHolder 2"/>
          <p:cNvSpPr>
            <a:spLocks noGrp="1"/>
          </p:cNvSpPr>
          <p:nvPr>
            <p:ph/>
          </p:nvPr>
        </p:nvSpPr>
        <p:spPr>
          <a:xfrm>
            <a:off x="179280" y="1052280"/>
            <a:ext cx="8964720" cy="507348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tículo 18</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da Miembro de la Asamblea General tendrá un vot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as decisiones de la Asamblea General en cuestiones importantes se tomarán por el voto de una mayoría de dos tercios de los miembros presentes y votantes. Estas cuestiones comprenderán: las recomendaciones relativas al mantenimiento de la paz y la seguridad internacionales, la elección de los miembros no permanentes del Consejo de Seguridad, la elección de los miembros del Consejo Económico y Social, la elección de los miembros del Consejo de Administración Fiduciaria de conformidad con el inciso c, párrafo 1, del Artículo 86, la admisión de nuevos Miembros a las Naciones Unidas, la suspensión de los derechos y privilegios de los Miembros, la expulsión de Miembros, las cuestiones relativas al funcionamiento del régimen de administración fiduciaria y las cuestiones presupuestari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Las decisiones sobre otras cuestiones, incluso la determinación de categorías adicionales de cuestiones que deban resolverse por mayoría de dos tercios, se tomarán por la mayoría de los miembros presentes y vota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457200" y="620280"/>
            <a:ext cx="8507520" cy="597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395280" y="1484280"/>
            <a:ext cx="6913440" cy="446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L CONSEJO DE SEGURIDAD</a:t>
            </a:r>
            <a:br>
              <a:rPr sz="3800"/>
            </a:br>
            <a:r>
              <a:rPr b="1" i="1" lang="en-US" sz="3800" spc="-1" strike="noStrike">
                <a:solidFill>
                  <a:srgbClr val="ffffff"/>
                </a:solidFill>
                <a:latin typeface="Arial"/>
              </a:rPr>
              <a:t>Composición</a:t>
            </a:r>
            <a:endParaRPr b="0" lang="en-US" sz="3800" spc="-1" strike="noStrike">
              <a:solidFill>
                <a:srgbClr val="ffffff"/>
              </a:solidFill>
              <a:latin typeface="Arial"/>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23</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El Consejo de Seguridad se compondrá de quince miembros de las Naciones Unidas. La República de China, Francia, la Unión de las Repúblicas Socialistas Soviéticas, el Reino Unido de la Gran Bretaña e Irlanda del Norte y los Estados Unidos de América, serán miembros permanentes del Consejo de Seguridad. La Asamblea General elegirá otros diez Miembros de las Naciones Unidas que serán miembros no permanentes del Consejo de Seguridad, prestando especial atención, en primer término, a la contribución de los Miembros de las Naciones Unidas al mantenimiento de la paz y la seguridad internacionales y a los démas propósitos de la Organización, como tambien a una distribución geográfica equitativa.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os miembros no permanentes del Consejo de Seguridad serán elegidos por un periodo de dos años. En la primera elección de los miembros no permanentes que se celebre después de haberse aumentado de once a quince el número de miembros del Consejo de Seguridad, dos de los cuatro miembros nuevos serán elegidos por un periodo de un año. Los miembros salientes no serán reelegibles para el periodo subsiguiente.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Cada miembro del Consejo de Seguridad tendrá un represent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Funciones y Poderes</a:t>
            </a:r>
            <a:endParaRPr b="0" lang="en-US" sz="4200" spc="-1" strike="noStrike">
              <a:solidFill>
                <a:srgbClr val="ffffff"/>
              </a:solidFill>
              <a:latin typeface="Arial"/>
            </a:endParaRPr>
          </a:p>
        </p:txBody>
      </p:sp>
      <p:sp>
        <p:nvSpPr>
          <p:cNvPr id="13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4</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fin de asegurar acción rápida y eficaz por parte de las Naciones Unidas, sus Miembros confieren al Consejo de Seguridad la responsabilidad primordial de mantener la paz y la seguridad internacionales, y reconocen que el Consejo de Seguridad actúa a nombre de ellos al desempeñar las funciones que le impone aquella responsabil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n el desempeño de estas funciones, el Consejo de Seguridad procederá de acuerdo con los Propósitos y Principios de las Naciones Unidas. Los poderes otorgados al Consejo de Seguridad para el desempeño de dichas funciones quedan definidos en los Capítulos VI, VII, VIII y XI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l Consejo de Seguridad presentará a la Asamblea General para su consideración informes anuales y, cuando fuere necesario, informes especi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tículo 2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iembros de las Naciones Unidas convienen en aceptar y cumplir las decisiones del Consejo de Seguridad de acuerdo con esta Car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ffffff"/>
                </a:solidFill>
                <a:latin typeface="Arial"/>
              </a:rPr>
              <a:t>CONSEJO DE SEGURIDAD</a:t>
            </a:r>
            <a:br>
              <a:rPr sz="3800"/>
            </a:br>
            <a:endParaRPr b="0" lang="en-US" sz="38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do por 15 miembros, de los cuales 5 son miembros permanentes y 10 son miembros no permanen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iembros no permanentes duran  2 años  en el carg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 están distribuidos por áreas geográficas, corresponde 2 asientos a Asia, 3 para África, 2 para América Latina y 3 para Euro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otación  en el  Consejo de Seguridad requiere un quórum de 9  voto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trata de asuntos importantes, dentro de los 9 votos deben estar incluidos los votos de los 5 miembros permanentes y la objeción de un miembro permanente paraliza la acción del Consejo y se conoce como </a:t>
            </a:r>
            <a:r>
              <a:rPr b="0" i="1" lang="es-CL" sz="2400" spc="-1" strike="noStrike">
                <a:solidFill>
                  <a:srgbClr val="000000"/>
                </a:solidFill>
                <a:latin typeface="Arial"/>
              </a:rPr>
              <a:t>veto.</a:t>
            </a:r>
            <a:r>
              <a:rPr b="0" lang="es-C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los asuntos de procedimiento, el quórum es de 9 votos, de cualquiera  de sus miembros, sin que estén presentes lo miembros permanente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s resoluciones del Consejo de Seguridad son obligatorias, para todos los miembros de Naciones Uni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t. 25 de la carta señala  que los miembros de la organización convienen en aceptar y cumplir las decisiones del Consejo de Seguridad, de acuerdo con esta carta. Conforma el sistema de seguridad colectiva de la organizació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acción del Consejo de Seguridad no se bloquea por el desacuerdo de los miembros perman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 </a:t>
            </a:r>
            <a:r>
              <a:rPr b="1" lang="es-CL" sz="4200" spc="-1" strike="noStrike">
                <a:solidFill>
                  <a:srgbClr val="ffffff"/>
                </a:solidFill>
                <a:latin typeface="Arial"/>
              </a:rPr>
              <a:t>El Veto.</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veto  paraliza el funcionamiento de la organización en los asuntos importa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s un pronunciamiento negativo de los miembros permanentes del Consejo de Seguridad.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miembros tiene un vo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Las decisiones sobre cuestiones de procedimiento deben ser adoptadas por el voto afirmativo de 9 miembros</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decisiones sobre las cuestiones importantes se adoptan por  el voto afirmativo de 9 miembros incluyendo los votos afirmativos  de todos los miembros permanentes.</a:t>
            </a: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estiones  de procedimien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art. 27 no señala que asuntos son de procedimiento y que asuntos son de fondo o importantes.  En que se requiere el voto afirmativo de todos los miembros permanentes y cualquiera de ellos puede oponerse a la adopción de la resolución por el  voto negativo o veto y paralizar  la acción del consejo.  no figura en la carta significa   Oposición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onsejo de Seguridad la abstención voluntaria o la ausencia de un miembro permanente no  implica veto  y en consecuencia se puede adoptar  la resolución por el Consej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oble Veto</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relaciona con el  procedimiento para determinar,  si un asunto es de procedimiento o de fondo. </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uno de los miembros permanentes puede aplicar el veto para que un asunto que se está conociendo de procedimiento se tramite como de fondo y una vez establecido como de fondo lo vuelve  a vetar.</a:t>
            </a:r>
            <a:endParaRPr b="0" lang="en-US" sz="1400" spc="-1" strike="noStrike">
              <a:solidFill>
                <a:srgbClr val="000000"/>
              </a:solidFill>
              <a:latin typeface="Arial"/>
            </a:endParaRPr>
          </a:p>
          <a:p>
            <a:pPr marL="315360" indent="-31536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Votación</a:t>
            </a:r>
            <a:r>
              <a:rPr b="0" lang="en-U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ículo 2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da miembro del Consejo de Seguridad tendrá un voto.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as decisiones del Consejo de Seguridad sobre cuestiones de procedimiento serán tomadas por el voto afirmativo de nueve miembros.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as decisiones del Consejo de Seguridad sobre todas las demás cuestiones serán tomadas por el voto afirmativo de nueve miembros, incluso los votos afirmativos de todos los miembros permanentes; pero en las decisiones tomadas en virtud del Capítulo VI y del párrafo 3 del Artículo 52, la parte en una controversia se abstendrá de vota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PITULO VII</a:t>
            </a:r>
            <a:br>
              <a:rPr sz="1900"/>
            </a:br>
            <a:r>
              <a:rPr b="1" lang="en-US" sz="1900" spc="-1" strike="noStrike">
                <a:solidFill>
                  <a:srgbClr val="ffffff"/>
                </a:solidFill>
                <a:latin typeface="Arial"/>
              </a:rPr>
              <a:t>ACCION EN CASO DE AMENAZAS A LA PAZ,</a:t>
            </a:r>
            <a:br>
              <a:rPr sz="1900"/>
            </a:br>
            <a:r>
              <a:rPr b="1" lang="en-US" sz="1900" spc="-1" strike="noStrike">
                <a:solidFill>
                  <a:srgbClr val="ffffff"/>
                </a:solidFill>
                <a:latin typeface="Arial"/>
              </a:rPr>
              <a:t>QUEBRANTAMIENTOS DE LA PAZ O ACTOS DE AGRESION</a:t>
            </a:r>
            <a:br>
              <a:rPr sz="2100"/>
            </a:br>
            <a:endParaRPr b="0" lang="en-US" sz="1900" spc="-1" strike="noStrike">
              <a:solidFill>
                <a:srgbClr val="ffffff"/>
              </a:solidFill>
              <a:latin typeface="Arial"/>
            </a:endParaRPr>
          </a:p>
        </p:txBody>
      </p:sp>
      <p:sp>
        <p:nvSpPr>
          <p:cNvPr id="14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39</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determinará la existencia de toda amenaza a la paz, quebrantamiento de la paz o acto de agresión y hará recomendaciones o decidirá que medidas seran tomadas de conformidad con los Artículos 41 y 42 para mantener o restablecer 1a paz y la seguridad internac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0</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fin de evitar que la situación se agrave, el Consejo de Seguridad, antes de hacer las recomendaciones o decidir las medidas de que trata el Artículo 39, podrá instar a las partes interesadas a que cumplan con las medidas provisionales que juzgue necesarias o aconsejables. Dichas medidas provisionales no perjudicarán los derechos, las reclamaciones o la posición de las partes interesadas. El Consejo de Seguridad tomará debida nota del incumplimiento de dichas medidas provisional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4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sejo de Seguridad podrá decidir qué medidas que no impliquen el uso de la fuerza armada han de emplearse para hacer efectivas sus decisiones, y podrá instar a los Miembros de las Naciones Unidas a que apliquen dichas medidas, que podrán comprender la interrupción total o parcial de las relaciones económicas y de las comunicaciones ferroviarias, marítimas, aéreas, postales, telegráficas, radioeléctricas, y otros medios de comunicación, así como la ruptura de relaciones diplomát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ffffff"/>
                </a:solidFill>
                <a:latin typeface="Arial"/>
              </a:rPr>
              <a:t>Fuerza como sanción</a:t>
            </a:r>
            <a:endParaRPr b="0" lang="en-US" sz="3800" spc="-1" strike="noStrike">
              <a:solidFill>
                <a:srgbClr val="ffffff"/>
              </a:solidFill>
              <a:latin typeface="Arial"/>
            </a:endParaRPr>
          </a:p>
        </p:txBody>
      </p:sp>
      <p:sp>
        <p:nvSpPr>
          <p:cNvPr id="14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rtículo 42</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el Consejo de Seguridad estimare que las medidas de que trata el Artículo 41 pueden ser inadecuadas o han demostrado serlo, podrá ejercer, por medio de fuerzas aéreas, navales o terrestres, la acción que sea necesaria para mantener o restablecer la paz y la seguridad internacionales. Tal acción podrá comprender demostraciones, bloqueos y otras operaciones ejecutadas por fuerzas aéreas, navales o terrestres de Miembros de las Naciones Unida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LA SECRETARIA</a:t>
            </a:r>
            <a:br>
              <a:rPr sz="3800"/>
            </a:br>
            <a:endParaRPr b="0" lang="en-US" sz="38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rtículo 97</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Secretaría se compondrá de un Secretario General y del personal que requiera la Organización. El Secretario General será nombrado por la Asamblea General a recomendación del Consejo de Seguridad. El Secretario General sera el más alto funcionario administrativo de la Organiz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9" name="PlaceHolder 2"/>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br>
              <a:rPr sz="1200"/>
            </a:b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TECEDENTES ONU</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rta de las Naciones Unidas" es el documento por medio del cual se constituye Naciones Unida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Declaración de Londres" 12 de julio de 1941  firmada por los representantes del Reino Unido, Canadá, Australia, Nueva Zelandia, y Sudáfrica, además de los gobiernos en exilio de Bélgica, Checoslovaquia, Grecia, Luxemburgo, Noruega, los Países Bajos, Polonia, Yugoslavia y Francia representada por el general De Gaull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que consagran    paz  estableciendo que la  base de una paz duradera es la cooperación voluntaria de todos los pueblos libres para evitar la amenaza de una agresión.</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 "Carta del Atlántico" 14 de agosto de 1941, el Presidente de los Estados Unidos, Franklin D. Roosevelt, y el Primer Ministro Británico, Winston Churchill, en que establecen una paz que ofrezca a las naciones seguridad y que sus habitantes vivan libres del temor y  que  las naciones renuncien al uso de la fuerz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Declaración de las Naciones Unidas",  1 de enero de 1942 firmada por 26 representantes  donde se establece el compromiso de proseguir  la lucha contra las potencias del Eje.</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ste documento se utiliza por primera vez el nombre de "Naciones Unid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 La Conferencia de Moscú  1 de noviembre de 1943 y la de Teherán,Enero 1944 impulsan la creación de una organización general internacional basada en la igualdad soberana de los Estados, con el fin de evitar futuras confron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En la Conferencia de Dumbarton Oaks en 1944 se  proyecta la creación de ONU</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uesta de instituir un órgano esencial en las Naciones Unidas cuyo objetivo fuera conservar la paz del mund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En la Conferencia de Yalta, el 11 de febrero de 1945, se establecio la forma de vota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26 de junio de 1945 en la Conferencia de San Francisco, se creo la "Carta de las Naciones Unidas y el Estatuto de la Corte Internacional de Justicia",  aprobada por unanimidad y firmada por todos los representant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rta de ONU" entró en vigor el 24 de octubre de 1945, fecha en que los firmantes depositaron sus instrumentos de ratificación. El Estatuto de la Corte Internacional de Justicia es parte Integrante de la Car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POSITOS Y PRINCIPIOS DE LA CARTA DE ONU</a:t>
            </a:r>
            <a:endParaRPr b="0" lang="en-US" sz="24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turaleza Jurídica.</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arta de Naciones Unidas es un tratado multilateral, en virtud del cual, se crea o se instituye una organización  de carácter internacional. En un anexo que contiene el texto del Estatuto de la Corte Internacional de Justicia.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ene  un preámbulo en que usa la expresión "los pueblos de Naciones Unida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dos primeros artículos de la carta  contienen los propósitos y principios de O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opósitos de ONU</a:t>
            </a:r>
            <a:endParaRPr b="0" lang="en-US" sz="4200" spc="-1" strike="noStrike">
              <a:solidFill>
                <a:srgbClr val="ffffff"/>
              </a:solidFill>
              <a:latin typeface="Arial"/>
            </a:endParaRPr>
          </a:p>
        </p:txBody>
      </p:sp>
      <p:sp>
        <p:nvSpPr>
          <p:cNvPr id="105"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PITULO I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PROPOSITOS Y PRINCIPIOS</a:t>
            </a:r>
            <a:endParaRPr b="0" lang="en-US" sz="18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1° señala cuales son los </a:t>
            </a:r>
            <a:r>
              <a:rPr b="1" i="1" lang="es-MX" sz="2000" spc="-1" strike="noStrike">
                <a:solidFill>
                  <a:srgbClr val="000000"/>
                </a:solidFill>
                <a:latin typeface="Arial"/>
              </a:rPr>
              <a:t>Propósitos de la carta de Naciones Unidas.</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tículo 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opósitos de las Naciones Unidas son: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Mantener la paz y la seguridad internacionales, y con tal fin: tomar medidas colectivas eficaces para prevenir y eliminar amenazas a la paz, y para suprimir actos de agresión u otros quebrantamientos de la paz; y lograr por medios pacíficos, y de conformidad con los principios de la justicia y del derecho internacional, el ajuste o arreglo de controversias o situaciones internacionales susceptibles de conducir a quebrantamientos de la paz;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Fomentar entre las naciones relaciones de amistad basadas en el respeto al principio de la igualdad de derechos y al de la libre determinación de los pueblos, y tomar otros medidas adecuadas para fortalecer la paz universal;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Realizar la cooperación internacional en la solución de problemas internacionales de carácter económico, social, cultural o humanitario, y en el desarrollo y estímulo del respeto a los derechos humanos y a las libertades fundamentales de todos, sin hacer distinción por motivos de raza, sexo, idioma o religion; y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Servir de centro que armonice los esfuerzos de las naciones por alcanzar estos propósitos comun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Principios de ONU</a:t>
            </a:r>
            <a:endParaRPr b="0" lang="en-US" sz="4200" spc="-1" strike="noStrike">
              <a:solidFill>
                <a:srgbClr val="ffffff"/>
              </a:solidFill>
              <a:latin typeface="Arial"/>
            </a:endParaRPr>
          </a:p>
        </p:txBody>
      </p:sp>
      <p:sp>
        <p:nvSpPr>
          <p:cNvPr id="107"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El art. 2° señala  los </a:t>
            </a:r>
            <a:r>
              <a:rPr b="1" i="1" lang="es-MX" sz="2000" spc="-1" strike="noStrike">
                <a:solidFill>
                  <a:srgbClr val="000000"/>
                </a:solidFill>
                <a:latin typeface="Arial"/>
              </a:rPr>
              <a:t>Principios de la carta de Naciones Unidas</a:t>
            </a:r>
            <a:r>
              <a:rPr b="0" i="1" lang="es-MX" sz="2000" spc="-1" strike="noStrike">
                <a:solidFill>
                  <a:srgbClr val="000000"/>
                </a:solidFill>
                <a:latin typeface="Arial"/>
              </a:rPr>
              <a:t>, que regulan la conducta de los Estados en la realización de los propósitos de la organización</a:t>
            </a:r>
            <a:r>
              <a:rPr b="0" i="1" lang="es-MX" sz="3200" spc="-1" strike="noStrike">
                <a:solidFill>
                  <a:srgbClr val="000000"/>
                </a:solidFill>
                <a:latin typeface="Arial"/>
              </a:rPr>
              <a:t>.</a:t>
            </a:r>
            <a:r>
              <a:rPr b="0" lang="es-MX"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rtículo 2</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la realización de los Propósitos consignados en el Artículo 1, la Organización y sus Miembros procederán de acuerdo con los siguientes Principi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La Organización esta basada en el principio de la igualdad soberana de todos sus Miembro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Los Miembros de la Organización, a fin de asegurarse los derechos y beneficios inherentes a su condición de tales, cumplirán de buena fe las obligaciones contraídas por ellos de conformidad con esta Cart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3. Los Miembros de la Organización arreglarán sus controversias internacionales por medios pacíficos de tal manera que no se pongan en peligro ni la paz y la seguridad internacionales ni la justici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4. Los Miembros de la Organización, en sus relaciones internacionales, se abstendrán de recurrir a la amenaza o al uso de la fuerza contra la integridad territorial o la independencia política de cualquier Estado, o en cualquier otra forma incompatible con los Propósitos de las Naciones Unida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Los Miembros de la Organización prestaran a ésta toda clase de ayuda en cualquier acción que ejerza de conformidad con esta Carta, y se abstendrán de dar ayuda a Estado alguno contra el cual la Organización estuviere ejerciendo acción preventiva o coercitiva.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6. La Organización hará que los Estados que no son Miembros de las Naciones Unidas se conduzcan de acuerdo con estos Principios en la medida que sea necesaria para mantener la paz y la seguridad internacionales. </a:t>
            </a:r>
            <a:endParaRPr b="0" lang="en-US" sz="1400" spc="-1" strike="noStrike">
              <a:solidFill>
                <a:srgbClr val="000000"/>
              </a:solidFill>
              <a:latin typeface="Arial"/>
            </a:endParaRPr>
          </a:p>
          <a:p>
            <a:pPr marL="339480" indent="-3394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7. Ninguna disposición de esta Carta autorizará a las Naciones Unidas a intervenir en los asuntos que son esencialmente de la jurisdicción interna de los Estados, ni obligará; a los Miembros a someter dichos asuntos a procedimientos de arreglo conforme a la presente Carta; pero este principio no se opone a la aplicación de las medidas coercitivas prescritas en el </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  de miembros,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Miembros Fundadores u Originarios:</a:t>
            </a:r>
            <a:r>
              <a:rPr b="0" lang="es-MX" sz="1600" spc="-1" strike="noStrike">
                <a:solidFill>
                  <a:srgbClr val="000000"/>
                </a:solidFill>
                <a:latin typeface="Arial"/>
              </a:rPr>
              <a:t>  son los que participaron en 1945 en San Francisco y suscribieron la carta . Son 51 Estados, al final se incorporó Polonia.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Los Países o Estados admitidos:</a:t>
            </a:r>
            <a:r>
              <a:rPr b="0" lang="es-MX" sz="1600" spc="-1" strike="noStrike">
                <a:solidFill>
                  <a:srgbClr val="000000"/>
                </a:solidFill>
                <a:latin typeface="Arial"/>
              </a:rPr>
              <a:t> son los que  han  solicitado su incorporación como miembros a Naciones Unidas, de acuerdo al procedimiento establecido en Art. 4° de la  carta que establece</a:t>
            </a:r>
            <a:r>
              <a:rPr b="0" lang="es-ES_tradnl" sz="1600" spc="-1" strike="noStrike">
                <a:solidFill>
                  <a:srgbClr val="000000"/>
                </a:solidFill>
                <a:latin typeface="Arial"/>
              </a:rPr>
              <a:t> que la admisión se efectúa por votacion de la asamblea general, a recomendación del Consejo de Seguridad  donde deben concurrir los votos favorables de los 5 miembros permanentes del Consejo de Seguridad. (EE.UU.., Rusia, China, Gran Bretaña, Fra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ara ser admitidos como miembros de Naciones Unidas, la carta contempla condi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er Estados.  Amante de la Paz. Que  el Estado Acepte las Obligaciones  de laCarta.</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sté Capacitado para Cumplir las Disposiciones, y las Obligaciones  de la Cart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Que el Estado este  dispuesto a Cumplir con esas Obligacione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La carta nada dice respecto al  retiro voluntario de </a:t>
            </a:r>
            <a:r>
              <a:rPr b="0" lang="es-ES" sz="1600" spc="-1" strike="noStrike">
                <a:solidFill>
                  <a:srgbClr val="000000"/>
                </a:solidFill>
                <a:latin typeface="Arial"/>
              </a:rPr>
              <a:t>un Estado.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rPr>
              <a:t>La Expul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3:52:58Z</dcterms:created>
  <dc:creator>Gilda</dc:creator>
  <dc:description/>
  <dc:language>en-US</dc:language>
  <cp:lastModifiedBy>Gilda</cp:lastModifiedBy>
  <dcterms:modified xsi:type="dcterms:W3CDTF">2008-07-01T19:44:16Z</dcterms:modified>
  <cp:revision>42</cp:revision>
  <dc:subject/>
  <dc:title>Diapositiva 1</dc:title>
</cp:coreProperties>
</file>