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F86-0CC5-4FB1-B4A1-776FDA9D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785-67AF-49A9-BB4E-7FE16662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3F0-1C69-4C90-9238-C1239EAA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576-2588-4448-B3D5-242DED0B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778-4920-4339-A1A7-E52A85BF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5F8-9C6F-4DE1-8260-D80B049A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9DC-BD28-4365-ACE0-BBC7AE05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848-1D5E-4C87-9AC1-1BE94214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947-1AF0-499F-AA12-9077B902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4AB-E882-497D-A538-5EE25921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A72-3BFE-487C-938E-BD24AD16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0B0-6999-4863-9F86-5A91CD14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C8A5-02DB-490A-941D-3EB113229B6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000000"/>
                </a:solidFill>
                <a:latin typeface="Calibri"/>
              </a:rPr>
              <a:t>Los tratados y los terceros Estad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Regla General: Efecto relativo de los tratados</a:t>
            </a:r>
            <a:br>
              <a:rPr sz="2900"/>
            </a:b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solo crean derechos y obligaciones entre las part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rt. 34. Norma general concerniente 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 tratado no crea obligaciones ni derechos para un tercer Estado sin su consent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so de tratados que prevén obligaciones para terceros Est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35. Tratados en que se prevén obligaciones par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a disposición de un tratado dará origen a una obligación para un tercer Estado si las partes en el tratado tienen la intención de que tal disposición sea el medio de crear la obligación y si el tercer Estado acepta expresamente por escrito esa obl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.-Intencion partes del tra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consentimiento escrito y por expres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 forma un acuerdo co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obligación  para el tercero- nace del acuerdo colat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 es un tratado bilateral que se forma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ención partes tratado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sentimient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so de los derech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Calibri"/>
              </a:rPr>
              <a:t>Art.-36. Tratados en que se prevén derechos para terceros Estados.</a:t>
            </a: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 1. Una disposición de un tratado dará origen a un derecho para un tercer Estado si con ella las partes en el tratado tienen la intención de conferir ese derecho al tercer Estado o a un grupo de Estados al cual pertenezca, o bien a todos los Estados y si el tercer Estado asiente a ello. Su asentimiento se presumirá mientras no haya indicación en contrario, salvo que el tratado disponga otra co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2. Un Estado que ejerza un derecho con arreglo al párrafo I deberá cumplir las condiciones que para su ejercicio estén prescritas en el tratado o se establezcan conforme a és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,. Intención partes conferir a un tercero- un grupo de terceros o a todos los terceros Es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Asentimiento del tercer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. Tratado bilateral Chile Argentina 1881 en su art 5° establece un derecho para todos los terceros Est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ibertad de navegación para los barcos de todos los terceros Estados por el Estrecho de Magal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ocación o modificación de obligaciones o de derechos de terceros Est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 37--1. Cuando de conformidad con el artículo 35 se haya originado una obligación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bligación no podrá ser revocada ni modificada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no con e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entimiento de las partes en el tratado y del tercer Estado,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 menos que conste que habían convenido otra cosa al respec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 Cuando de conformidad con el artículo 36 se haya originado un derecho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recho no podrá ser revocado ni modificado por las partes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 consta que se tuvo la intención de que el derecho no fuera revocable ni modificable sin el consentimiento del tercer Estado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: tratado  cost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fecto generador- desarrollo progresivo del D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sión: Asamblea general ONU Art 13Carta 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dificar y desarrollar progresivamente el DIP por CDI Comisión Derech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 38.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s de un tratado que lleguen a ser obligatorias para terceros Estados en virtud de una costumbre internacional.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 dispuesto en los artículos 34 a 37 no impedirá que una norma enunciada en un tratado llegue a ser obligatoria para un tercer Estado como norma consuetudinaria de derecho internacional reconocida como 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3:45:37Z</dcterms:created>
  <dc:creator>Gilda</dc:creator>
  <dc:description/>
  <dc:language>en-US</dc:language>
  <cp:lastModifiedBy>Gilda</cp:lastModifiedBy>
  <dcterms:modified xsi:type="dcterms:W3CDTF">2008-07-01T19:39:06Z</dcterms:modified>
  <cp:revision>12</cp:revision>
  <dc:subject/>
  <dc:title>Los tratados y los terceros Estados.</dc:title>
</cp:coreProperties>
</file>