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C91-A571-44AC-9482-03E18437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46F-2E93-43F4-B800-9613186D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6EE-1DD4-4EA5-8C2B-93EC2CEA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2D4-3100-49E4-AB6B-995F51F4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FC9-440F-474F-B77C-0F026A14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B5D-243C-4E9D-88E5-10CF8F4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541-23A0-427F-9138-1C9BDE65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D88-6F9C-4310-96C7-A0B1CD3A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9F8-4F95-48ED-9F0D-7C93C24A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F76-B090-4F85-AFD0-83A3224B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EFC-8EDC-4A69-9B87-5DAF9F7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A8B-DED0-4A7C-BD7D-4CBE561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D401-33BC-4BD7-82CE-7177EB30BAA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000000"/>
                </a:solidFill>
                <a:latin typeface="Calibri"/>
              </a:rPr>
              <a:t>Los tratados y los terceros Estad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Regla General: Efecto relativo de los tratados</a:t>
            </a:r>
            <a:br>
              <a:rPr sz="2900"/>
            </a:br>
            <a:r>
              <a:rPr b="0" lang="es-CL" sz="2900" spc="-1" strike="noStrike">
                <a:solidFill>
                  <a:srgbClr val="000000"/>
                </a:solidFill>
                <a:latin typeface="Calibri"/>
              </a:rPr>
              <a:t>solo crean derechos y obligaciones entre las parte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Art. 34. Norma general concerniente 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 tratado no crea obligaciones ni derechos para un tercer Estado sin su consentimient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so de tratados que prevén obligaciones para terceros Esta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35. Tratados en que se prevén obligaciones para terceros Estados.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Una disposición de un tratado dará origen a una obligación para un tercer Estado si las partes en el tratado tienen la intención de que tal disposición sea el medio de crear la obligación y si el tercer Estado acepta expresamente por escrito esa oblig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.-Intencion partes del tra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consentimiento escrito y por expres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 forma un acuerdo colat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obligación  para el tercero- nace del acuerdo colater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 es un tratado bilateral que se forma p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ención partes tratado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sentimiento del ter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aso de los derech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Calibri"/>
              </a:rPr>
              <a:t>Art.-36. Tratados en que se prevén derechos para terceros Estados.</a:t>
            </a: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 1. Una disposición de un tratado dará origen a un derecho para un tercer Estado si con ella las partes en el tratado tienen la intención de conferir ese derecho al tercer Estado o a un grupo de Estados al cual pertenezca, o bien a todos los Estados y si el tercer Estado asiente a ello. Su asentimiento se presumirá mientras no haya indicación en contrario, salvo que el tratado disponga otra co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2. Un Estado que ejerza un derecho con arreglo al párrafo I deberá cumplir las condiciones que para su ejercicio estén prescritas en el tratado o se establezcan conforme a és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,. Intención partes conferir a un tercero- un grupo de terceros o a todos los terceros Es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.- Asentimiento del tercer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. Tratado bilateral Chile Argentina 1881 en su art 5° establece un derecho para todos los terceros Est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ibertad de navegación para los barcos de todos los terceros Estados por el Estrecho de Magal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Revocación o modificación de obligaciones o de derechos de terceros Est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rt 37--1. Cuando de conformidad con el artículo 35 se haya originado una obligación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obligación no podrá ser revocada ni modificada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no con e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consentimiento de las partes en el tratado y del tercer Estado,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 menos que conste que habían convenido otra cosa al respec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2. Cuando de conformidad con el artículo 36 se haya originado un derecho para un tercer Estado, tal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erecho no podrá ser revocado ni modificado por las partes 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si consta que se tuvo la intención de que el derecho no fuera revocable ni modificable sin el consentimiento del tercer Estado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lación: tratado  costu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fecto generador- desarrollo progresivo del D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isión: Asamblea general ONU Art 13Carta 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dificar y desarrollar progresivamente el DIP por CDI Comisión Derech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 38.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Normas de un tratado que lleguen a ser obligatorias para terceros Estados en virtud de una costumbre internacional.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o dispuesto en los artículos 34 a 37 no impedirá que una norma enunciada en un tratado llegue a ser obligatoria para un tercer Estado como norma consuetudinaria de derecho internacional reconocida como 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3:45:37Z</dcterms:created>
  <dc:creator>Gilda</dc:creator>
  <dc:description/>
  <dc:language>en-US</dc:language>
  <cp:lastModifiedBy>Gilda</cp:lastModifiedBy>
  <dcterms:modified xsi:type="dcterms:W3CDTF">2008-07-01T19:39:06Z</dcterms:modified>
  <cp:revision>12</cp:revision>
  <dc:subject/>
  <dc:title>Los tratados y los terceros Estados.</dc:title>
</cp:coreProperties>
</file>