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542F-17FB-4060-8A0E-2C127B612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9489-4102-4DC9-AD8F-0CAB0252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CD53-DB91-40B8-82A0-647C2A88E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0465-0543-479C-862A-E0FAB6C7A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E0DE-5760-4780-A57D-2180A47A4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C15A-6FD1-458B-AAB8-FCA24B05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D21A-7320-4F0A-97AE-D2EF685C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0E12-7342-45A6-A612-F63FB51E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23A9-7924-4970-B74E-617B85D4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F86F-15CE-404A-8463-5A8B861C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AA15-2B5E-48E3-83AA-5A46802E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48B6-A04E-45DC-9C80-44CE6C21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8526-77D4-46BD-8BDE-EFFC8478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0A3A-DBE5-4500-BE65-6DBB9AE1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49B4-A484-4448-9827-6DC930A1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3F4A-DDD1-45FD-A1FD-6D62C8730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775B-F307-41B3-AE3B-7B823322D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533C-DD2A-4822-88FC-FC0AA406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FA06-016D-47F2-B317-B370FDF7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99FE-0D2F-4C99-AECB-7BF01F96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F1C6-4FF5-4950-B3C1-DD3DC43E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D9D0-7C77-4A01-ABA0-9042A2DB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1ECC-D2F2-4A59-AE21-578D795C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686F-E6A4-49E9-86D6-677B8C8E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2B33-2B60-4F90-8F48-FC29E3AE013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029F-B6F2-4AB5-8FF2-F64DD2CC3FD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Derecho Internacional Públic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905120" y="342900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Profesora: Srta. Gilda Cic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21840" y="0"/>
            <a:ext cx="7273440" cy="69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EJECUTIV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ORDEN INTERN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UN PODER EJECUTIV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OBTIENE CUMPLIMIENTO DE LAS NORM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ASEGURA LA APLICACIÓN DE LAS SAN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ORDEN INTERNACIONAL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UNA AUTORIDAD CENT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HAGA OBLIGATORIA LAS NORMAS D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ACCION DEL ESTADO LESION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A INTERVENCIÓN DE OTR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LOS MEDI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DAR EFECTIVIDAD A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DAS QUE PUEDE ADOPTAR EL ES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ETIRO DE AGENTES DIPLOMÁT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UPTURA DE RELACIONES DIPLOMÁTICAS CON ESTADO INFRAC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SPENSION CUMPLIMIENTO DE UN TRA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RECONOCER UNA SITUACIÓN CONTRARIA A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46440" y="557280"/>
            <a:ext cx="8230680" cy="49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TRAS MEDI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OS SISTEMAS DE SEGURIDAD COLECTIVA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RA EXPERIENCIA- SOCIEDAD DE LAS NACIONES-INSUFICI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ECCIONADA POR LA ONU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DE LA CENTRALIZACIÓN SE EXPR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S ATRIBUCIONES DEL CONSEJO DE SEGURIDAD CAPITULO VII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ENTRALIZACIÓN TAMBIEN SE EXPRESA  EN LA FUNCION EJECU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MECANISMO  PREVISTO EN LA CARTA DE LA 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CUMPLIR  LAS SENTENCIAS  DICTADAS POR LA CIJ ART 94-No 2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ALTA DE SAN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DE UN PROCEDIMIENTO JUDICIAL OBLIGATORIO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SOLUCION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LIC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ALTA DE UNA AUTORIDAD CENTR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APLIQUE LAS SENTENC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QUE HAGA CUMPLIR 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96480" y="0"/>
            <a:ext cx="7707960" cy="69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JUDICIAL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DERECHO INTERN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FUNCION CORRESPON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IBUNALES PERMANEN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 CARACTERÍSTIC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OBLIGATORIEDAD DE LA JU7RISDI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JERARQUIZACION DE LAS INSTANCIAS JUDICI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EL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JURISDICCIÓN  ES OBLIGATOR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LOS ESTADOS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HAN ACEPT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RESAME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PUEDEN OTORGAR JURISDICCIÓN A UN TRIBUNA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S  O DESP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URJA EL LITIG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LOS ESTADOS POR LA INTERDEPENDENCIA Y LA GLOBALIZ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VIOLAN EL DIP  CON FRECU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PREVENCIÓN Y SANCION  DE LAS VIOL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ONSEJO DE SEGURIDAD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ENE LA RESPONSABILIDAD PRIMORD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MANTENIMIENTO DE LA PAZ Y SEGURIDAD INTERNACION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 DECISIONES SON OBLIGATORIAS PARA SUS MIEMBR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SOLO EN 1990 POR EL ACTO DE AGRESION DE IRAK CONTRA KUWA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PTO  MEDIDAS  EN EL MARCO DEL CAPITULO VII DE LA ON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93960" y="0"/>
            <a:ext cx="7719840" cy="69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OLUCIÓN PACÍFICA DE LAS CONTROVERSI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P EXIST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OBLIGACIÓN DE SOLUCIONAR LAS CONTROVERS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MEDIOS PACIF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3 Y ART 33 DE LA 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PRINCIPIO DE LA LIBRE ELECCIÓN DE LOS MEDI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UNICO MEDIO DE ARREGLO OBLIGATORIO PARA LAS PAR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EL JURISDIC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RBIT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  JUDICI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RECURSO A ESTE MEDIO ES VOLUNTARI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RECURSORES DEL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OLOGOS ESPAÑO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RANCISCO DE VITORIA SIGLO XV  Y SIGLO XV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ADRE SUAREZ  SIGLO XVI-  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BERICO GENTILI  SIGLO XVI—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MAS IMPORTA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HOLANDES HUGO GROCIO  SIGLO XVI—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S—---MARE LIBERUM—Y DE JURE  BELLI AC PACI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90280" y="0"/>
            <a:ext cx="8242920" cy="69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MUNIDAD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IGEN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ACIMIENTO SIGLO XVI Y XVII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ESTADOS EUROPE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NACE EN LA MODERN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    SISTEMA EUROPEO     ESTADO – N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 RENACIMIENTO EUROPEO     Y  LA  REF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MPORTAMIENTOS OBLIGATO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TIEMPOS DE GUER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TIEMPOS DE PAZ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DEL DIP ACTUAL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  BASAN EN PRACTICAS SOB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MUNIDADES  DIPLOMÁT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SIONEROS DE GUER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RBITRAJES ETC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DAD MEDI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OBLIGATORIAS PARA LAS COMUNIDADES FEUD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MODERNOS EUROPEOS CRISTIAN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PODERIO ECONOMIC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MILITAR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MENTARO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UEVO SISTEM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ÍDICO UNIVERS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UESTO A COMUNIDADES  NO EUROPE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90720" y="380880"/>
            <a:ext cx="8467560" cy="62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ANTIGÜEDAD Y LOS TIEMPOS MODERNO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A DE UN ESTADO UNIVERS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ERECHO ROMANO SE ADAPTA A NUEVAS NECESIDAD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ASI   APAREC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IUS  GENTIUM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JUNTO DE COSTUMBRES CREADAS  Y PUESTAS  EN PRAC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TODOS LOS PUEBLOS  EN EL IMPERIO ROMANO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NACIMIENTO  Y REFORMA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LERAN FIN  DEL SISTEMA FEUD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PAZ DE WESTFALIA  ( 1648 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SO FIN A LA GUERRA DE LOS 30 AÑ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  HOLANDA( PAIS PROTESTANTE) Y LOS PAISES BAJOS( CATÓLICO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MOTIVOS POLÍTICO-RELIGIOSO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PAZ DE WESTFALI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MENTO HISTORICO PO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PTACIÓN DE UN NUEVO ORD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URID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OLIT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RELIGIOSO  EN EUROP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072440" y="533520"/>
            <a:ext cx="7117920" cy="55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MIENZA LA ERA DEL ESTADO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IMPERIO ES REEMPLAZADO POR L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RGEN   GRANDES POTENC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GLATERRA—ESPAÑA—PORTUGAL—FRANCIA—SUECI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LOS PAISES BAJ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E PROCESO EXPRESA  UN NUEVO DERECHO PUBLICO EUROPE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E ESTRUCTURA SOBRE LAS BASES DE UNA COMUNIDA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ORGAN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NCIPIO DE IGUALDAD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RÍDICA DE L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DE LA SOBERANIA TERRITO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ANSION DE IMPERIO ING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LAS INDIAS     Y      EN AMER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 EXPENSAS DE  FRANCIA  Y DE ESPAÑ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99720" y="409680"/>
            <a:ext cx="78750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CIA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 DE JULIO  DE  1776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TIM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MOCRA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SENTIMIENTO  DE LOS PUEBL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UCION FRANCESA  178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DE LOS PUEBL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ISPONER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I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M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DERECHOS 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OMBR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IUDADAN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GRESO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IEN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15.-        RECONSTRUIR   EL   MAPA  DE  EUROP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IDENT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ONRO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23-   ENUNCIA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TRINA  MONRO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--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ÍT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TERIO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RTEAMERICAN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ER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R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MERICANOS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DAD  DE  ITALIA  Y  DE ALEMANIA-   SEGUN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TAD  SIGLO XIX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AMERIC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99 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MIENZA EL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STEM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MERICAN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OHIBICION   FUERZ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LUCION   PACIFICA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LAS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CONTROVERSIA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IFIC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U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ITUCIONALIZACION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UN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CTIV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CESO  DESCOLONIZACIÓN  RESOLUCIÓ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RG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UEV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S E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960 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OLONIZACIÓ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LER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FR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69920" y="328680"/>
            <a:ext cx="482760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 ESTA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ERARQU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RGA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Y ORGANOS CENT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ODER EJECUTIVO-LEGISLATIVO- JUDICIAL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70640" y="2462040"/>
            <a:ext cx="768960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ORGAN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ARI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GUALITAR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HAY ORGANOS CENT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AMBITOS PARTICULAR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CENTRALIZACIÓN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COMUNIDAD EUROPEA  Y CONSEJO DE SEGURIDAD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 FUERTE PODER  DEL CONSEJO EN LA PAZ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ES UN DERECHO QUE RESPONDE A UN MEDIO SOCIAL DIFERENTE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STAN PRESENTES  LAS  FUNCIONES  BAS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UDICIAL   -LEGISLATIVA--  EJECUTIV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 UNA MANERA DISTIN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PROPIADA A LA COMUNIDAD INTERNACIONAL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67400" y="914400"/>
            <a:ext cx="7840800" cy="48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TEGORÍAS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NORMAS QUE RIGEN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S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RELACIONES  ENT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OS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-DERECHO INTERNACIONAL—NORMA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CORTESIA INTERNACIO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EGORÍA NORMATIVA  NO  JURÍDICA.-NO SON NORMAS JURÍD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ACILITAN LA CONVIVENCIA- ENTRE  LOS  SUJETOS INTERNACION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TENIDO DE ESTAS NORMAS ES DE MENOR RELEVANC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NA NORMA DE CORTESÍA PUEDE CONVERTIR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NORMA JURÍD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GUNAS NORMAS DE PROTOCOLO SON U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LOS ESTADOS CUMP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ESTAN OBLIGADOS A HACER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01960" y="0"/>
            <a:ext cx="8038440" cy="70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TRODU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IPLINA DE LAS RELACIONES INTERNACI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O DEL DIP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ÍDICA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CIONE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LO XVIII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RIS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RITÁNIC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REMI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NTHAM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ZO  L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RES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INTERNATION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W”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QUEDO COMO DER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ÓN  DEL  DIP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 LAS RELACIONES ENTRE LOS ESTADOS INDEPENDI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ÓN INCOMPLE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MBIÉN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LACION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R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JET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SANTA SE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ORGANIZACIONE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GRUPOS NACIONALES INSURREC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INTERNACIONAL PUBLIC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DERECHO INTERNACIONAL PRIV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ISTINCION ENTRE  AMBOS, EN CUANT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 CONTEN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U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METO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60480" y="609480"/>
            <a:ext cx="8366040" cy="54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LASIFICACION DE LAS NORMAS JURÍD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VEN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SUETUDINA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BILATERALES—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MULTILATE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PARTICULA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ENE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 PARTICULAR—OBLIGAN  A UN GRUPO DETERMINADO DE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GENERAL.—OBLIGAN A  TODOS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QUE OBLIGAN A TODOS LOS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NORMAS CONSUETUDINARIA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ERTOS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EXCLUYEN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A APLICACIÓN DE UNA NORM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PROCESO PREVIO A LA POSITIVAC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HAZ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PRECED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EL ESTADO   RECALCITRANTE  U   OBJETOR PERSISTENTE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90720" y="380880"/>
            <a:ext cx="815328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DISPOSITIV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MPERATIVAS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ISPOSITIVA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JURÍDICAS OBLIGATO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TEN ACUERDO  EN CONTR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DOS ESTADOS CONVIENEN UNA RENUNCIA BILATERAL  A   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MUNIDAD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 JURISDICCIÓN.-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 IMPERATIVAS.-O DE IUS COGEN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 JURÍDICA OBLIGATO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NO ADMITE ACUERDO EN CONTR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O ACUERDO EN CONTRARIO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NUL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-PROHIBICION DEL USO DE LA FUERZA ETC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U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UTONOMI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D  DE  LOS 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RA CONSAGRACIÓN POSITIVA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 53   CONVENCION DE VIENA SOBRE DERECHO DE LOS TRATADOS 1969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ART 53 DEFINE  LA NORMA IMPERATIV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89640" y="380880"/>
            <a:ext cx="7260120" cy="62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INIO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RESERVADO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LOS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ESTADOS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O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COMPETENCI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ESTIC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MBITOS ESTATALES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DE NO  HAY   NORMA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PRESCRIBAN  DETERMINADOS  COMPORTAMI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INIO REGLADO DEL   ESTADO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ESTADO CELEBRA UN TRATADO SOBRE UNA MATE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SUME UNA OBLIGACIÓN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QUE LIMITA  SU ACCION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OMINIO RESERVADO  EN EL DIP CLÁSICO ERA MAS AMPLI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Y POR LA GLOBALIZACIÓN Y LA INTERDEPEND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LEBRAN TRATADOS SOBRE DISTINTAS MATE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LAS QUE ACTUAN DE ACUER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LAS OBLIGACIONES CONTRAÍDAS EN LOS TRATADOS.-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ESTADO REGLA SU COMPORT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NORMAS INTERNACION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 PERDIENDO SU DOMINIO RESERVAD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DDHH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584360" y="392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76400" y="1219320"/>
            <a:ext cx="722772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RATO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NACIONAL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IN LIMITE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NJER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NIMO 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ESTADO NO RESPETA STAN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S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NIMO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NJERO RECURRE DE AMPARO O PROTECCIÓN DIPLOMÁT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U ESTAD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HH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APAREC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ERENC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 DEBE TRATA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CIONAL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TRANJER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GÚ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AD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R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HH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UMIDO.-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71000" y="712800"/>
            <a:ext cx="770508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RECHO INTERNACIONAL PRIV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UCIONAR CONFLICTOS DE LEYE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INTERVIEN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NO O MAS ELEMENTOS EXTRANJER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XISTAN VARIAS LEGISLACIONES CONCURR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ERECHO INTERNACIONAL PRIVA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 LA SOLUC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SLACIÓ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CION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UENTR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  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EN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SLACION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 QUE PUEDEN CODIFICARS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A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CODIGO DE BUSTAMANTE   AÑO  192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ONTENID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BR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STINATARI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RTANT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  Y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MPLEN 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RINGEN  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DIP  OPERA EN LA COMUNIDAD 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0"/>
            <a:ext cx="8153280" cy="64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RACTERÍSTICAS  DE LA COMUNIDAD  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PRESENCIA DE SUJETOS DE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ANTA SE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RGANIZACIONE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RUPOS INSURRECTOS RECONOCIDOS COMO BELIGERANT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ESTRUCTURA—PARI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HAY SUBORINACION ENTRE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NCIPIO-   IGUALDAD DE LOS ESTADOS ANTE EL DIP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DEPEND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BER DE NO INTERVENCIÓN EN LOS ASUNTOS DE OTROS ESTADOS.-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NUMERO DE SUJETOS—REDUC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- AMBITO—UNIVERS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- INORGÁ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EXISTEN ORGANOS DE CARÁCTER ESTABLE Y PERMAN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- DESCENTRALIZAD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- COMPOSICIÓN-INTERESTAT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66680" y="609480"/>
            <a:ext cx="6416640" cy="54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ACIÓN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CARACTERIZADO P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ARENCIA  DE  INSTITUCIONES ( INCERTIDUMBRE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SUFICIENTE  LA SANCION DE LAS VIOLACION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EXISTE UN PODER LEGISLATIV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ASAMBLEA GENERAL ADOPTA RESOLUCIONES NO OBLIGATO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CIONES DE COMPORT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NER LOS MEDIOS PARA UN RESULTADO SIN EXIGIR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SOLUCION DE CONTROVERS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CIONES DE RESUL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NEN EL DEBER DE ALCANZAR  UN F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NO RECURRIR A LA AMENAZA O AL USO DE LA FUERZ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90720" y="0"/>
            <a:ext cx="8153280" cy="68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FINICIÓN DEL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IDENTIFICAR DENTRO DE TODAS LAS NORMAS JURÍDICA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REGLA DE DIP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DEFINIR EL DIP  POR SUS DESTINATARIO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:  CONJUNTO DE NORMAS QUE REGULAN LAS RELACIONE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SUJETOS DEL DIP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 DEFINIRLO POR EL CONTENIDO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DEFINIRLO POR LA CREACIÓN DE LAS REGLAS-POR SUS FUENTE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PRESCINDE DE LA 1ª  PORQUE EL DIP SE REFIERE A LA RELACION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D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SE DESCARTA EL CRITERIO MATERI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PORQUE EL CONTENIDO DEL DIP  ES CAMBIANTE- FLUID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EJ PROTECCIÓN DE LOS DERECHOS HUMANO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EN 1789  FUERON OBJETO DE UNA DECLARACIÓN DE LA ASAMBLEA 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ITUYENTE FRANCE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Y EL 10- DE  DICIEMBRE DE 1948 SON PARTE INTEGRANTE DE L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DECLARACIÓN DE LA ASAMBLEA  GENERAL DE LA ONU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Y EL 4 DE  NOVIEMBRE  DE 1950, RECIBEN  UNA  PROTEC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INTERNACIONAL EFECTIV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POR LA CONVENCIÓN SOBRE SALVAGUARD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DE LOS DERECHOS DEL HOMBRE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ADOPTADA  EN EL MARCO DEL CONSEJO DE  EUROP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74960" y="0"/>
            <a:ext cx="8187480" cy="75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UE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FINIR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ER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RQU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RESPONDER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UEV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ALIDAD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EXIST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G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MENTO FIJ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AMB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 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CEDENC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 DEFIN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CONJUNTO DE NORMAS POSITIVAD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LOS PODERES NORMATIVOS DE L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UNIDAD INTERNAC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ISPRUDENCIA  HA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ONES DEL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LA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RISTAS   FUNDAMENTAN  EL 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VOLUNTAD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LA 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Z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 CORT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ANENT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IC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AC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O LOT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IG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LACION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DEPENDIENT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NCULA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D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D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D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IFESTAD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VENCIONES O EN US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EPTA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MENT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AGRADORES 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INCIPIOS  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 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ECIDOS CO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R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EXISTENCIA 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S COMUNIDAD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IENT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SECUCIÓ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ES COMUNES.-“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DEFINICIÓ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 COINCIDE CO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JURISPRUDENCIA INTERNACIONA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 HA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VENCION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I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ETUDINARI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LIC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ENER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RECH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Y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SG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ESNCIA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A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D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HÍ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G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RISDICCIONE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LICA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ICI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SUELVAN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EP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R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CION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.: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BUENA F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Y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ZGAD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N TAMBIEN LOS PRINCIPIOS PROPIOS DEL DIP  ART  2  DE LA CARTA DE LA ONU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082880" y="0"/>
            <a:ext cx="7968240" cy="68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L DIP Y LAS NORMAS DE CORTESÍA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SE DISTINGUE  DE LA MORAL O CORTESÍA INTERNACION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POR LA RESPONSABIL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POR  EL GRADO DISTINTO  EN LAS SANCIONE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VIOLACIÓN DE UNA NORMA INTERNACIONAL ACARREA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ABILIDAD INTERNACIONAL 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VIOLACIÓN DE UNA NORMA DE CORTESÍA INTERNACIONAL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IMPLICA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ABILIDAD INTERNACIONAL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O REPULSIÓN DE LA OPINIÓN PUBLIC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 DE CORTESÍA INTERNACIONAL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EMPL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  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ALUDAR BANDERA-BUQUES DE GUERR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SAR PAPEL BLANCO CORRESPONDENCIA DIPLOMÁTIC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NORMAS DE  CORTESÍA –LOS USOS INTERNACIONAL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TRANSFORMAN EN NORMAS JURÍDICAS INTERNACIONAL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AL ELEMENTO MATERIAL SE  UNE LA  OPINIO JURI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 LA CONVICCIÓN DE QUE LOS US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N JURÍDICAMENTE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INMUNIDADES Y PRIVILEGIOS DIPLOMÁTICOS NACIERON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A MANERA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DEL DIP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MENTAR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 RELACIONE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LOS SUJET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OMUN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      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93600" y="380880"/>
            <a:ext cx="7486920" cy="60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ES LEGISLATIVA-  EJECUTIVA  Y JUDICIAL  EN EL 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 FUNCION LEGISLA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P NO EXISTE UN ORGANO LEGISLATIVO CENTRALIZADO 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ANENT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EN DERECHO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LEGISLATIVA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DESCENTRALIZ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VOLUNTAD DE LOS ESTADOS EN LA CREACIÓN DE LA N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SE MANIFIESTA EN EL DERECHO CONVENCIONAL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LOS TRATADOS SOLO OBLIGAN A LOS ESTADOS PAR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LA COSTUMBRE- CONDUCTA COINCIDENTE DE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DERECHO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CREACIÓN DE LA NORMA NO PARTICIPAN SUS DESTINATA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LES IMPONE LA N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CREAN LAS NORMAS Y ELLOS SON LOS DESTINATARI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01:13:57Z</dcterms:created>
  <dc:creator>Héctor Escobar</dc:creator>
  <dc:description/>
  <dc:language>en-US</dc:language>
  <cp:lastModifiedBy>GILDA CICCI SALAZAR</cp:lastModifiedBy>
  <dcterms:modified xsi:type="dcterms:W3CDTF">2004-03-20T23:55:20Z</dcterms:modified>
  <cp:revision>21</cp:revision>
  <dc:subject/>
  <dc:title>Derecho Internacional Público</dc:title>
</cp:coreProperties>
</file>