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5EF4F-0860-4EF8-8849-417925D9D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0EB92-091B-4898-A3FC-6B9385E3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DE1E2-DA26-4A9D-A70E-8C22085C5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24F97-D555-42A9-A9C6-5A9702858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1B789-5073-4DF9-B2D0-8BF9FC02C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556FA-412E-459E-82EC-E60D2908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43183-8472-446F-A875-374078DA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E8DC-00A4-4EA6-9F07-1C6695940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4AC72-F300-4DBA-B47A-FDC1779DA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C06C-FA33-4EC7-BE5E-33BE4C9E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9FF5A-FC38-41DB-82CA-4A3B1DB96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5E70-8942-4B2B-BF39-9E66B3B31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0512-D940-4457-8E83-65EC7318465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1T19:58:45Z</dcterms:modified>
  <cp:revision>7</cp:revision>
  <dc:subject/>
  <dc:title>Aplicación de tratados sucesivos concernientes a la misma materia.</dc:title>
</cp:coreProperties>
</file>