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80F-5000-46C4-B483-8E4E8E52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8DD-BE9D-401D-879F-A86D1FAC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11D-46B8-458D-A9B2-56C5DD59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989-6879-4EF7-A01B-F04E21A2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5EB8-0688-4883-AEBD-C3C423FC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1192-6688-4C39-8921-996D5383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E52C-AB0A-425C-A5EA-3FE7A879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239D-881D-4C98-9D86-71541FD9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45D3-0D31-45D7-B66A-7E9AA5F4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278E-0464-4F7F-A322-108B8629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555F-1765-4F16-8EB1-FF907712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BFD-BAAD-4314-BD35-D7F66F00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2879-136C-4E0F-A0A0-68A563AE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D38A-0B02-4062-9FD5-2F5EE71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11DB-62D7-46EE-BE47-CEB5A0E0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9560-E35C-49DE-B5A3-82C14230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3709-E918-4BBB-8564-CEAA6D53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A19-06EA-43EF-AFC6-4DC8D4A0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C03-56C1-4498-A87A-60A89EF0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02E-5A3E-4E9D-BB0E-34356CE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543-6A93-4133-A5D9-463DC415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B60-C1F8-4FE7-B56D-E55E126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781-706B-46BE-9DE2-C624538B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CA2-AFDD-48C6-92BA-4A390DE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5414-318B-49DB-A9A3-0E65F6CCAC2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F7EF-9F06-4C21-B0C5-10D2C58EAF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Fuentes del Derecho Internacional Públic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0000" y="42552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entre normas jurídica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14444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hay jerarquía entre tratados y costu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n principios que se deben aplicar en caso de conflictos entre normas jurídicas internacion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º Normas de IUS COGENS: Normas Imperativas de Dº Internacional General (ver artículo 53 convención de Viena sobre Dº de los Tratados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º no tratándose de normas de Ius Cogens se acude a los siguientes princip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.- Ley Especial Deroga a la Ley Gene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.- Ley Posterior Deroga a la Ley Anteri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Tratados y Costumbres pueden derogarse recípro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Generalidades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3480" y="1447920"/>
            <a:ext cx="794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de los cuales emanan los principios y normas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MATERI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históricos, políticos, económicos, sociales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ológicos y otros que han ido determinand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de las normas del 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FORM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Procedimientos, medios, o actos a través de los cuales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n, modifican, o extinguen las normas del D.I.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AS FUENTES FORM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7160" y="669960"/>
            <a:ext cx="801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EN EL AMBITO INTERN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Las normas l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el Poder Legislativo en su sistem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EN EL AMBITO DE LA COMUNIDAD INTERNACIONAL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Dado su carácter desentralizado no hay un poder legislativ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CLASIFICACIO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CONVENCIONAL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RATADOS)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EXPONTANE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STUMBRE Y PRINCIPIOS GENERAL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 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FUENTES AUTORIT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ON UNA EXEPC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distinguir:  LA FUENTE (Procedimiento por el cual se crea la n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  LA NORMA MISMA ( Substancia de la reg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da).  Asi los TRATADOS da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en a las NORMAS CONVENCIONALES, y la COSTUMBRE, a las NORM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UETUDIN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LASIFICACION DE LAS NORMAS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1905120"/>
            <a:ext cx="809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DE CARACTER GENERAL ,ABSTRACTO Y PERMAN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todas las situaciones concretas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resentarse en el futuro. (Normas Consuetudin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es, ejemplo responsabilidad internacional por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ícito, y principios generales de derecho).  Hay también normas convencionales de carácter general y abstracto, ejemplo 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ción de ONU  sobre el Derecho del Mar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DE CARACTER PARTICUL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situaciones determinadas, ejempl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 de Paz y Amistad de Chile y Argen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ANALISIS DEL ARTICULO 38 DE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ESTATUTO DE  LA CORTE INTERNACIONAL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DE 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JUSTICI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557360"/>
            <a:ext cx="825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actualmente vigente, tomado del estatuto de la corte permanente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 internacional de 1920, que, aunque no lo dice expresamente s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iere a fuentes formales de derecho internacional Públic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exto del artículo 38 es el sigui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1.- LaCorte cuya función es decidir conforme a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las controversias que le sean sometidas, deberá aplic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Convenciones Internacionales, sean generales 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cen reglas expresamente reconocidas por l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dos litig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La Costumbre internacional como prueba de una practica ge-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almente aceptada como derech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1233360"/>
            <a:ext cx="8093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  Los principios generales de derecho reconocidos por l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es Civilizadas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- Las Deciciones Judiciales y las Doctrinas de los publicista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r competencia de las distintas naciones, como medi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 para la determinación de las reglas de derecho si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juicio de lo dispuesto en el arti. 59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La presente disposición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nge la facultad de la Corte par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r un letigio ex aequo et bono, si las partes así lo convinie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CTERISTIC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parrafo 1º del art. 38 , nos revela que se esta refiriendo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ntes de D.I.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IMPORTANC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762120"/>
            <a:ext cx="792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universalidad, porque es norma vigente para los 191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os miembro de la ONU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s la unica norma vigente sobre esta materia, además se alude a ella en la Convención del Derecho del M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Y es aplicada por Tribunales y Tratadis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que comprende 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verdaderas fuentes formales (Tratados, costumbre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generales del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.- los medios auxiliares para la determinación de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urisprudencia y Doctrina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.-- La opción de solicitar se falle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idad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Parrafo   2º del art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)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la mayoria opina que la equidad no es una fuente  de D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RITIC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75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No incluye todas las fuentes de DIP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No contempl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rqui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fuent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ARA NOSOTROS   ES MAS UNA VIRTUD QUE UN DEFECT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3.- Coloca en un mismo parrafos fuentes y medios auxiliares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4.- Parece dar la misma importancia a doctrin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.;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nte el destacado papel de esta últim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5.- Emplea una expresión ya superada como es Naciones Civilizad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83480" y="492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DE LAS FU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55412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artículo 38 del Estatuto se abstuvo de establecer una jerarquía entre las Fuentes formales princip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) En el proyecto de la convención se establecía que la aplicación de estas fuentes había de hacerse “por orden suscesivo”, la Asamblea General decidío suprimir dicho inciso por considerarlo inneces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Usa letras para design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Solo establece un orden sucesivo de consideración (es un método operativo, no indica jerarquía, el tribunal puede aplicar varias fuentes en un mismo c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23:54:51Z</dcterms:created>
  <dc:creator>Héctor Escobar</dc:creator>
  <dc:description/>
  <dc:language>en-US</dc:language>
  <cp:lastModifiedBy>Andres</cp:lastModifiedBy>
  <dcterms:modified xsi:type="dcterms:W3CDTF">2005-07-07T20:30:17Z</dcterms:modified>
  <cp:revision>16</cp:revision>
  <dc:subject/>
  <dc:title>Fuentes del Derecho Internacional Público</dc:title>
</cp:coreProperties>
</file>