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533-6A1F-4348-9D22-DC6042A7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836-274C-4BBA-AFF2-E348457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77D-1843-4C8A-99F2-23077BE2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7E2-6BCA-4CEC-8FEF-D677818C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BE41-C03D-417E-A8DD-39909D5A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DFDF-6C73-4D6C-B8E8-6CCEF692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7B94-02C6-4DCF-B645-002C4DF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F38A-4C68-453C-B840-0AE4CE9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340C-CA87-42C6-88F6-DD3AD461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A99-9182-48D4-ABC8-2E6756D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1925-9373-4664-9FF3-ED2BB82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D95-27BA-4D86-8E34-83103150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7E2E-CA6F-476E-B6B8-8FCC0B3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6574-DDDD-4122-A888-7A428DF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8742-7E74-4AEE-8142-3F52134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DCC6-5A33-469C-8F86-0C312E27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88C2-479F-4FFB-B3DA-B86BD298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7B0-2A3E-46D5-AC38-0F0D3692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98F-E5F6-4A3C-B697-576E7099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C3E-0875-4A05-8CA6-70E739E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1C0-FC2A-4BC0-A667-C47C927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A17-C4EF-4402-BAEF-98D2823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046-CEFF-4646-9D22-DCF52CB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C5D-DA27-4D8F-8C65-7BCD31D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8BCB-DB6A-4524-ACBD-C2B1A06F7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EACD-441C-4E30-80F4-3FA4EBFAC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UENTES NO CONTENIDAS EN EL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RTICULO 38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0840" y="1447920"/>
            <a:ext cx="7712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s de Reconocimient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lidad de insurrectos, de beligerantes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evos estados y gobiern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ones territori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tensión de un tercer estado sobre extensión del Mar territo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ineas de base rec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idad de una persona otorgada por otro es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</a:t>
            </a:r>
            <a:r>
              <a:rPr b="0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Protesta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edio por el cual un Estado procura impedir que se forme un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umbre o un estado de cosas que le sea perjudicial, seacon referencia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determinada o a una pretensión de un tercer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contrapartida del reconocimiento; aquí no se admite o reconoce com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o un acto, pretención o situ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e evita que se estime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cio implique reconocimien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Pese a ser un acto unilateral se dirig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tro sujeto de derecho internacional, que se ha hecho culpable de u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ación o amenaza contra el Estado autor  de la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e ser clara, frente a una situación bien determinada y pronta  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lazo razonabl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 importante el elemento repetición la cual debe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as veces como sea necesari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l silencio puede dar lug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oppe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Asi Argentina protesta en forma continua de la ocupación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slas MALVINAS por Inglaterr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99072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 caso es el del templo de Preah Vigar en el cual el silencio de Siam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ilandi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al trasado de la frontera Siam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boya hecho en u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a por oficiales franceses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aba aceptación por parte de Siam pai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o tra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n este caso no hubo reacción en un plazo considerab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casos de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l gobierno del Presidente Gonzalez Videla proclamó la doctri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200 millas, hubo protestas de diversos Estad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e proclamó por Chile la linea de base recta hubo una protes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entin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riormente por tratado de Paz y Amistad Argentina reconoció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a linea de base rec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Gobierno de Chile protestó en Junio de 1989 por la resolución 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de expulsar al S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chanan, en vez de cumplir el procedimie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dición pedido por Chi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5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Renunci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523880"/>
            <a:ext cx="786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declaración unilateral mediante la cual un Estado abandona un der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facultad, una pretensión u otra reclam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r abandono de derecho no se presum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n el caso del lotus se dijo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limitaciones a la independencia no se presumia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n el tratado de Paz de 1951, Japón renunció a toda pretensión 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quier derecho sobre cualquier parte de la Antárt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 puede ser expres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érminos explícitos o formales o táci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parece inequivocamente la intención de renuncia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derechos que pude renunciarse estan los territoriales, l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raciones, la reclamación por violación a inmunidad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s,etc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OS ACTOS JURIDICOS INDIVIDUALES</a:t>
            </a:r>
            <a:r>
              <a:rPr b="1" lang="es-E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914400"/>
            <a:ext cx="7864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anifestaciones de voluntad que provienen de un solo sujeto de der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y que producen efectos en elorden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ividen e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s estatales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s de organizaciones internacional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Jurídic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ueden ser considerados como fuentesde derecho internacional?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os actos estatales ¿en que medida y bajo que f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ir fuentes de derecho y producir efectos contra otros estados que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participado ni consentido en elllos?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as organizaciones internacionales, su naturaleza de fuente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pende de los poderes que se les otorgaron en sus act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tiv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TOS JURIDICOS UNILATERALES DE LOS  ESTADOS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8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ser fuentes de derecho internaciona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o de estos actos para que se consideren autenticos act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laterales y fuente de derecho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an la manifestación de voluntad de un solo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 validez sea independiente de otros actos juridicos,o sea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te de actos autónom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i dependen de otro acto jurídico, ya no es 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erecho acto unilater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La reserva, la adhesión, l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aceptación de competencia de la CIJ, según el 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de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tu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tengan en derecho significación de carácter internacional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jurídica respecto de ese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ta situación está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da por el derecho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19320"/>
            <a:ext cx="771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 general son actos escritos como exepción se cita la declaración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 de Relaciones Exteriores de Noruega S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EN en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 oriental, por la que hizo saber al Ministro de Dinamarca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bierno Noruego no pondria dificultades al arreglo del asu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, de manera que no reclamaba territorios en esa Isl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ayos nucleares en la atmósfera, tenia elementos verbales y escritos so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t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mes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onocimient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test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Notificación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778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por el cual el estado comunica oficialmente a otro un h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, una acción o un documento, que produce efecto de derecho y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á en consecuencia desde ese momento legalmente conocido por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ario²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La notificación que Chile hizo del Decreto que delimitaba sus lineas de base rec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r certeza leg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ativa, 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Ruptura delas relaciones diplomáticas 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neutralidad, reconocimiento de estado y de gobiern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37160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ori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los ejemplosque van a continuación puede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rse como no auténtic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Minas submarin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ya-1907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bloqueo;declaración de Londres -1909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al Secretario General de la ONU sobr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jurisdicción voluntaria de la CIJ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es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envío de expedición a la Antártic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ártico 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7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9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Promes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claración unilateral de voluntad por la cual un estado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adoptar un determinado comportamiento en el futuro HL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uy pocos los casos de promesas; por lo general los estado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siones espontaneas y gratuit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tenga efecto jurídico es necesari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fectue publicament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 intención de obligars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necesario que de dirijan a un estado determinado ni se requier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otro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2952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Groenlandia Oriental; el Ministro IHLEN declaró que su pai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ria territorio en Groenlandi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los ensayos nucleares; el Presidente de Francia y su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s de Relaciones Exteriores declararon que su pais se ab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ri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nsayos nucleares en la atmósfer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declaraciones oblig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ado que las hizo en las condicion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das basadas en el principio de buena fé y en la obligación de respet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convicciones que se han hecho nacer por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l Reconocimiento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44792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mediante el cual se admite como legitimo un determinado estad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s o una determinada pretens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acto discrecional; es el acto opuesto a al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 legitimidad a un acto o situación; éstos pasan a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nibles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 lo reconoció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 efecto declarativo transforma una situación de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situación juríd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a en términos explícitos y formal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áci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e desprende de actos o conductas inequivoc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jemplo mantención  de agentes diplomáticos frente a un nuevo gobiern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27:32Z</dcterms:created>
  <dc:creator>Héctor Escobar</dc:creator>
  <dc:description/>
  <dc:language>en-US</dc:language>
  <cp:lastModifiedBy>Gilda</cp:lastModifiedBy>
  <dcterms:modified xsi:type="dcterms:W3CDTF">2008-07-02T06:00:04Z</dcterms:modified>
  <cp:revision>2</cp:revision>
  <dc:subject/>
  <dc:title>FUENTES NO CONTENIDAS EN EL  ARTICULO 38 </dc:title>
</cp:coreProperties>
</file>