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D354-11A8-4A99-ADE8-DA1AC5B0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ADD9-6D39-419D-B523-CDDEC55A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5992-02C6-43CF-AA0C-3C5951B7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391F-3570-4990-968A-6A6EAA7A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D869-84DC-4016-B156-46C42D6B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F1DA-A730-4F74-8E08-7DEAC117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765B-9443-4D0B-9CEB-3C1272B4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A2AB-EDEE-44EE-B9B4-ABBCD99A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ECC8-AF6E-43FF-9328-D8818548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FADC-7355-4C8C-B1C3-AC0FC0CB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EBF6-92BB-4B4B-A37B-24BADC49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527B-E1BE-4432-9C1C-89F247E2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CD24-1AC0-4FDE-9A8D-FCD22108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F7A6-D3C2-43B4-85D3-5D4FF0D8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AAF5-72C7-406A-B5B6-1568D75C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F359-52D9-4348-9EF7-67B5EDC5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F6F5-651F-44C6-BAD2-CCEDAD32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A9DA-9438-4423-9E97-743F08FD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2F37-3279-4555-9F4F-BB30A35B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B716-18A3-4722-88C5-FC876DED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5BF9-4D23-42D6-92B2-871C7F5A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98BC-C0B2-4E21-8F30-B0D2A516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1F2F-4A0E-4D72-9C01-43C37535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39F7-8D96-48E0-AECB-A1AD7986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13A5-CE2E-4EA9-9380-83B49017A4C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8EBB-59FE-4F35-8023-709C29FCBD3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748836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e941c"/>
                </a:solidFill>
                <a:latin typeface="Times New Roman"/>
              </a:rPr>
              <a:t>LOS PRINCIPIOS GENERALES DEL DERECHO RECONOCIDOS POR LAS NACIONES CIVILIZAD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77691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y, por consiguiente,insta a todos los Estados a que se guíen por esos  principios en su comportamiento internacional y a que desarrollen  sus relaciones mutuas sobre la base del estricto cumplimiento de esos principios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74898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Es fuente principal de D.Int.P.(en el hecho es fuente subsidiaria: normalmente se acudirá a ella cuando no se encuentren normas en tratados o costumbres, aplicables a un caso determinad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b7e7ff"/>
                </a:solidFill>
                <a:latin typeface="Times New Roman"/>
              </a:rPr>
              <a:t>CONCEPT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000" y="1676160"/>
            <a:ext cx="80722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son" principios que existe y estan establecidos en el derecho interno de los estados"(Quoc Dinh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o de "cierto numero de principios que constituyen el fondo común de todos los sistemas jurídicos"(Paúl Reut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b7e7ff"/>
                </a:solidFill>
                <a:latin typeface="Times New Roman"/>
              </a:rPr>
              <a:t>CARACTERISTICA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7263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s una fuente primaria y autónoma de D.Int.P.; tiene una existencia independiente de los tratados y la costumb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Su objetivo es dar normas jurídicas que solucionen los casos no contemplados en dichas fue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No se trata de una aplicación completa y exacta de normas de diferentes ordenamientos jurídicos, sino de retener su espíritu común, sus aspectos esenciales y razonar por analog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b7e7ff"/>
                </a:solidFill>
                <a:latin typeface="Times New Roman"/>
              </a:rPr>
              <a:t>SITUACION ACTUAL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7812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Hoy han perdido importancia como fuente ya que gran parte de ellos se encuentran incorporados en el derecho internacional convencional o consuetudinario (entre otros, la buena fe, lo pactado obliga, la autoridad de cosa juzgada, nadie puede ser juez y par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77691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n el caso Barcelona  Traction, a falta de  norma convencional o consuetudinaria, se acudió a los principios generales, y se distinguió entre sociedad y accionistas, y se concluyo que la demanda debía ser dirigida a la sociedad  y no a cada uno de  los soc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762156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NO DEBEN CONFUNDIRSE CON LOS PRINCIPÌOS GENERALES DEL DERECHO INTERNACIONAL PUBLICO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stos son aquellos principios generales establecidos o que se deducen de las costumbres y convenciones en vigo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e manera que son normas que están en vigencia internacional. 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75182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Vamos a  estudiarlos..en su oportunidad y  se encuentran, principalmente, en la resolución  Nº 2625. De 24 de Octubre de 1970 y se tit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"DECLARACION SOBRE LOS PRINCIPIOS DE DERECHO INTERNACIONAL REFERENTES A LAS RELACIONES DE AMISTAD Y A LA COOPERACION ENTRE LOS ESTADOS DE CONFORMIDAD CON LA CARTA DE LAS NACIONES UNIDAS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7848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n su parte final esta Declaración dice: " Los  principios de la Carta incorporados a la presente Declaración constituyen principios básicos de derecho internaciona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01:44:15Z</dcterms:created>
  <dc:creator>GILDA CICCI SALAZAR</dc:creator>
  <dc:description/>
  <dc:language>en-US</dc:language>
  <cp:lastModifiedBy>GILDA CICCI SALAZAR</cp:lastModifiedBy>
  <dcterms:modified xsi:type="dcterms:W3CDTF">2006-05-31T03:59:49Z</dcterms:modified>
  <cp:revision>18</cp:revision>
  <dc:subject/>
  <dc:title>    LOS PRINCIPIOS GENERALES DEL DERECHO RECONOCIDOS POR LAS NACIONES CIVILIZADAS   </dc:title>
</cp:coreProperties>
</file>