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3AA-C959-4477-82BD-245F0EAA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D6AB-3E8B-441A-ACAF-FD493D62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9177-15B7-4938-9264-D42DF959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98CB-5241-43ED-A1BF-0EE703F2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CBA0-5F3E-4A9B-A113-FAAFA032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9A31-0D2F-4A01-8F54-80F8463E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AE2D-349D-4C2B-8C71-C28360CE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12CC-BE12-4212-8B39-8587348C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6A12-B053-4524-B9D9-894C3ECD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4DD4-C78C-4314-A3F6-A5ED49E6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5BE4-FD8B-41EF-8C4E-6C456072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A2C-6DB8-4E0F-A1DE-D7D2992F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568A-B95D-42FA-8EEA-B79956D9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1523-E478-49AC-A616-099E549A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A6B6-97CB-41FF-8CD2-A0A8ED1D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FEE0-0766-4C08-8192-32B11664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2DA3-988B-44AD-AC83-F6CCD01B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4B4D-6B41-47C2-BC80-2AEB6556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AC92-2061-4783-8296-E41E3965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F0DC-42BD-4853-AA5A-7E077E3C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C0F5-D1DA-4783-949B-412CF706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63B-CE39-45A1-8E2D-7A60BDF8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1AB-3822-4A29-A460-B95A49E2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DA54-8229-42F1-82DE-162E334C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BD27-5B3A-49A1-B842-E3D7B57C2F1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F615-3189-45A0-8544-77B76448F56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380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MX" sz="3600" spc="-1" strike="noStrike" u="sng">
                <a:solidFill>
                  <a:srgbClr val="ffcc66"/>
                </a:solidFill>
                <a:uFillTx/>
                <a:latin typeface="Book Antiqua"/>
              </a:rPr>
              <a:t>G</a:t>
            </a:r>
            <a:r>
              <a:rPr b="1" lang="es-ES" sz="3600" spc="-1" strike="noStrike" u="sng">
                <a:solidFill>
                  <a:srgbClr val="ffcc66"/>
                </a:solidFill>
                <a:uFillTx/>
                <a:latin typeface="Book Antiqua"/>
              </a:rPr>
              <a:t>RAFICO  RELACIONES  ENTRE EL DIP Y EL DERECHO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22856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 PROBLEM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RELACIONES ENTRE EL DIP  Y EL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RON OBJETO DE UN DEB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NFRENTÓ A  DOS  ESCUE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UAL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 EL  MON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buClr>
                <a:srgbClr val="ffcc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L DUALISMO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-         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Y  EL  MONISMO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TA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 UNA EXPLIC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S CONFLICTOS  Y REL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EL  DIP  Y  EL  DERECHO  INTERN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L DIP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S MONISTA NI DUAL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ESTADOS LOS QUE OP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ORMA COMO LOS ESTADOS INCORPORAN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UN TEMA DE LOS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TEORÍA  DUALISTA  SOSTEN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L DIP  Y EL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AN DOS SISTEMAS  JURÍD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DISTIN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SEPA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INDEPEND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1.-  CON SUJETOS  DISTIN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-DIP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OS-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2.-    CON FUENTES DISTINTA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-ART 38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O-LEY-CONSTITUCION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APLICA A LAS RELACIONES ENTRE LOS ESTAD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IP Y EL DERECHO INTERN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ON SISTEMAS JURÍDICOS DIFEREN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SE SUPERPON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MBOS  OBLIGAN DENTRO DEL ORDEN JURÍDICO AL QUE PERTENECE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PUEDE HABER CONFLICTO ENTRE AMBOS DERECH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SUPERPONIAN  POR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IMPLICA LA ACTIVIDAD DE DOS O MA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L DERECHO INTERNO IMP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ACTIVIDAD DE UN SOLO SUJ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A TRAVES DE LA  CONSTITUCIÓN—LA LEY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OS SUJETOS A LOS QUE SE DIRIGE EL DIP SON LO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DERECHO INTERNO SE DIRIGE A LOS PARTICU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N CONSECUENCIA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 PRODUCEN CONFLICTOS  ENT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NORMA INT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-PARA QUE UNA NORMA DEL DIP SE APLIQUE EN EL ORDEN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IA EXISTIR UN PROCESO DE TRANS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RMA INTERNACIONAL DE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SER TRANSFORMADA EN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A TRAVES DE SU REPRO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N UN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N UN REGLAMENTO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O CONTRARIO NO PODIA SER APLICADA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TRIBUNALES INTERNOS APLIC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 TANTO SOLO EL DERECHO INTERNO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QUE APLICAN LA NORMA INTERNACIONAL SI HA SIDO TRANSFORMADA PREVIAMENTE EN NORMA INTER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1.-  COMO  SE INCORPORA  EN EL ORDEN INTERNO</a:t>
            </a:r>
            <a:br>
              <a:rPr sz="36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-</a:t>
            </a:r>
            <a:r>
              <a:rPr b="0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      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  TRATADOS  O DERECHO CONVENCIONAL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COSTUMBRE  O DERECHO CONSUETUDINARIO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A REALIDAD NO ES ASI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UNA NORMA INTERNACIONAL SE APLICA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TANDO UN ACTO DE RECEPCIÓN COMO ES EL CASO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DECRETO PROMULGATO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ORDENA  CUMPLIR 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LEY DE LA REPUB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SE INCORPORA EL TRATAD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TRANSFORMA EN NORMA INT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UE SIENDO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HA TRANSFORM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L TRATADO  EN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IGUE  SIENDO UN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 PARA  MODIFICAR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E DEBE CONTAR CON EL ACUER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 LOS DEMA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PARA TERMINAR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DEBE SOM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 LAS DISPOSICIONES D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LO QUE NO OCURRI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.-SI SE TRANSFORMA EN  NORMA  INTERNA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Arial"/>
              </a:rPr>
              <a:t>MONIS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PRIMACÍA DEL DERECHO INTERNACIONAL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KELSEN ELABORA TEORIA MONISTA PRESIDIDA POR EL DERECHO INTERNAC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GÚN TEORIA MONIS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NORMA DE DERECHO INTERNACIONAL ES APLICABLE  EN FORMA AUTOMÁTICA EN EL ORDEN INTERNO DE CADA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 SER PREVIAMENTE TRANSFORMADA EN NORMA INTERN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EL MONISMO  POSTULABA QUE EXISTÍ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SOLO GRAN SISTEMA JURÍDICO UNIVER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TRO DEL CUAL SE DABAN DOS SUBSISTE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SUSBSISTE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UBSISTEMAS 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S RELACIONES ENTRE AMB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REGULABAN POR UNA DETERMINACIÓN DE JERARQU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DENTRO DEL MONISM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TENDENCIA PREDOMIN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DABA PREEMINENCIA AL DIP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EL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RMA SUPERIOR ERA L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DEMAS SE CONFORMABAN A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cc66"/>
                </a:solidFill>
                <a:latin typeface="Arial"/>
              </a:rPr>
              <a:t>MONISMO CON PRIMACÍA DEL DIP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ERECHO INTERNO  DERIVA DEL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IP ES CONCEBIDO COMO UN ORDEN JURÍDICO JERÁRQUICAMENTE SUPERI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XISTEN 2 ORDENAMIENTOS  JURÍDICOS, UNO EL DIP ES SUPERIOR Y EL OTROELDERECHO INTERNO SE SUBORDINA  AL PRIMER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N EL CASO DE CHIL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-ANALIZAREMOS    DOS  PROBLEMAS FUNDAMENT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SE INCORPORAN  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OS TRATADOS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ONSTITUCIÓN NO HAY NINGUNA NORMA QUE DETERM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SE INCORPORAN EN EL ORDEN INTERNO CHIL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TRA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COMO SE INCORPORAN LOS TRATADO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CONSECU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PRUDENCIA Y LA PRACTICA   AFIR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TRATADOS SE INCORPORAN EN EL ORDEN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RANGO DE 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INCORPORAN POR UN ACTO DE RECEPCIÓN FORMAL    P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DECRETO PROMULGATORIO QUE DICTA EL PRESIDENTE DE LA REPU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NO  SE TRANSFORMA   LA NORMA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NORMA INTER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QUE ORDENA PUBLIC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TRATAD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DEC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ARIO   O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SEGÚN LA LEY 18.15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ERMITE HACER UNA PUBLICACIÓN ULTRA FI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SON TRATADOS DE GRAN EXTEN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DEPOSITA UNA COPIA AUTENTICADA D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ANCILLE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OTRA EN LA CONTRALO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840" y="-68616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36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2.-  CON QUE JERARQUÍA SE INCORPORAN   AL ORDEN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LOS TRATA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STUMBRE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TA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PROCEDIMIENTO DE INCORPORACIÓN DE LOS TRATADOS AL DERECHO INTERNO NO SE  REGULA EN UN TEXTO LEGAL SINO QU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ÁCTICA CONSTITUCIONAL Y LEGAL Y LA JURISPRUDENCIA DE LOS TRIBUNALES ASIMIL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 EL TRATADO A LA LEY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Y SE APLICABAN LOS ARTÍCULOS 6° Y 7° DEL CÓDIGO CIVIL( PROMULGACIÓN Y PUBLICACIÓN  LEY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INCORPORA EL TRA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UN ACTO FORMAL  DE  INCORPO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SIGUE  EL CRITERIO DUALISTA DE LA TRANSFORM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Y TAMPOCO  SIGUE AL MON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SPECTO A QUE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PUEDE APLICAR AUTOMÁTICA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VEZ QUE EL TRA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INCORPORA    EN EL ORDEN INTE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PUEDE SER APLICADO  P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LOS ORGANOS DEL ESTADO - TRIBU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Y PUEDE SER INVO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POR LOS PARTICUL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NO SE PUEDE  APLICAR  NI INVO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JEMPLO-CASTILLO  VELASCO.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ACTO DE DERECHOS CIVILES Y POLÍTICOS PROMULGADO EN 1976,  Y PUBLICADO  EN  ABRIL DE 19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J  CASO  EXPULSIÓN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JAIME CASTILLO VELASCO  EN 19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VOCAN EN UN RECURSO DE AMPA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ACTO DE DERECHOS CIVILES Y POLÍTICOS  DE 19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RTE DE APELACIONES DE STGO SEÑA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SI  BIEN ESTE PACTO OBLIGA A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QUE HABIA SIDO RATIFICADO GOB PRESIDENTE ALLE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TRÓ EN VIGENCIA EN  GOBIERNO MILI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CTO OBLIGA  A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ERO NO ESTA INCORPÓRADO  EN EL ORDEN 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QUE NO HABIS SIDO  PROMULGADO --- NI PUBL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 LO TANTO  NO LO AP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BLEMA DE LA INCORPORACIÓN DEL D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7724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ESTADO QUE NO INCORPORA  EL TRA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ORDEN INTERNO CHIL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 NO LO PUEDE CUMPL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 INCURRIENDO EN UN HECHO ILICITO ART 27  C DE 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NO SE PUEDE INVOCAR  UNA SITUACIÓN DE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COMO PRETEX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ARA DEJAR DE CUMPLIR UN TRA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STA  TAMBIEN PRESENTE EL PRINCIPIO DE LA BUENA FE ART 26 C DE  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IMPLICA LA OBLIG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DE ADOPTAR TODAS  LAS NORMAS INTERNAS NECESA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ARA EL PLENO Y CABAL CUMPLIMIENTO DE UN TRATADO.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TRAT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ROMULGADOS Y PUBLICADOS, FORMAN PARTE DEL ORDEN JURÍDICO INTERNO Y PRIMAN SOBRE LAS LEY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CONVENCIÓN DE VIENA  DERECHO DE LOS TRATADOS EN SU ART 27 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ABLE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IMAC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 LOS TRA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SOBRE EL ORDENAMIENTO INTERNO ART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27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“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UNA PARTE NO PODRÁ INVOCAR LAS DISPOSICIONES DE SU DERECHO INTERNO COMO JUSTIFICACIÓN DEL INCUMPLIMIENTO DE UN TRATADO”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TRATADO PREVAL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BRE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O PUEDE SER DEROGADO POR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FORMA CONSTITUCIONAL  2005 ART 54:ART 54   INC 5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     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LAS DISPOSICIONES DE UN TRATADO SÓLO PODRÁN SER DEROGADAS, MODIFICADAS O SUSPENDIDAS EN LA FORMA PREVISTA EN LOS PROPIOS TRATADOS O DE ACUERDO A LAS NORMAS GENERALES DE DERECHO INTERNACIONAL”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 TRATADO SÓLO PUEDE DEROGAR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EGÚN LO FORMA PREVISTO EN EL PROPIO TRATADO;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EGUN LAS NORMAS GENERALES DE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LA JURISPRUDENCIA Y LA PRA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ERMITEN AFIRM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QUE LOS TRATADOS SE INCORPO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CON RANGO DE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N PERJUICIO DE LOS TRATADOS QUE SE REFIEREN A DDHH  EN  ART 5º  DE LA CONSTITUCIÓN INCISO  2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REFORMADO  AÑO  1989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A  EFICACIA  DEL  DIP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ENDE  DE LA FORMA COMO  LOS 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RPOREN  EL 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O APLIQUEN 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66"/>
                </a:solidFill>
                <a:latin typeface="Arial"/>
              </a:rPr>
              <a:t>TRATADOS DERECHOS HUMAN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 5°  CONSTITUCION OTORG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ANGO CONSTITUCIONAL A LOS TRATADOS  DE DERECHOS HUMA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 5º INCISO 2º  CONSTITUCIÓN POLÍTICA  1980: “EL EJERCICIO DE LA SOBERANÍA RECONOCE COMO LIMITACIÓN EL RESPETO A LOS DERECHOS ESENCIALES QUE EMANAN DE LA NATURALEZA HUMANA. ES DEBER DE LOS ÓRGANOS DEL ESTADO RESPETAR Y PROMOVER TALES DERECHOS GARANTIZADOS POR ESTA CONSTITUCIÓN, ASÍ COMO POR LOS TRATADOS INTERNACIONALES RATIFICADOS POR CHILE Y QUE SE ENCUENTREN VIGENT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MPLICA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JERARQUÍA SOBRE LOS DEMÁS TRATADOS INTERNACIONA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ODALIDADES EN EL SISTEMA INTERNO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NTE LAS CUA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JUEZ PUEDE 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CORPORACIÓN DEL DERECHO CONSUETUDIN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HILE NO TIENE UNA NORMA CONSTITU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ESTABLEZ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LA INCORPORACION DE LA COSTUMRE  EN EL DERECHO INTERNO 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 UNA NORMA QUE SE INTENTÓ INCLU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LAS  REFORMAS CONSTITUCIONALES  DE 1989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EL DERECHO CONSUETUDINARIO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SE ENTIENDE  INCORPORADO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AUTOMATICA Y GLOBAL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EL DERECHO INTERNO  CHIL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UNA NORMA DE ESTE T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SE CONTIENE EN LA CON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DE LA EX REPUBLICA  ALEMANA FED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ERECHO INTERNACIONAL GENERAL SE ENTEND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GLOBAL Y AUTOMÁTICAMENTE  INCORPO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DERECHO FEDERAL ALEM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 MISMO  TIENEN LAS CONSTITU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LOS PAISES BAJOS—ITALIA—GRE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CHILE NO TIENE  UNA NORMA DE ESTA NATURALE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TO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COMO SE PUEDE APLI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OBLIGA A CHILE EN EL ORDEN INTERNO.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O HAY UNA NORMA QUE SEÑA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EL DERECHO CONSUETUDINARIO SE ENTIE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GLOBAL Y AUTOMÁTICAMENTE INCORPOR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ET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HAY VARIAS MODALIDADES  EN EL SISTEMA 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VIRTUD DE LAS CUALES UN JUEZ PUE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1.--PRIMERA MOD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L CASO EN QUE UNA LEY INTERNA SE REM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A UNA NORMA DE DERECHO INTERNACIONAL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CUANDO UNA LEY INTERNA  SEÑALA AL JUE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QUE PUEDE APLICAR EL DERECHO INTERNACIONAL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J  ART 1.- CPP  QUE EXPRES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TRIBUNALES DE LA REPUB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JERCEN JURISDICCIÓN SO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CHILENOS Y SOBRE LOS EXTRANJE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 JUZGAR LOS DEL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QUE SE COMETEN EN SU TERRITO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AL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CASOS EXCEPTUADO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POR LEYES ESPEC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TRATADOS  O CONVEN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QUE CHILE ES PA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O POR LAS REGLAS GENERALMENTE RECONOCIDAS DEL DERECHO INTER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SE ES EL DERECHO CONSUETUDINARIO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ESTA CASO EXISTE  UN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QUE REMITE  AL JUEZ  AL DERECHO CONSUETUDINARIO 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CONSECUENCIA LOS TRIBUNALES CHIL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O HAN TENIDO NINGUNA DIFICULT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A APLICAR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UANDO LA LEY LOS HA REMIT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ESTE DERECHO CONSUETUDINARIO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333360"/>
            <a:ext cx="77724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2.-  SEGUNDA HIPÓTESIS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QUE PASA CUANDO  EL JU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UEDE RESOLVER  UNA CONTROV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PLICANDO UNA NORMA DE DERECHO INTERNACIONAL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 NO HAY NINGUNA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QUE LO REMITA COMO CASO AN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ACTICA DOMINANTE INDICA QUE EL JUEZ HA APLICADO-EN LA PRACTICA EL DERECHO INTERNACIONAL GENERAL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LGUNOS   HAN SOSTENIDO EN SENTENCIAS AISL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QUE NO HABIENDO UNA REMISIÓN DE LA LEY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JUEZ NO PODRÍA APLICAR UNA NORMA CONSUETUDINARIA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EDOMINA LA JURISPRUDENCIA EN EL SENTIDO OPUES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 QUE EL JUEZ PUEDE APLICAR UNA NORMA CONSUETUDIN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ÚN A FALTA  DE MANDATO LEGAL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 NO TIENE ORGANOS PROPI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           QUE VELEN POR EL CUMPLIMIENTO  DEL 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ENES DAN CUMPLIMIENTO A LAS NORMAS INTERNA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ON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3.-SE PLANTEA UNA TERCERA HIPÓT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CUANDO EXISTE UNA NORMA CONSUETUDINARIA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PLICABLE  A  UN  CA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ERO EXISTE TAMBIEN AL MISMO 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UNA NORMA LEGAL INTERNA  CONTR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L CONTENIDO DE LA NORMA  CONSUETUDIN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ESTA CASO LOS TRIBUNALES MAYORITARIAMENTE HAN OP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OR  LA  LEY 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JANDO DE APLICAR UNA NORMA CONSUETUDINARIA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LOS JUECES SON CONSIDERADOS ORGANOS DE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DEBEN RESPON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A LA JERARQUÍ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Y ESTRUCTURA DE E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ORDENAMIENTO ESTA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PERO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AL   PROCEDER DE ESA MAN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SOS JUECES ESTAN HACIENDO INCURRIR A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RESPONSABILIDAD  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PORQUE HAN PREFER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 LA LEY POR SOBRE UNA NORMA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ISTE UN PRINCIPIO BAS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SOST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NINGUN ESTADO PUEDE INVOC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NORMA ALGUNA DE SU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COMO PRETEXTO PARA DEJAR DE CUMPL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UNA OBLIGACIÓN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O CUALQUIER NORMA INTERNACIONAL.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QUÍ  SE PRODUCE EL CASO DEL CAPITULO DE LA RESPONSABILIDAD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VIRTUD DEL CUAL UN ACTO PERFECT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JUSTADO A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UEDE SER PERFECTAMENTE ILIC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DE EL PUNTO DE VISTA DEL DERECHO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Y LA RESPONSABILIDAD INTERNACIONAL SE MIDE COTEJA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LOS COMPORTAMIENTOS FRENTE AL D I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Y NO FRENTE AL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INCORPORACION COSTUMB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 EXISTE EN NUESTRA CONSTITUCION UNA NORMA QUE ESTABLEZ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 INCORPORACION DE LA COSTUMBRE EN EL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MO EXISTE EN OTRAS  CONSTITU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INCORPORACIÓN GLOBAL Y AUTOMÁTICA DEL DERECHO INTERNACIONAL COMÚN O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.- UNA LEY INTERNA SE REMITE A 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2.- ANTE SILENCIO LEY JUEZ OPTA POR APLICAR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ODALIDADES EN EL SISTEMA INTERN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NTE LAS CUA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JUEZ PUEDE 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PRIMERA MODALIDAD: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NORMA INTERNA SE REMITE A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LEY INTERNA SEÑA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EL JU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 APLICAR    EL DERECHO INTERNACIONAL 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J ART 1.- DEL CPP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TRIBUNALES     EJERCEN JURISDICCION  SO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CHILENOS Y EXTRANJEROS PARA JUZGAR  LOS DEL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COMETAN EN SU TERRITO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CÓDIGO DE PROCEDIMIENTO PEN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T. 1º : "LOS TRIBUNALES DE LA REPÚBLICA EJERCEN JURISDICCIÓN SOBRE LOS CHILENOS Y SOBRE LOS EXTRANJEROS PARA EL EFECTO DE JUZGAR LOS DELITOS QUE SE COMETEN EN SU TERRITORIO, SALVO LOS CASOS EXCEPTUADOS POR LAS LEYES GENERALMENTE RECONOCIDAS DEL DERECHO INTERNACIONA1.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SALVO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LOS CASOS EXCEPTUADOS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EYES ESPE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O CONVEN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OR LAS REGLAS  GENERAL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NOCIDAS DEL - 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IENES CUMPL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S NORMAS INTERNA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DE CADA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ON LOS ORGANOS DEL ESTA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DER JUDICIAL- PODER LEGISLATIVO- PODER EJECU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CONSECUENCIA PARA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S IMPORTANTE COMO SE CUMPLE Y SE APLICA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DE LOS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COMO SE INCORPORA  EL DERECHO CONSUETUDINARIO</a:t>
            </a:r>
            <a:br>
              <a:rPr sz="36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EN EL ORDEN INTERNO CHILE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E NO TIENE UNA NORMA CONSTITU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ZCA QUE EL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NTIENDE  AUTOMATICA Y GLOBAL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RPORADO EN EL DERECHO INTERNO CHILEN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ZCA QUE EL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ESTADOS LEGISLAN EN EL PLANO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TRAVES DE TRATADOS—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L MISMO TIEMPO LOS ESTADOS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EGIS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 TRAVES DE SU PODER LEGISLA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 SUS MECANISMOS DE CREACIÓN DE DERECH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S  COMO  ESTA LEGISLACIÓN PARALE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DIP  Y EL DERECH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-COMO SE VINCU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-QUE OCURRE CUANDO HAY CONFLICTO EN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UN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UNA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CON QUE JERARQUÍ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E APLICA  EL D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N EL ORDEN INTERNO 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15:19:24Z</dcterms:created>
  <dc:creator>GILDA CICCI SALAZAR</dc:creator>
  <dc:description/>
  <dc:language>en-US</dc:language>
  <cp:lastModifiedBy>Gilda</cp:lastModifiedBy>
  <dcterms:modified xsi:type="dcterms:W3CDTF">2008-07-01T02:11:43Z</dcterms:modified>
  <cp:revision>132</cp:revision>
  <dc:subject/>
  <dc:title> GRAFICO  RELACIONES  ENTRE EL DIP Y EL DERECHO INTERNO </dc:title>
</cp:coreProperties>
</file>